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43488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8776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99680" y="24382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8800" y="243828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43488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99680" y="43488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8800" y="4348800"/>
            <a:ext cx="237996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87760" y="434880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760" y="2438280"/>
            <a:ext cx="360684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4348800"/>
            <a:ext cx="7391520" cy="17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6856560"/>
          </a:xfrm>
          <a:prstGeom prst="rect">
            <a:avLst/>
          </a:prstGeom>
          <a:gradFill rotWithShape="0">
            <a:gsLst>
              <a:gs pos="0">
                <a:srgbClr val="1f6d43"/>
              </a:gs>
              <a:gs pos="100000">
                <a:srgbClr val="065d2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533520"/>
          </a:xfrm>
          <a:prstGeom prst="rect">
            <a:avLst/>
          </a:prstGeom>
          <a:gradFill rotWithShape="0">
            <a:gsLst>
              <a:gs pos="0">
                <a:srgbClr val="4b0f67"/>
              </a:gs>
              <a:gs pos="100000">
                <a:srgbClr val="4a0e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82640" y="2063880"/>
            <a:ext cx="7302600" cy="63360"/>
          </a:xfrm>
          <a:prstGeom prst="rect">
            <a:avLst/>
          </a:prstGeom>
          <a:solidFill>
            <a:srgbClr val="7e007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560" y="6402240"/>
            <a:ext cx="3425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9933"/>
              </a:buClr>
              <a:buFont typeface="Book Antiqu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33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9933"/>
                </a:solidFill>
                <a:latin typeface="Book Antiqua"/>
              </a:rPr>
              <a:t>The McGraw-Hill Companies, Inc., </a:t>
            </a:r>
            <a:r>
              <a:rPr b="1" i="1" lang="en-US" sz="1200" spc="-1" strike="noStrike">
                <a:solidFill>
                  <a:srgbClr val="ff9933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285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71560" y="3905280"/>
            <a:ext cx="6362640" cy="171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bability Distributions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2  Probability Distributions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ssing Two Coi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521080"/>
            <a:ext cx="2044440" cy="3568680"/>
          </a:xfrm>
          <a:prstGeom prst="ellipse">
            <a:avLst/>
          </a:prstGeom>
          <a:solidFill>
            <a:srgbClr val="fddfb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73760" y="2521080"/>
            <a:ext cx="1739880" cy="3568680"/>
          </a:xfrm>
          <a:prstGeom prst="ellipse">
            <a:avLst/>
          </a:prstGeom>
          <a:solidFill>
            <a:srgbClr val="fddfb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96240" y="2898720"/>
            <a:ext cx="69336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H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31840" y="2822400"/>
            <a:ext cx="35964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1800" y="3124080"/>
            <a:ext cx="3044880" cy="0"/>
          </a:xfrm>
          <a:prstGeom prst="line">
            <a:avLst/>
          </a:prstGeom>
          <a:ln w="2556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94080" y="4003560"/>
            <a:ext cx="3044880" cy="376200"/>
          </a:xfrm>
          <a:prstGeom prst="line">
            <a:avLst/>
          </a:prstGeom>
          <a:ln w="2556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16320" y="4535280"/>
            <a:ext cx="2892240" cy="377640"/>
          </a:xfrm>
          <a:prstGeom prst="line">
            <a:avLst/>
          </a:prstGeom>
          <a:ln w="2556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94080" y="5638680"/>
            <a:ext cx="3044880" cy="0"/>
          </a:xfrm>
          <a:prstGeom prst="line">
            <a:avLst/>
          </a:prstGeom>
          <a:ln w="2556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1240" y="2084400"/>
            <a:ext cx="21398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Sample Sp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4920" y="2084400"/>
            <a:ext cx="2680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imes New Roman"/>
              </a:rPr>
              <a:t>Number of Hea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70160" y="2405160"/>
          <a:ext cx="600552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2405160"/>
                    <a:ext cx="600552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2  Probability Distributions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ssing Two Coi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probability distribution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the values a random variable can assume and the corresponding probabilities of the values.  The probabilities are determined theoretically or by observa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2  Probability Distribu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14720" y="2316240"/>
            <a:ext cx="5661000" cy="3568680"/>
          </a:xfrm>
          <a:prstGeom prst="rect">
            <a:avLst/>
          </a:prstGeom>
          <a:solidFill>
            <a:srgbClr val="006b61"/>
          </a:solidFill>
          <a:ln w="50760">
            <a:solidFill>
              <a:srgbClr val="006b61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14720" y="2316240"/>
            <a:ext cx="5653080" cy="3560760"/>
          </a:xfrm>
          <a:custGeom>
            <a:avLst/>
            <a:gdLst/>
            <a:ahLst/>
            <a:rect l="l" t="t" r="r" b="b"/>
            <a:pathLst>
              <a:path w="3561" h="2243">
                <a:moveTo>
                  <a:pt x="3560" y="2242"/>
                </a:moveTo>
                <a:lnTo>
                  <a:pt x="0" y="0"/>
                </a:lnTo>
                <a:lnTo>
                  <a:pt x="0" y="2242"/>
                </a:lnTo>
                <a:lnTo>
                  <a:pt x="3560" y="224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14720" y="2316240"/>
            <a:ext cx="5653080" cy="3560760"/>
          </a:xfrm>
          <a:custGeom>
            <a:avLst/>
            <a:gdLst/>
            <a:ahLst/>
            <a:rect l="l" t="t" r="r" b="b"/>
            <a:pathLst>
              <a:path w="3561" h="2243">
                <a:moveTo>
                  <a:pt x="0" y="0"/>
                </a:moveTo>
                <a:lnTo>
                  <a:pt x="3560" y="0"/>
                </a:lnTo>
                <a:lnTo>
                  <a:pt x="3560" y="224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14720" y="2316240"/>
            <a:ext cx="5653080" cy="3560760"/>
          </a:xfrm>
          <a:custGeom>
            <a:avLst/>
            <a:gdLst/>
            <a:ahLst/>
            <a:rect l="l" t="t" r="r" b="b"/>
            <a:pathLst>
              <a:path w="3561" h="2243">
                <a:moveTo>
                  <a:pt x="0" y="0"/>
                </a:moveTo>
                <a:lnTo>
                  <a:pt x="3560" y="0"/>
                </a:lnTo>
                <a:lnTo>
                  <a:pt x="3560" y="224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2  Probability Distributions --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Graphical Represent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4720" y="2316240"/>
            <a:ext cx="5653080" cy="3560760"/>
          </a:xfrm>
          <a:custGeom>
            <a:avLst/>
            <a:gdLst/>
            <a:ahLst/>
            <a:rect l="l" t="t" r="r" b="b"/>
            <a:pathLst>
              <a:path w="3561" h="2243">
                <a:moveTo>
                  <a:pt x="3560" y="2242"/>
                </a:moveTo>
                <a:lnTo>
                  <a:pt x="0" y="0"/>
                </a:lnTo>
                <a:lnTo>
                  <a:pt x="0" y="2242"/>
                </a:lnTo>
                <a:lnTo>
                  <a:pt x="3560" y="224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5165640"/>
            <a:ext cx="3384720" cy="1800"/>
          </a:xfrm>
          <a:custGeom>
            <a:avLst/>
            <a:gdLst/>
            <a:ahLst/>
            <a:rect l="l" t="t" r="r" b="b"/>
            <a:pathLst>
              <a:path w="2132" h="1">
                <a:moveTo>
                  <a:pt x="0" y="0"/>
                </a:moveTo>
                <a:lnTo>
                  <a:pt x="2131" y="0"/>
                </a:lnTo>
                <a:lnTo>
                  <a:pt x="0" y="0"/>
                </a:lnTo>
              </a:path>
            </a:pathLst>
          </a:custGeom>
          <a:solidFill>
            <a:srgbClr val="ff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025800"/>
            <a:ext cx="3384720" cy="2141640"/>
          </a:xfrm>
          <a:custGeom>
            <a:avLst/>
            <a:gdLst/>
            <a:ahLst/>
            <a:rect l="l" t="t" r="r" b="b"/>
            <a:pathLst>
              <a:path w="2132" h="1349">
                <a:moveTo>
                  <a:pt x="0" y="1348"/>
                </a:moveTo>
                <a:lnTo>
                  <a:pt x="2131" y="0"/>
                </a:lnTo>
                <a:lnTo>
                  <a:pt x="2131" y="1348"/>
                </a:lnTo>
                <a:lnTo>
                  <a:pt x="0" y="1348"/>
                </a:lnTo>
              </a:path>
            </a:pathLst>
          </a:custGeom>
          <a:solidFill>
            <a:srgbClr val="ff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3025800"/>
            <a:ext cx="3384720" cy="2141640"/>
          </a:xfrm>
          <a:custGeom>
            <a:avLst/>
            <a:gdLst/>
            <a:ahLst/>
            <a:rect l="l" t="t" r="r" b="b"/>
            <a:pathLst>
              <a:path w="2132" h="1349">
                <a:moveTo>
                  <a:pt x="0" y="0"/>
                </a:moveTo>
                <a:lnTo>
                  <a:pt x="2131" y="0"/>
                </a:lnTo>
                <a:lnTo>
                  <a:pt x="0" y="1348"/>
                </a:lnTo>
                <a:lnTo>
                  <a:pt x="0" y="0"/>
                </a:lnTo>
              </a:path>
            </a:pathLst>
          </a:custGeom>
          <a:solidFill>
            <a:srgbClr val="ff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5145120"/>
            <a:ext cx="3384720" cy="31680"/>
          </a:xfrm>
          <a:custGeom>
            <a:avLst/>
            <a:gdLst/>
            <a:ahLst/>
            <a:rect l="l" t="t" r="r" b="b"/>
            <a:pathLst>
              <a:path w="2132" h="20">
                <a:moveTo>
                  <a:pt x="2131" y="19"/>
                </a:moveTo>
                <a:lnTo>
                  <a:pt x="0" y="0"/>
                </a:lnTo>
                <a:lnTo>
                  <a:pt x="0" y="19"/>
                </a:lnTo>
                <a:lnTo>
                  <a:pt x="2131" y="19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45120"/>
            <a:ext cx="3384720" cy="31680"/>
          </a:xfrm>
          <a:custGeom>
            <a:avLst/>
            <a:gdLst/>
            <a:ahLst/>
            <a:rect l="l" t="t" r="r" b="b"/>
            <a:pathLst>
              <a:path w="2132" h="20">
                <a:moveTo>
                  <a:pt x="0" y="0"/>
                </a:moveTo>
                <a:lnTo>
                  <a:pt x="2131" y="0"/>
                </a:lnTo>
                <a:lnTo>
                  <a:pt x="2131" y="19"/>
                </a:lnTo>
                <a:lnTo>
                  <a:pt x="0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0920" y="515448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3" y="7"/>
                </a:moveTo>
                <a:lnTo>
                  <a:pt x="0" y="13"/>
                </a:lnTo>
                <a:lnTo>
                  <a:pt x="0" y="0"/>
                </a:lnTo>
                <a:lnTo>
                  <a:pt x="13" y="7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0920" y="51656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6"/>
                </a:moveTo>
                <a:lnTo>
                  <a:pt x="13" y="6"/>
                </a:lnTo>
                <a:lnTo>
                  <a:pt x="13" y="0"/>
                </a:lnTo>
                <a:lnTo>
                  <a:pt x="0" y="6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21560" y="3025800"/>
            <a:ext cx="31680" cy="2141640"/>
          </a:xfrm>
          <a:custGeom>
            <a:avLst/>
            <a:gdLst/>
            <a:ahLst/>
            <a:rect l="l" t="t" r="r" b="b"/>
            <a:pathLst>
              <a:path w="20" h="1349">
                <a:moveTo>
                  <a:pt x="19" y="0"/>
                </a:moveTo>
                <a:lnTo>
                  <a:pt x="0" y="1348"/>
                </a:lnTo>
                <a:lnTo>
                  <a:pt x="19" y="1348"/>
                </a:lnTo>
                <a:lnTo>
                  <a:pt x="19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21560" y="3025800"/>
            <a:ext cx="31680" cy="2141640"/>
          </a:xfrm>
          <a:custGeom>
            <a:avLst/>
            <a:gdLst/>
            <a:ahLst/>
            <a:rect l="l" t="t" r="r" b="b"/>
            <a:pathLst>
              <a:path w="20" h="1349">
                <a:moveTo>
                  <a:pt x="19" y="0"/>
                </a:moveTo>
                <a:lnTo>
                  <a:pt x="0" y="0"/>
                </a:lnTo>
                <a:lnTo>
                  <a:pt x="0" y="1348"/>
                </a:lnTo>
                <a:lnTo>
                  <a:pt x="19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0920" y="301608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13" y="6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0920" y="301608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13" y="0"/>
                </a:lnTo>
                <a:lnTo>
                  <a:pt x="13" y="6"/>
                </a:lnTo>
                <a:lnTo>
                  <a:pt x="0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016080"/>
            <a:ext cx="3384720" cy="32040"/>
          </a:xfrm>
          <a:custGeom>
            <a:avLst/>
            <a:gdLst/>
            <a:ahLst/>
            <a:rect l="l" t="t" r="r" b="b"/>
            <a:pathLst>
              <a:path w="2132" h="20">
                <a:moveTo>
                  <a:pt x="0" y="0"/>
                </a:moveTo>
                <a:lnTo>
                  <a:pt x="2131" y="19"/>
                </a:lnTo>
                <a:lnTo>
                  <a:pt x="2131" y="0"/>
                </a:lnTo>
                <a:lnTo>
                  <a:pt x="0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3016080"/>
            <a:ext cx="3384720" cy="32040"/>
          </a:xfrm>
          <a:custGeom>
            <a:avLst/>
            <a:gdLst/>
            <a:ahLst/>
            <a:rect l="l" t="t" r="r" b="b"/>
            <a:pathLst>
              <a:path w="2132" h="20">
                <a:moveTo>
                  <a:pt x="2131" y="19"/>
                </a:moveTo>
                <a:lnTo>
                  <a:pt x="0" y="19"/>
                </a:lnTo>
                <a:lnTo>
                  <a:pt x="0" y="0"/>
                </a:lnTo>
                <a:lnTo>
                  <a:pt x="2131" y="19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28920" y="3016080"/>
            <a:ext cx="2088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6"/>
                </a:moveTo>
                <a:lnTo>
                  <a:pt x="12" y="0"/>
                </a:lnTo>
                <a:lnTo>
                  <a:pt x="12" y="12"/>
                </a:lnTo>
                <a:lnTo>
                  <a:pt x="0" y="6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28920" y="301608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2" y="0"/>
                </a:moveTo>
                <a:lnTo>
                  <a:pt x="0" y="0"/>
                </a:lnTo>
                <a:lnTo>
                  <a:pt x="0" y="6"/>
                </a:lnTo>
                <a:lnTo>
                  <a:pt x="12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28920" y="3025800"/>
            <a:ext cx="31680" cy="2141640"/>
          </a:xfrm>
          <a:custGeom>
            <a:avLst/>
            <a:gdLst/>
            <a:ahLst/>
            <a:rect l="l" t="t" r="r" b="b"/>
            <a:pathLst>
              <a:path w="20" h="1349">
                <a:moveTo>
                  <a:pt x="0" y="0"/>
                </a:moveTo>
                <a:lnTo>
                  <a:pt x="19" y="0"/>
                </a:lnTo>
                <a:lnTo>
                  <a:pt x="0" y="1348"/>
                </a:lnTo>
                <a:lnTo>
                  <a:pt x="0" y="0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8920" y="3025800"/>
            <a:ext cx="31680" cy="2141640"/>
          </a:xfrm>
          <a:custGeom>
            <a:avLst/>
            <a:gdLst/>
            <a:ahLst/>
            <a:rect l="l" t="t" r="r" b="b"/>
            <a:pathLst>
              <a:path w="20" h="1349">
                <a:moveTo>
                  <a:pt x="0" y="1348"/>
                </a:moveTo>
                <a:lnTo>
                  <a:pt x="19" y="1348"/>
                </a:lnTo>
                <a:lnTo>
                  <a:pt x="19" y="0"/>
                </a:lnTo>
                <a:lnTo>
                  <a:pt x="0" y="1348"/>
                </a:lnTo>
              </a:path>
            </a:pathLst>
          </a:custGeom>
          <a:solidFill>
            <a:srgbClr val="b3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40560" y="5264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19760" y="5264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8960" y="5264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79960" y="5264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0160" y="5181480"/>
            <a:ext cx="1800" cy="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1160" y="5181480"/>
            <a:ext cx="1440" cy="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033880" y="5181480"/>
            <a:ext cx="648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9560" y="5181480"/>
            <a:ext cx="1440" cy="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98760" y="5181480"/>
            <a:ext cx="1800" cy="3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5000" y="3044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84400" y="3824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65400" y="3824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05000" y="3824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840" y="457200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b3"/>
                </a:solidFill>
                <a:latin typeface="Arial"/>
              </a:rPr>
              <a:t>.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18040" y="3124080"/>
            <a:ext cx="142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18040" y="3903840"/>
            <a:ext cx="14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18040" y="4681440"/>
            <a:ext cx="142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79600" y="5559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1360" y="5559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41680" y="55594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3600" y="5559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5640" y="5559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6600" y="5559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68720" y="5559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0200" y="555948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60960" y="5559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73640" y="5559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2600" y="5559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54000" y="5559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76040" y="5559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7640" y="5559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19040" y="5559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4600" y="5126040"/>
            <a:ext cx="3252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630160" y="44427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2624760" y="43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2619360" y="418320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2630160" y="405684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630160" y="3940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2630160" y="3831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669760" y="375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2641680" y="368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2669760" y="3614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636280" y="3542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630160" y="3417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48000" y="3054240"/>
            <a:ext cx="0" cy="208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029200" y="3881160"/>
            <a:ext cx="0" cy="1306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7480" y="2514600"/>
            <a:ext cx="28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Experiment: Toss Two Coin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22800" y="4664160"/>
            <a:ext cx="0" cy="4572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851440" y="4673520"/>
            <a:ext cx="0" cy="4572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Mean, Variance, and Expectation for Discrete Variab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60400" y="2414520"/>
            <a:ext cx="6913800" cy="36021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84440" y="2338560"/>
            <a:ext cx="6913440" cy="3601800"/>
          </a:xfrm>
          <a:prstGeom prst="rect">
            <a:avLst/>
          </a:prstGeom>
          <a:solidFill>
            <a:srgbClr val="fddf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16920" y="2344680"/>
            <a:ext cx="6746040" cy="3570120"/>
            <a:chOff x="1816920" y="2344680"/>
            <a:chExt cx="6746040" cy="3570120"/>
          </a:xfrm>
        </p:grpSpPr>
        <p:sp>
          <p:nvSpPr>
            <p:cNvPr id="241" name=""/>
            <p:cNvSpPr/>
            <p:nvPr/>
          </p:nvSpPr>
          <p:spPr>
            <a:xfrm>
              <a:off x="1817640" y="234468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6320" y="23446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36480" y="23446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92160" y="23446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8680" y="23446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55720" y="23446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89440" y="23446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45120" y="23446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17640" y="286848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24040" y="28684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22520" y="286848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7640" y="339264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88800" y="3392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58000" y="3392640"/>
              <a:ext cx="200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24320" y="3392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06640" y="3392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16920" y="3916440"/>
              <a:ext cx="442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17640" y="444024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852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6052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704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5124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7640" y="496404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3804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2072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4176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8464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9080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17640" y="5487840"/>
              <a:ext cx="17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7200" y="2344680"/>
              <a:ext cx="534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88040" y="2344680"/>
              <a:ext cx="770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ea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20720" y="2344680"/>
              <a:ext cx="277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75680" y="234468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77160" y="2344680"/>
              <a:ext cx="110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ando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73680" y="2344680"/>
              <a:ext cx="277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29720" y="23446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17720" y="2868480"/>
              <a:ext cx="1427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obabil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3200" y="286848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37000" y="2868480"/>
              <a:ext cx="1308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istribut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5840" y="286848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8200" y="2868480"/>
              <a:ext cx="23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796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9176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8236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9020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3632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2692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6672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1284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02000" y="33926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40840" y="3916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4520" y="3916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93320" y="39164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6120" y="4440240"/>
              <a:ext cx="867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915640" y="44402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98040" y="44402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82200" y="44402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33120" y="4440240"/>
              <a:ext cx="56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76000" y="4440240"/>
              <a:ext cx="52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520" y="4440240"/>
              <a:ext cx="1432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6720" y="4440240"/>
              <a:ext cx="624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90080" y="49640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78880" y="49640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3160" y="49640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53760" y="49640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68040" y="49640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57200" y="496404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24560" y="496404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69600" y="496404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67480" y="4964040"/>
              <a:ext cx="1622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orrespon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74440" y="4964040"/>
              <a:ext cx="488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7720" y="5487840"/>
              <a:ext cx="1427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robabili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03000" y="5487840"/>
              <a:ext cx="395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63640" y="367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100360" y="3670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79120" y="4718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53760" y="52419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36000" y="2344680"/>
              <a:ext cx="1186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4640" y="3352680"/>
              <a:ext cx="20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56960" y="3668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71360" y="3668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88920" y="3668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23840" y="3668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04280" y="47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94960" y="47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67880" y="524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50680" y="5240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09600" y="3352680"/>
              <a:ext cx="20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22000" y="335268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54160" y="3352680"/>
              <a:ext cx="20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87080" y="335268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98520" y="335268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30680" y="3352680"/>
              <a:ext cx="20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28840" y="38768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22360" y="3876840"/>
              <a:ext cx="20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50320" y="3898800"/>
              <a:ext cx="24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13520" y="3392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08880" y="3392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58440" y="3392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4320" y="3392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16120" y="3392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06840" y="3392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95760" y="3392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34960" y="3392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0840" y="3392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24840" y="3916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58280" y="3916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288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4616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4768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3660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696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27040" y="4440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10400" y="4964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05760" y="496404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4920" y="4964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01160" y="496404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3020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1912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0984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24040" y="4964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88360" y="4964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04240" y="4964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44720" y="54878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684440" y="2338560"/>
            <a:ext cx="6914880" cy="3603600"/>
          </a:xfrm>
          <a:prstGeom prst="rect">
            <a:avLst/>
          </a:prstGeom>
          <a:noFill/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nd the mean of the number of spots that appear when a die is tossed.  The probability distribution is given below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Mean for Discrete Variable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849320" y="4083120"/>
          <a:ext cx="6432840" cy="216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4083120"/>
                    <a:ext cx="64328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-3  Mean for Discrete Variable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546280" y="2171880"/>
                <a:ext cx="5275440" cy="28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578600" y="4911840"/>
            <a:ext cx="7194960" cy="1063800"/>
          </a:xfrm>
          <a:prstGeom prst="rect">
            <a:avLst/>
          </a:prstGeom>
          <a:solidFill>
            <a:srgbClr val="fddfb0"/>
          </a:solidFill>
          <a:ln w="25560">
            <a:solidFill>
              <a:srgbClr val="006b61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at is, when a die is tossed many tim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 theoretical mean will be 3.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In a family with two children, find the mean number of children who will be girls.  The probability distribution is given below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132000" y="4319640"/>
          <a:ext cx="4005360" cy="208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319640"/>
                    <a:ext cx="400536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-3  Mean for Discrete Variable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92360" y="2657520"/>
            <a:ext cx="6727680" cy="1609560"/>
          </a:xfrm>
          <a:prstGeom prst="rect">
            <a:avLst/>
          </a:prstGeom>
          <a:solidFill>
            <a:srgbClr val="fddfb0"/>
          </a:solidFill>
          <a:ln w="50760">
            <a:solidFill>
              <a:srgbClr val="006b61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33040" y="26575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40840" y="2657520"/>
            <a:ext cx="198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31600" y="3247920"/>
            <a:ext cx="496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31600" y="3838680"/>
            <a:ext cx="496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9960" y="3838680"/>
            <a:ext cx="322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01440" y="383868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7000" y="2611440"/>
            <a:ext cx="227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77000" y="2611440"/>
            <a:ext cx="313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43600" y="2611440"/>
            <a:ext cx="227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5480" y="263700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50000" y="3201840"/>
            <a:ext cx="313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48240" y="3201840"/>
            <a:ext cx="227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50200" y="320184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45480" y="3201840"/>
            <a:ext cx="227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48880" y="3201840"/>
            <a:ext cx="230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02840" y="3201840"/>
            <a:ext cx="227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9000" y="265752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79040" y="265752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01320" y="265752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19520" y="26575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87880" y="26575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49480" y="32479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85720" y="32479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9040" y="32479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48160" y="32479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84400" y="32479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57720" y="32479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04080" y="32479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41760" y="32479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13640" y="324792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8768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6072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6536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012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5940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6404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3256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21400" y="32479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55640" y="383868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38200" y="4594320"/>
            <a:ext cx="5268600" cy="1063800"/>
          </a:xfrm>
          <a:prstGeom prst="rect">
            <a:avLst/>
          </a:prstGeom>
          <a:solidFill>
            <a:srgbClr val="fddfb0"/>
          </a:solidFill>
          <a:ln w="50760">
            <a:solidFill>
              <a:srgbClr val="006b61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That is, the average number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Times New Roman"/>
              </a:rPr>
              <a:t>girls in a two-child family is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-3  Mean for Discrete Variable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Formula for the Variance of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Probability Distribu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variance of a probability distribution is found by multiplying the square of each outcome by its corresponding probability, summing these products, and subtracting the square of the mea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1  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2  Probability Distrib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3  Mean, Variance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Expec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4  The Binomial Distrib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Formula for the Variance of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Probability Distribu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71880" y="2127240"/>
                <a:ext cx="5360760" cy="41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c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ability</m:t>
                        </m:r>
                        <m:r>
                          <m:rPr>
                            <m:lit/>
                            <m:nor/>
                          </m:rPr>
                          <m:t xml:space="preserve">distribution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tand</m:t>
                        </m:r>
                        <m:r>
                          <m:rPr>
                            <m:lit/>
                            <m:nor/>
                          </m:rPr>
                          <m:t xml:space="preserve">ard</m:t>
                        </m:r>
                        <m:r>
                          <m:rPr>
                            <m:lit/>
                            <m:nor/>
                          </m:rPr>
                          <m:t xml:space="preserve">deviation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ability</m:t>
                        </m:r>
                        <m:r>
                          <m:rPr>
                            <m:lit/>
                            <m:nor/>
                          </m:rPr>
                          <m:t xml:space="preserve">distribution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Variance of a Probabilit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Distribution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obability that 0, 1, 2, 3, or 4 people will be placed on hold when they call a radio talk show with four phone lines is shown in the distribution below.  Find the variance and standard deviation for the data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Variance of a Probabilit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Distribution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990800" y="3218040"/>
          <a:ext cx="5860800" cy="17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3218040"/>
                    <a:ext cx="586080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Variance of a Probabilit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Distribution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771560" y="2322360"/>
            <a:ext cx="4502160" cy="2424240"/>
            <a:chOff x="1771560" y="2322360"/>
            <a:chExt cx="4502160" cy="2424240"/>
          </a:xfrm>
        </p:grpSpPr>
        <p:sp>
          <p:nvSpPr>
            <p:cNvPr id="476" name=""/>
            <p:cNvSpPr/>
            <p:nvPr/>
          </p:nvSpPr>
          <p:spPr>
            <a:xfrm>
              <a:off x="1809720" y="2362320"/>
              <a:ext cx="100188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09680" y="237492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09720" y="2695680"/>
              <a:ext cx="1001880" cy="11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49400" y="2362320"/>
              <a:ext cx="10209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0160" y="23749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P</a:t>
              </a: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(</a:t>
              </a: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X</a:t>
              </a: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49400" y="2695680"/>
              <a:ext cx="1020960" cy="11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08520" y="2362320"/>
              <a:ext cx="1017360" cy="355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00320" y="239868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52240" y="2362320"/>
              <a:ext cx="16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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78960" y="239868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P</a:t>
              </a: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(</a:t>
              </a: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X</a:t>
              </a: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08520" y="2717640"/>
              <a:ext cx="1017360" cy="88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64040" y="2362320"/>
              <a:ext cx="1271520" cy="355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35400" y="239868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4840" y="23558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8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79480" y="2362320"/>
              <a:ext cx="16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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05840" y="239868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P</a:t>
              </a: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(</a:t>
              </a:r>
              <a:r>
                <a:rPr b="1" i="1" lang="en-US" sz="2300" spc="-1" strike="noStrike">
                  <a:solidFill>
                    <a:srgbClr val="000080"/>
                  </a:solidFill>
                  <a:latin typeface="Times New Roman"/>
                </a:rPr>
                <a:t>X</a:t>
              </a: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4040" y="2717640"/>
              <a:ext cx="1271520" cy="88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71560" y="23223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87400" y="23223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71560" y="2338560"/>
              <a:ext cx="18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1560" y="23223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87400" y="23223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71560" y="2338560"/>
              <a:ext cx="18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2322360"/>
              <a:ext cx="100188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25560" y="2322360"/>
              <a:ext cx="973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11600" y="2322360"/>
              <a:ext cx="3780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27440" y="2322360"/>
              <a:ext cx="9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11600" y="2338560"/>
              <a:ext cx="144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49400" y="2322360"/>
              <a:ext cx="10209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65600" y="2322360"/>
              <a:ext cx="992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70360" y="23223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6200" y="2322360"/>
              <a:ext cx="9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70360" y="2338560"/>
              <a:ext cx="144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08520" y="2322360"/>
              <a:ext cx="10173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24360" y="2322360"/>
              <a:ext cx="9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25880" y="23223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41720" y="23223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25880" y="2338560"/>
              <a:ext cx="18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64040" y="2322360"/>
              <a:ext cx="127152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79880" y="2322360"/>
              <a:ext cx="1243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35560" y="23223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51400" y="23223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35560" y="2338560"/>
              <a:ext cx="18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35560" y="23223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51400" y="23223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35560" y="2338560"/>
              <a:ext cx="18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71560" y="2362320"/>
              <a:ext cx="38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71560" y="2378160"/>
              <a:ext cx="18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11600" y="2362320"/>
              <a:ext cx="3780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1600" y="2378160"/>
              <a:ext cx="144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70360" y="2362320"/>
              <a:ext cx="38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70360" y="2378160"/>
              <a:ext cx="144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25880" y="2362320"/>
              <a:ext cx="38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25880" y="2378160"/>
              <a:ext cx="18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35560" y="2362320"/>
              <a:ext cx="38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35560" y="2378160"/>
              <a:ext cx="18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2846520"/>
              <a:ext cx="100188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41360" y="28605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9720" y="3179880"/>
              <a:ext cx="100188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49400" y="2846520"/>
              <a:ext cx="10209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12200" y="28605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18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49400" y="3179880"/>
              <a:ext cx="102096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08520" y="2846520"/>
              <a:ext cx="10173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46280" y="28605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08520" y="3179880"/>
              <a:ext cx="101736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64040" y="2846520"/>
              <a:ext cx="127152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28880" y="28605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64040" y="3179880"/>
              <a:ext cx="127152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71560" y="28065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87400" y="28065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71560" y="28224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09720" y="2806560"/>
              <a:ext cx="100188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5560" y="2806560"/>
              <a:ext cx="973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11600" y="2806560"/>
              <a:ext cx="3780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27440" y="2806560"/>
              <a:ext cx="9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1600" y="28224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49400" y="2806560"/>
              <a:ext cx="10209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65600" y="2806560"/>
              <a:ext cx="992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70360" y="28065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86200" y="2806560"/>
              <a:ext cx="9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70360" y="28224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08520" y="2806560"/>
              <a:ext cx="10173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24360" y="2806560"/>
              <a:ext cx="988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25880" y="28065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41720" y="28065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880" y="28224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64040" y="2806560"/>
              <a:ext cx="127152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79880" y="2806560"/>
              <a:ext cx="1243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35560" y="2806560"/>
              <a:ext cx="38160" cy="39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51400" y="2806560"/>
              <a:ext cx="9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35560" y="28224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1560" y="284652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71560" y="2862360"/>
              <a:ext cx="180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11600" y="2846520"/>
              <a:ext cx="3780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11600" y="2862360"/>
              <a:ext cx="144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70360" y="284652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70360" y="2862360"/>
              <a:ext cx="144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925880" y="284652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25880" y="2862360"/>
              <a:ext cx="180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35560" y="284652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35560" y="2862360"/>
              <a:ext cx="180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09720" y="3332160"/>
              <a:ext cx="100188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41360" y="3344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1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809720" y="3665520"/>
              <a:ext cx="100188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49400" y="3332160"/>
              <a:ext cx="10209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112200" y="33447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34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49400" y="3665520"/>
              <a:ext cx="102096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08520" y="3332160"/>
              <a:ext cx="10173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71320" y="33447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34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08520" y="3665520"/>
              <a:ext cx="101736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64040" y="3332160"/>
              <a:ext cx="127152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53920" y="33447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34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64040" y="3665520"/>
              <a:ext cx="127152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71560" y="32925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7400" y="3292560"/>
              <a:ext cx="9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71560" y="33084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3292560"/>
              <a:ext cx="100188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25560" y="3292560"/>
              <a:ext cx="973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11600" y="3292560"/>
              <a:ext cx="378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27440" y="3292560"/>
              <a:ext cx="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11600" y="33084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49400" y="3292560"/>
              <a:ext cx="10209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65600" y="3292560"/>
              <a:ext cx="9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70360" y="32925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86200" y="3292560"/>
              <a:ext cx="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70360" y="33084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08520" y="3292560"/>
              <a:ext cx="10173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24360" y="3292560"/>
              <a:ext cx="9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25880" y="32925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1720" y="3292560"/>
              <a:ext cx="9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25880" y="33084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64040" y="3292560"/>
              <a:ext cx="12715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79880" y="3292560"/>
              <a:ext cx="1243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35560" y="32925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251400" y="3292560"/>
              <a:ext cx="9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35560" y="33084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71560" y="3332160"/>
              <a:ext cx="3816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71560" y="3348000"/>
              <a:ext cx="18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11600" y="3332160"/>
              <a:ext cx="3780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11600" y="3348000"/>
              <a:ext cx="144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70360" y="3332160"/>
              <a:ext cx="3816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70360" y="3348000"/>
              <a:ext cx="144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25880" y="3332160"/>
              <a:ext cx="3816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25880" y="3348000"/>
              <a:ext cx="18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35560" y="3332160"/>
              <a:ext cx="3816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35560" y="3348000"/>
              <a:ext cx="18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09720" y="3816360"/>
              <a:ext cx="100188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41360" y="38307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9720" y="4149720"/>
              <a:ext cx="100188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49400" y="3816360"/>
              <a:ext cx="10209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12200" y="38307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23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49400" y="4149720"/>
              <a:ext cx="102096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08520" y="3816360"/>
              <a:ext cx="10173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71320" y="38307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46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08520" y="4149720"/>
              <a:ext cx="101736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64040" y="3816360"/>
              <a:ext cx="127152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53920" y="38307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92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64040" y="4149720"/>
              <a:ext cx="127152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71560" y="37767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87400" y="3776760"/>
              <a:ext cx="9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71560" y="37926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776760"/>
              <a:ext cx="100188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5560" y="3776760"/>
              <a:ext cx="973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811600" y="3776760"/>
              <a:ext cx="378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27440" y="3776760"/>
              <a:ext cx="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811600" y="37926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49400" y="3776760"/>
              <a:ext cx="10209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65600" y="3776760"/>
              <a:ext cx="99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70360" y="37767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86200" y="3776760"/>
              <a:ext cx="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0360" y="37926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8520" y="3776760"/>
              <a:ext cx="10173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24360" y="3776760"/>
              <a:ext cx="98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25880" y="37767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41720" y="3776760"/>
              <a:ext cx="9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25880" y="37926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64040" y="3776760"/>
              <a:ext cx="12715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79880" y="3776760"/>
              <a:ext cx="1243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35560" y="3776760"/>
              <a:ext cx="3816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51400" y="3776760"/>
              <a:ext cx="9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35560" y="3792600"/>
              <a:ext cx="1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71560" y="381636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71560" y="3832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11600" y="3816360"/>
              <a:ext cx="3780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11600" y="3832200"/>
              <a:ext cx="144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70360" y="381636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70360" y="3832200"/>
              <a:ext cx="144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25880" y="381636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25880" y="3832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35560" y="3816360"/>
              <a:ext cx="38160" cy="4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35560" y="3832200"/>
              <a:ext cx="180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302000"/>
              <a:ext cx="100188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41360" y="4314960"/>
              <a:ext cx="14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3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09720" y="4635360"/>
              <a:ext cx="100188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49400" y="4302000"/>
              <a:ext cx="10209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2200" y="43149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21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49400" y="4635360"/>
              <a:ext cx="102096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08520" y="4302000"/>
              <a:ext cx="101736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71320" y="4314960"/>
              <a:ext cx="512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80"/>
                  </a:solidFill>
                  <a:latin typeface="Times New Roman"/>
                </a:rPr>
                <a:t>0.63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08520" y="4635360"/>
              <a:ext cx="101736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964040" y="4302000"/>
            <a:ext cx="127152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53920" y="4314960"/>
            <a:ext cx="51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1.89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64040" y="4635360"/>
            <a:ext cx="1271520" cy="11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71560" y="42624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87400" y="426240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71560" y="427824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09720" y="4262400"/>
            <a:ext cx="100188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5560" y="4262400"/>
            <a:ext cx="973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1600" y="4262400"/>
            <a:ext cx="378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27440" y="4262400"/>
            <a:ext cx="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11600" y="4278240"/>
            <a:ext cx="1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49400" y="4262400"/>
            <a:ext cx="10209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65600" y="4262400"/>
            <a:ext cx="99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70360" y="42624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86200" y="4262400"/>
            <a:ext cx="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70360" y="4278240"/>
            <a:ext cx="1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08520" y="4262400"/>
            <a:ext cx="10173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24360" y="4262400"/>
            <a:ext cx="98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25880" y="42624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941720" y="426240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25880" y="427824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64040" y="4262400"/>
            <a:ext cx="127152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79880" y="4262400"/>
            <a:ext cx="1243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235560" y="42624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51400" y="426240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35560" y="427824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71560" y="4302000"/>
            <a:ext cx="3816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771560" y="4317840"/>
            <a:ext cx="1800" cy="4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1600" y="4302000"/>
            <a:ext cx="3780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11600" y="4317840"/>
            <a:ext cx="1440" cy="4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70360" y="4302000"/>
            <a:ext cx="3816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0360" y="4317840"/>
            <a:ext cx="1440" cy="4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25880" y="4302000"/>
            <a:ext cx="3816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25880" y="4317840"/>
            <a:ext cx="1800" cy="4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235560" y="4302000"/>
            <a:ext cx="3816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235560" y="4317840"/>
            <a:ext cx="1800" cy="41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09720" y="4786200"/>
            <a:ext cx="100188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41360" y="48006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09720" y="5119560"/>
            <a:ext cx="1001880" cy="112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849400" y="4786200"/>
            <a:ext cx="102096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12200" y="4800600"/>
            <a:ext cx="51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0.0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849400" y="5119560"/>
            <a:ext cx="1020960" cy="112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08520" y="4786200"/>
            <a:ext cx="101736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71320" y="4800600"/>
            <a:ext cx="51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0.1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08520" y="5119560"/>
            <a:ext cx="1017360" cy="112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64040" y="4786200"/>
            <a:ext cx="127152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53920" y="4800600"/>
            <a:ext cx="51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0.64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64040" y="5119560"/>
            <a:ext cx="1271520" cy="112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1560" y="47466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87400" y="4746600"/>
            <a:ext cx="9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1560" y="476244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09720" y="4746600"/>
            <a:ext cx="100188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25560" y="4746600"/>
            <a:ext cx="973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11600" y="4746600"/>
            <a:ext cx="3780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827440" y="4746600"/>
            <a:ext cx="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11600" y="4762440"/>
            <a:ext cx="1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49400" y="4746600"/>
            <a:ext cx="10209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65600" y="4746600"/>
            <a:ext cx="992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70360" y="47466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4746600"/>
            <a:ext cx="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70360" y="4762440"/>
            <a:ext cx="1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908520" y="4746600"/>
            <a:ext cx="10173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24360" y="4746600"/>
            <a:ext cx="98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25880" y="47466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941720" y="4746600"/>
            <a:ext cx="9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25880" y="476244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64040" y="4746600"/>
            <a:ext cx="127152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79880" y="4746600"/>
            <a:ext cx="1243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235560" y="4746600"/>
            <a:ext cx="38160" cy="3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51400" y="4746600"/>
            <a:ext cx="9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35560" y="476244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71560" y="4786200"/>
            <a:ext cx="38160" cy="4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771560" y="4802040"/>
            <a:ext cx="180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11600" y="4786200"/>
            <a:ext cx="37800" cy="4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11600" y="480204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70360" y="4786200"/>
            <a:ext cx="38160" cy="4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70360" y="480204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25880" y="4786200"/>
            <a:ext cx="38160" cy="4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25880" y="4802040"/>
            <a:ext cx="180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35560" y="4786200"/>
            <a:ext cx="38160" cy="4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35560" y="4802040"/>
            <a:ext cx="1800" cy="4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809720" y="5272200"/>
            <a:ext cx="100188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9720" y="5605560"/>
            <a:ext cx="1001880" cy="40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49400" y="5272200"/>
            <a:ext cx="102096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49400" y="5605560"/>
            <a:ext cx="1020960" cy="40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908520" y="5272200"/>
            <a:ext cx="1017360" cy="355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939480" y="5272200"/>
            <a:ext cx="169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80"/>
                </a:solidFill>
                <a:latin typeface="Symbol"/>
                <a:ea typeface="Symbol"/>
              </a:rPr>
              <a:t>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07960" y="5308560"/>
            <a:ext cx="825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= 1.59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908520" y="5627520"/>
            <a:ext cx="1017360" cy="379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64040" y="5272200"/>
            <a:ext cx="1271520" cy="40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992480" y="5272200"/>
            <a:ext cx="195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189400" y="534348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8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88840" y="530064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33480" y="5308560"/>
            <a:ext cx="169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Symbol"/>
                <a:ea typeface="Symbol"/>
              </a:rPr>
              <a:t>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59840" y="5343480"/>
            <a:ext cx="569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(</a:t>
            </a:r>
            <a:r>
              <a:rPr b="1" i="1" lang="en-US" sz="2300" spc="-1" strike="noStrike">
                <a:solidFill>
                  <a:srgbClr val="000080"/>
                </a:solidFill>
                <a:latin typeface="Times New Roman"/>
              </a:rPr>
              <a:t>X</a:t>
            </a: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964040" y="5673600"/>
            <a:ext cx="127152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274720" y="5688000"/>
            <a:ext cx="678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80"/>
                </a:solidFill>
                <a:latin typeface="Times New Roman"/>
              </a:rPr>
              <a:t>=3.79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71560" y="523224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87400" y="523224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71560" y="5248440"/>
            <a:ext cx="1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09720" y="5232240"/>
            <a:ext cx="100188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825560" y="5232240"/>
            <a:ext cx="973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11600" y="5232240"/>
            <a:ext cx="3780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27440" y="5232240"/>
            <a:ext cx="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11600" y="5248440"/>
            <a:ext cx="144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849400" y="5232240"/>
            <a:ext cx="10209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65600" y="5232240"/>
            <a:ext cx="99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70360" y="523224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5232240"/>
            <a:ext cx="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70360" y="5248440"/>
            <a:ext cx="144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08520" y="5232240"/>
            <a:ext cx="10173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924360" y="5232240"/>
            <a:ext cx="98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25880" y="523224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941720" y="523224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25880" y="5248440"/>
            <a:ext cx="1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964040" y="5232240"/>
            <a:ext cx="127152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79880" y="5232240"/>
            <a:ext cx="1243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235560" y="523224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251400" y="523224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235560" y="5248440"/>
            <a:ext cx="1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771560" y="5272200"/>
            <a:ext cx="38160" cy="73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71560" y="5288040"/>
            <a:ext cx="180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771560" y="600696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87400" y="600696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71560" y="602280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771560" y="600696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787400" y="600696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771560" y="602280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09720" y="6006960"/>
            <a:ext cx="100188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25560" y="6006960"/>
            <a:ext cx="973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811600" y="5272200"/>
            <a:ext cx="37800" cy="73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11600" y="5288040"/>
            <a:ext cx="144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11600" y="6006960"/>
            <a:ext cx="3780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27440" y="6006960"/>
            <a:ext cx="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811600" y="6022800"/>
            <a:ext cx="1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49400" y="6006960"/>
            <a:ext cx="10209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865600" y="6006960"/>
            <a:ext cx="992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70360" y="5272200"/>
            <a:ext cx="38160" cy="73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0360" y="5288040"/>
            <a:ext cx="144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70360" y="600696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86200" y="6006960"/>
            <a:ext cx="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870360" y="6022800"/>
            <a:ext cx="1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08520" y="6006960"/>
            <a:ext cx="10173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24360" y="6006960"/>
            <a:ext cx="98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925880" y="5272200"/>
            <a:ext cx="38160" cy="73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25880" y="5288040"/>
            <a:ext cx="180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25880" y="600696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41720" y="600696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25880" y="602280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964040" y="6006960"/>
            <a:ext cx="127152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979880" y="6006960"/>
            <a:ext cx="1243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35560" y="5272200"/>
            <a:ext cx="38160" cy="73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35560" y="5288040"/>
            <a:ext cx="180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35560" y="600696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251400" y="600696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35560" y="602280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35560" y="6006960"/>
            <a:ext cx="38160" cy="3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51400" y="6006960"/>
            <a:ext cx="9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235560" y="6022800"/>
            <a:ext cx="1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589800" y="2768760"/>
            <a:ext cx="1806120" cy="1186200"/>
          </a:xfrm>
          <a:prstGeom prst="rect">
            <a:avLst/>
          </a:prstGeom>
          <a:solidFill>
            <a:srgbClr val="fddfb0"/>
          </a:solidFill>
          <a:ln w="76320">
            <a:solidFill>
              <a:srgbClr val="006b61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3.79 – 1.59</a:t>
            </a:r>
            <a:r>
              <a:rPr b="1" lang="en-US" sz="24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1.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29528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,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)(0.18) + (1)(0.34) + (2)(0.23) + (3)(0.21) + (4)(0.04) = 1.59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800" spc="-1" strike="noStrike" baseline="5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(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(0.18) + (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(0.34) + (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(0.23) + (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(0.21)  + (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(0.04) = 3.7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2.53 (rounded to two decimal places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3.79 – 2.53 = 1.2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= 1.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3  Variance of a Probabilit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Distribution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2286000" y="5791320"/>
                <a:ext cx="990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-3  Expect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104920" y="2057400"/>
                <a:ext cx="6342120" cy="42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cted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discre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andom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ble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probabi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ribution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oretical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rPr>
                            <m:lit/>
                            <m:nor/>
                          </m:rPr>
                          <m:t xml:space="preserve">symbol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rPr>
                            <m:lit/>
                            <m:nor/>
                          </m:rPr>
                          <m:t xml:space="preserve">used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rPr>
                            <m:lit/>
                            <m:nor/>
                          </m:rPr>
                          <m:t xml:space="preserve">ected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-3  Expectation 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ki resort loses $70,000 per season when it does not snow very much and makes $250,000 when it snows a lot.  The probability of it snowing at least 75 inches (i.e., a good season) is 40%.  Find the expected profi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ected profit = ($250,000)(0.40) + (–$70,000)(0.60) = $58,000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-3  Expectation 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989000" y="2376360"/>
          <a:ext cx="5791320" cy="20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9000" y="2376360"/>
                    <a:ext cx="579132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-4  The Binomial Distrib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95280" y="2666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66ff"/>
                </a:solidFill>
                <a:latin typeface="Arial"/>
              </a:rPr>
              <a:t>binomial experiment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 a probability experiment that satisfies the following four requirements: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ch trial can have only two outcomes or outcomes that can be reduced to two outcomes.  Each outcome can be considered as either a success or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failure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2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-4  The Binomial Distrib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re must be a fixed number of trial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outcomes of each trial must be independent of each other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probability of success must remain the same for each trial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437920"/>
            <a:ext cx="739152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nstruct a probability distribution for a random variable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ind the mean, variance, and expected value for a discrete random variable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ind the exact probability for</a:t>
            </a: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cc66ff"/>
                </a:solidFill>
                <a:latin typeface="Arial"/>
              </a:rPr>
              <a:t>X</a:t>
            </a: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ccesses in</a:t>
            </a:r>
            <a:r>
              <a:rPr b="1" lang="en-US" sz="29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cc66ff"/>
                </a:solidFill>
                <a:latin typeface="Arial"/>
              </a:rPr>
              <a:t>n</a:t>
            </a: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ials of a binomial experiment.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-4  The Binomial Distrib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utcomes of a binomial experiment and the corresponding  probabilities of these outcomes are called a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binomial distribu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-4  The Binomial Distrib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1932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Notation for the Binomial Distributio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probability of a success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) = 1 – 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probability of a fail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umber of tria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66ff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of success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4  Binomial Probability Formul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600200" y="2514600"/>
            <a:ext cx="7199280" cy="3567240"/>
          </a:xfrm>
          <a:prstGeom prst="rect">
            <a:avLst/>
          </a:prstGeom>
          <a:solidFill>
            <a:srgbClr val="fddfb0"/>
          </a:solidFill>
          <a:ln w="50760">
            <a:solidFill>
              <a:srgbClr val="006b61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483080" y="5370480"/>
            <a:ext cx="1755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394720" y="2459160"/>
            <a:ext cx="694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57240" y="245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438240" y="245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76040" y="308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69440" y="308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756960" y="308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60360" y="308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35280" y="308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173440" y="308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50840" y="3683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87080" y="3683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81160" y="3683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82560" y="3683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376320" y="3683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300440" y="3683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50960" y="3089160"/>
            <a:ext cx="32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074680" y="308916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367000" y="3089160"/>
            <a:ext cx="1399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binomia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58640" y="3089160"/>
            <a:ext cx="48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34640" y="3089160"/>
            <a:ext cx="15750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robabili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000280" y="3089160"/>
            <a:ext cx="176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270640" y="308916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43120" y="3683160"/>
            <a:ext cx="1117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48760" y="368316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86080" y="3683160"/>
            <a:ext cx="1508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778000" y="368316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181560" y="368316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474960" y="3683160"/>
            <a:ext cx="831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399800" y="368316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85280" y="511956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626640" y="511956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210280" y="487188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618080" y="542124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220360" y="54212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846040" y="54212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53280" y="511956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61080" y="511956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573960" y="5156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882840" y="5156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38880" y="5181480"/>
            <a:ext cx="124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55600" y="3089160"/>
            <a:ext cx="1750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622480" y="30891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436920" y="511956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27600" y="511956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10080" y="487188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76600" y="542124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521320" y="542124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659560" y="542124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145200" y="542124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102560" y="5073480"/>
            <a:ext cx="313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928400" y="5375160"/>
            <a:ext cx="13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96600" y="516564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4 Binomial Probability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a student randomly guesses at five multiple-choice questions, find the probability that the student gets exactly three correct.  Each question has five possible choice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ff"/>
                </a:solidFill>
                <a:latin typeface="Arial"/>
              </a:rPr>
              <a:t>Solution: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= 5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= 3, an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= 1/5.  Then, 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3) = [5!/((5 – 3)!3! )](1/5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4/5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0.05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7405560" y="5867280"/>
                <a:ext cx="2397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4 Binomial Probability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urvey from Teenage Research Unlimited (Northbrook, Illinois.) found that 30% of teenage consumers received their spending money from part-time jobs.  If five teenagers are selected at random, find the probability that at least three of them will have part-time jobs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4 Binomial Probability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olution: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5,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3, 4, and 5, and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0.3. 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) =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3) +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4) +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5) = 0.1323 + 0.0284 + 0.0024 = 0.1631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NOTE: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9999"/>
                </a:solidFill>
                <a:latin typeface="Arial"/>
              </a:rPr>
              <a:t>You can use Table B in the textbook to find the Binomial probabilities as well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4 Binomial Probability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port from the Secretary of Health and Human Services stated that 70% of single-vehicle traffic fatalities that occur on weekend nights involve an intoxicated driver.  If a sample of 15 single-vehicle traffic fatalities that occurred on a weekend night is selected, find the probability that exactly 12 involve a driver who is intoxicat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4 Binomial Probability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Solution: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15,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12, and 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0.7.  From Table B,  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12) = 0.170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3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4 Mean, Variance, Standard Deviation for the Binomial Distribution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528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in is tossed four times.  Find the mean, variance, and standard deviation of the number of heads that will be obtain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Solution: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/2,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/2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4)(1/2) = 2.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4)(1/2)(1/2) = 1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  = 1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2274840" y="5423040"/>
                <a:ext cx="444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ind the mean, variance, and standard deviation for the variable of a binomial distribution. </a:t>
            </a: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-2  Probability Distrib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variabl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is defined as a characteristic or attribute that can assume different values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 variable whose values are determined by chance is called a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random variabl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-2  Probability Distrib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66ff"/>
                </a:solidFill>
                <a:latin typeface="Arial"/>
              </a:rPr>
              <a:t>variable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assume only a specific number of values, such as the outcomes for the roll of a die or the outcomes for the toss of a coin, then the variable is called a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66ff"/>
                </a:solidFill>
                <a:latin typeface="Arial"/>
              </a:rPr>
              <a:t>discrete variable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Discrete variables have values that can be counted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-2  Probability Distrib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66ff"/>
                </a:solidFill>
                <a:latin typeface="Arial"/>
              </a:rPr>
              <a:t>variable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assume all values in the interval between two given values then the variable is called a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66ff"/>
                </a:solidFill>
                <a:latin typeface="Arial"/>
              </a:rPr>
              <a:t>continuous variable.</a:t>
            </a: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Example 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mperature between 68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o 78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Continuous random variables are obtained from data that can be measured rather than counted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2  Probability Distributions -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ssing Two Coi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4520" y="1625760"/>
            <a:ext cx="7721640" cy="4749480"/>
          </a:xfrm>
          <a:prstGeom prst="rect">
            <a:avLst/>
          </a:prstGeom>
          <a:solidFill>
            <a:srgbClr val="fddfb0"/>
          </a:solidFill>
          <a:ln w="507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1120" y="5794200"/>
            <a:ext cx="1595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First T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50480" y="5715000"/>
            <a:ext cx="397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16040" y="1604880"/>
            <a:ext cx="4785480" cy="4262400"/>
            <a:chOff x="2516040" y="1604880"/>
            <a:chExt cx="4785480" cy="4262400"/>
          </a:xfrm>
        </p:grpSpPr>
        <p:sp>
          <p:nvSpPr>
            <p:cNvPr id="104" name=""/>
            <p:cNvSpPr/>
            <p:nvPr/>
          </p:nvSpPr>
          <p:spPr>
            <a:xfrm flipV="1">
              <a:off x="4421160" y="1677960"/>
              <a:ext cx="1901880" cy="835200"/>
            </a:xfrm>
            <a:prstGeom prst="line">
              <a:avLst/>
            </a:prstGeom>
            <a:ln w="507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80280" y="160488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516040" y="2363760"/>
              <a:ext cx="4785480" cy="3503520"/>
              <a:chOff x="2516040" y="2363760"/>
              <a:chExt cx="4785480" cy="350352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2516040" y="2363760"/>
                <a:ext cx="1749600" cy="1596960"/>
              </a:xfrm>
              <a:prstGeom prst="line">
                <a:avLst/>
              </a:prstGeom>
              <a:ln w="507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17840" y="3965400"/>
                <a:ext cx="1749240" cy="1292400"/>
              </a:xfrm>
              <a:prstGeom prst="line">
                <a:avLst/>
              </a:prstGeom>
              <a:ln w="507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22600" y="2517840"/>
                <a:ext cx="1901880" cy="606240"/>
              </a:xfrm>
              <a:prstGeom prst="line">
                <a:avLst/>
              </a:prstGeom>
              <a:ln w="507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421160" y="4649760"/>
                <a:ext cx="1901880" cy="758880"/>
              </a:xfrm>
              <a:prstGeom prst="line">
                <a:avLst/>
              </a:prstGeom>
              <a:ln w="507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22600" y="5413320"/>
                <a:ext cx="1901880" cy="453960"/>
              </a:xfrm>
              <a:prstGeom prst="line">
                <a:avLst/>
              </a:prstGeom>
              <a:ln w="507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9040" y="2521080"/>
                <a:ext cx="4374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9040" y="465120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80280" y="4575240"/>
                <a:ext cx="4374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80280" y="289872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12520" y="3660840"/>
                <a:ext cx="19890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6600"/>
                    </a:solidFill>
                    <a:latin typeface="Times New Roman"/>
                  </a:rPr>
                  <a:t>Second Tos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e1b7"/>
            </a:gs>
            <a:gs pos="100000">
              <a:srgbClr val="fddfb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4008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716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dfb0"/>
                </a:solidFill>
                <a:latin typeface="Times New Roman"/>
              </a:rPr>
              <a:t>6-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64008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rom the tree diagram, the sample space will be represented by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HH, HT, TH, TT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a15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cc66ff"/>
                </a:solidFill>
                <a:latin typeface="Arial"/>
              </a:rPr>
              <a:t>X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 the random variable for the number of heads, then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400" spc="-1" strike="noStrike">
                <a:solidFill>
                  <a:srgbClr val="cc66ff"/>
                </a:solidFill>
                <a:latin typeface="Arial"/>
              </a:rPr>
              <a:t>X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ssumes the value</a:t>
            </a: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66ff"/>
                </a:solidFill>
                <a:latin typeface="Arial"/>
              </a:rPr>
              <a:t>0, 1, or 2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-2  Probability Distributions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ssing Two Coi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4:30Z</dcterms:created>
  <dc:creator>Lloyd Jaising</dc:creator>
  <dc:description/>
  <dc:language>en-US</dc:language>
  <cp:lastModifiedBy>Martin Bittner</cp:lastModifiedBy>
  <cp:lastPrinted>1997-06-16T23:36:20Z</cp:lastPrinted>
  <dcterms:modified xsi:type="dcterms:W3CDTF">1999-08-31T19:14:05Z</dcterms:modified>
  <cp:revision>3</cp:revision>
  <dc:subject/>
  <dc:title>Chapter 1</dc:title>
</cp:coreProperties>
</file>