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43488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43488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87760" y="43488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99680" y="24382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8800" y="24382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43488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99680" y="43488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8800" y="43488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43488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87760" y="43488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43488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856560"/>
          </a:xfrm>
          <a:prstGeom prst="rect">
            <a:avLst/>
          </a:prstGeom>
          <a:gradFill rotWithShape="0">
            <a:gsLst>
              <a:gs pos="0">
                <a:srgbClr val="1f6d43"/>
              </a:gs>
              <a:gs pos="100000">
                <a:srgbClr val="065d2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533520"/>
          </a:xfrm>
          <a:prstGeom prst="rect">
            <a:avLst/>
          </a:prstGeom>
          <a:gradFill rotWithShape="0">
            <a:gsLst>
              <a:gs pos="0">
                <a:srgbClr val="4b0f67"/>
              </a:gs>
              <a:gs pos="100000">
                <a:srgbClr val="4a0e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82640" y="2063880"/>
            <a:ext cx="7302600" cy="63360"/>
          </a:xfrm>
          <a:prstGeom prst="rect">
            <a:avLst/>
          </a:prstGeom>
          <a:solidFill>
            <a:srgbClr val="7e00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00480" y="6396120"/>
            <a:ext cx="366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9933"/>
              </a:buClr>
              <a:buFont typeface="Book Antiqu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ff9933"/>
                </a:solidFill>
                <a:latin typeface="Book Antiqua"/>
              </a:rPr>
              <a:t>The McGraw-Hill Companies, Inc.,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856880" y="2390400"/>
            <a:ext cx="6953400" cy="3753000"/>
          </a:xfrm>
          <a:prstGeom prst="rect">
            <a:avLst/>
          </a:prstGeom>
          <a:solidFill>
            <a:srgbClr val="fddfb0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an G. Blum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 PREPAR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LOYD R. JAISING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HEAD STATE UNIVERS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HEAD  K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76560" y="439560"/>
            <a:ext cx="6153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Elementary Statistics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 Step by Step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ird E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2  Descriptive and Inferentia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73915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collection of data values forms a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data set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ach value in the data set is called a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data valu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datu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2  Descriptive and Inferentia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73915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Descriptive statistics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consists of the collection, organization, summation, and presentation of data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2  Descriptive and Inferentia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populat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consists of all subjects (human or otherwise) that are being studied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ample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 a subgroup of the population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2  Descriptive and Inferentia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Inferential statistics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consists of generalizing from samples to populations, performing hypothesis testing, determining relationships among variables, and making predictions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3  Variables and Types of Dat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Qualitative variables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e variables that can be placed into distinct categories, according to some characteristic or attribute.  For example, gender (male or female)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3  Variables and Types of Dat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Quantitative variables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e numerical in nature and can be ordered or ranked.  Example: age is numerical and the values can be ranked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3  Variables and Types of Dat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Discrete variables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ssume values that can be counted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Continuous variables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an assume all values between any two specific values.  They are obtained by measuring.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3  Variables and Types of Dat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nominal level of measuremen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es data into mutually exclusive (nonoverlapping), exhausting categories in which no order or ranking can be imposed on the dat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3  Variables and Types of Dat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ordinal level of measurement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es data into categories that can be ranked; precise differences between the ranks do not exist.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1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3  Variables and Types of Dat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interval level of measuremen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s data; precise differences between units of measure do exist; there is no meaningful zero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143000" cy="6856560"/>
          </a:xfrm>
          <a:prstGeom prst="rect">
            <a:avLst/>
          </a:prstGeom>
          <a:gradFill rotWithShape="0">
            <a:gsLst>
              <a:gs pos="0">
                <a:srgbClr val="1f6d43"/>
              </a:gs>
              <a:gs pos="100000">
                <a:srgbClr val="065d2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2560" cy="533520"/>
          </a:xfrm>
          <a:prstGeom prst="rect">
            <a:avLst/>
          </a:prstGeom>
          <a:gradFill rotWithShape="0">
            <a:gsLst>
              <a:gs pos="0">
                <a:srgbClr val="4b0f67"/>
              </a:gs>
              <a:gs pos="100000">
                <a:srgbClr val="4a0e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82640" y="2063880"/>
            <a:ext cx="7302600" cy="63360"/>
          </a:xfrm>
          <a:prstGeom prst="rect">
            <a:avLst/>
          </a:prstGeom>
          <a:solidFill>
            <a:srgbClr val="7e00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2320" y="22856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740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ature of Probabi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Statist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1560" y="3524400"/>
            <a:ext cx="6896160" cy="171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68360" y="6319800"/>
            <a:ext cx="183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33"/>
                </a:solidFill>
                <a:latin typeface="Book Antiqua"/>
              </a:rPr>
              <a:t>WCB/McGraw-Hi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0320" y="6350040"/>
            <a:ext cx="3362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9933"/>
              </a:buClr>
              <a:buFont typeface="Book Antiqu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ff9933"/>
                </a:solidFill>
                <a:latin typeface="Book Antiqua"/>
              </a:rPr>
              <a:t>The McGraw-Hill Companies, Inc., 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3  Variables and Types of 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ratio level of measurement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sesses all the characteristics of interval measurement, and there exists a true zero.  In addition, true ratios exist for the same variable.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4  Data Collection and Sampling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Techniq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can be collected in a variety of ways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of the most common methods is through the use of surveys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s can be done by using a variety of methods 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are telephone, mail questionnaires, personal interviews, surveying records and direct observation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4  Data Collection and Sampling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Techniq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obtain samples that are unbiased, statisticians use four methods of sampl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Random samples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selected by using chance methods or random number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4  Data Collection and Sampling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Techniq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Systematic samples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obtained by numbering each value in the population and then selecting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value.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4  Data Collection and Sampling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Techniq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Stratified samples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selected by dividing the population into groups (strata) according to some characteristic and then taking samples from each grou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4  Data Collection and Sampling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Techniq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Cluster sampl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selected by dividing the population into groups  and then taking samples of the group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990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5  Computers and Calculators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uters and calculators make numerical computation easier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ny statistical packages are available. One example is MINITAB. The TI-83 calculator can also be used to do statistical calculation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must still be understood and interpreted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-1  Introduc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-2  Descriptive and Inferential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Statistic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-3  Variables and Types of Data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-4  Data Collection and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Sampling Technique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-5  Computers and Calculator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monstrate knowledge of all statistical terms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fferentiate between the two branches of statistics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ntify types of data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739152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ntify the measurement level for each variable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ntify the four basic sampling techniques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 the importance of computers and calculators in statistics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-1  Introdu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tatistics</a:t>
            </a:r>
            <a:r>
              <a:rPr b="1" lang="en-US" sz="3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sists of conducting studies to collect, organize, summarize, analyze, and draw conclusions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fb0"/>
                </a:solidFill>
                <a:latin typeface="Times New Roman"/>
              </a:rPr>
              <a:t>1-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-2  Descriptive and Inferentia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Data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e the values (measurements or observations) that the variables can assume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riables whose values are determined by chance are called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random variables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4T16:07:46Z</dcterms:created>
  <dc:creator>New Media</dc:creator>
  <dc:description/>
  <dc:language>en-US</dc:language>
  <cp:lastModifiedBy>Martin Bittner</cp:lastModifiedBy>
  <cp:lastPrinted>1999-08-30T21:40:12Z</cp:lastPrinted>
  <dcterms:modified xsi:type="dcterms:W3CDTF">1999-08-31T19:11:04Z</dcterms:modified>
  <cp:revision>3</cp:revision>
  <dc:subject/>
  <dc:title>No Slide Title</dc:title>
</cp:coreProperties>
</file>