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5AB6-A253-4ACA-BE36-FF3B0F37C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AA05-1294-47D3-A96B-25B91102C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3FB3-56B9-4F1A-92DF-6A91AB031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C155-E28E-458B-B839-399123AB0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4171-91F3-4BBA-89EC-7BA9A154D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1A4A-AE35-43BE-8E9B-BC7A0F892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0BE1-7AD5-4637-8414-10D7E2D31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797C-21DC-4A11-9B4A-4EBA1B2F6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7D26-FCB2-41C1-BACB-C3316C584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E2C6-A78F-40E0-8358-1361BF283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3B4-527A-4A3B-BAB2-666C51AF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B21-74EB-48FF-81EC-F362BEFE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F57-D58E-4FD8-8FD1-7C3BA60D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8D7-2109-4A81-AE3D-F38909C9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B271-6E78-4290-9BC7-BD848B69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F0A0-5E8E-407D-B77B-E65741DC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07C6-23F2-4EBB-BC78-1CED8A0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5CA2-8D71-4070-A37F-E1648000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EE17-8E39-4BF0-82FE-3B9B7753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8374-A6B8-4E0F-9BFE-15152BC2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B71A-01B8-4B9F-B724-9BB8541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7F0-9C38-4EAF-970F-0957F39C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4EC0-FFAF-42A6-8A3F-744AD3CD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F6C9-91F5-4CCA-A26C-7CFE894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6C7D-6ED1-4B0B-A223-A223F91A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AF82-9416-461E-8672-AC6B4C91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6BEB-574C-4977-96E3-697C2FA7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D46E0-1E50-46D6-B122-5FB1D99D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4C296-BE96-4622-9FCA-2981C471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0AE09-2288-4F3A-BFB6-5031E7D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FAE1F-8755-4355-828C-A6335B1F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45E84-D550-429F-B9CC-CC4E7F2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606-181C-42AB-BEEC-7738925B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FC3A4-4BFB-4873-93B8-FD4A4EA5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4C29F-30CE-447D-96E5-6BBBCA03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C0B46-0F77-4B5E-910B-12CEF867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BFF0B-356F-43D1-9D60-DD699FF6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4E349-AF93-487C-A3BC-E4ABB93C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4A352-4B2D-4A2A-B6CC-5FA64724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03452-529B-493D-9C0B-9D12138A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8314D-7775-4E52-B358-06C304E7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9B4ACF-D616-4063-95C2-96CEC09C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20208-F891-4CF4-BCF8-C9443468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169-FE75-4B75-B05F-F966BF30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B7BDE-FCF1-4296-AF9E-FC320AA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842A9-9D5C-4618-8D3D-EBBD42EF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ECA44-BFBF-4F97-82D9-457AF678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FF4DE-A20A-4852-B0BF-579821D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7DEAD-07EB-49C5-B730-86C003D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8760B-C77D-48BB-A1A4-582EBF51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6437F-C186-4C83-BEB5-B2D4C6D1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A7871-3E73-4158-BF13-63BBBBBC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A994B-80B1-4C01-9EC2-E03E1792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56170-F735-43B2-BEC3-EA5A63BE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FA8-065F-492E-A575-C62FAEB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62378-C5D5-4426-830B-B4104D24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E3C3A-3541-411C-8B4F-BC92D486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CECC6-0449-402E-9B46-0F4250BA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0B8FB-6961-46B2-AFDB-B81D863D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B32A6-E142-4AC7-BA4F-DC79C23E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3E569-9B47-469C-8C86-D781A384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553BD2-272D-4293-B572-B152277C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E7926-B3A6-43CC-AE8A-DA0C901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05A82-9005-4DAE-8D9A-BDF3017E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71BCF-E01D-4EB4-ADDC-2A0FAC5A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0F4-9B63-4DC0-9CE3-954F93B6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7FB3D-D9F4-4C2B-B305-D15AE8DF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978F8-02A6-4B07-BAF3-D13E0BC4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98A5-49C3-493C-B67D-DCCBA858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774C-0C23-473C-9785-0D68886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3864A-43D1-4A17-B1DD-F8FC1B6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335F6-989C-4585-9A75-15E7E06A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BC79-D8D6-4E0E-93A1-767A152E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250A-7FF1-4D82-B6C4-789E3915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E746A-75A8-4E5C-BD1D-2EE38A2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92910-8BA9-4668-90E6-A89A0EE1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1CD-FA9D-4528-9AE0-854384B4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25F7A-6ACB-4C88-BA77-61174551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31BCB-2C0A-4C80-9958-46E0B83D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BABDB-E0AF-4B7D-BD38-94D87382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4B798-E489-4C86-B9E4-2C93A501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95F49-5FC8-410C-BD6D-4316CE40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73674-1D66-40B3-8E99-A9A323BA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8CFDC-2E9F-4D53-804C-A78A650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74D36-9BCD-4E44-A51D-F4241449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30928-9F2E-4F82-A6FD-C3C39469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A7E3F-EB46-4A72-8D09-E1121B3D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5A9-25AE-4EC6-9DF6-FD769DCA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212D0-7D94-4B20-BA98-3DDF77F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830DA-9417-42C1-A6C3-6174936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CFDD1-494B-4FEB-A0E3-43034128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66FB4-F91B-42C6-A558-230DF22B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9265B-15E4-47F5-9058-D7C5B920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BDD50-F2DE-4C15-8C23-F8BA22B8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F7D28-CA25-498D-A8AC-F65E4287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FC19D-EB68-4128-BB87-3B2568CE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46C1D-46EF-421A-84DD-A397C796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D8BE2-7870-45C4-B450-98B2E91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8E7-23B6-4555-834C-3690CCAB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F9797-6015-4E73-9423-533AB04D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A3918-D035-4DE6-8116-C23FCC8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283B7-E3A8-4AF0-B301-A8E6AEED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F71DD-5AAF-435F-8729-77EAE66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09BE4-CD6B-4022-B2BF-0CBEECCF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C00B2-A35B-4383-BDB0-15F032EC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6D287-AA7A-4B68-8C84-A197115F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8149-97F3-4521-8F12-A48698782EE9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D456-3EED-455E-AEE0-4B3A8073EB6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D5A0-C7A2-46DB-9FBA-3AF976ECE0BE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238B-BB42-4EEC-ABA3-D336A19A918B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9747-5D3F-4BFE-8816-E41B0490A7B3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BAB1-EE97-4DEB-90C8-BF00725A619F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F8AF-FDB0-4D69-AA17-557E86BAAFBD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7A0E-FE18-4F8B-99A3-E86D53DDD3C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CC0E-A786-46FE-AD8A-CB8563DB98D6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2197-B663-40FF-B1C3-E6DB4FD42D4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3253-587C-4339-BC9D-6B979A1E708A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574F-2ECD-47B7-B509-4C0EFA77A1F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FA81-225F-4B1D-8A56-1D6B55BE3B33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8FF5-F2A1-407E-88E7-62D974C25999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F656-7546-49D2-806A-4E3CE640267A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950F-63E1-4C24-A157-119DB833A7B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0, QUALITATIVE FIELD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ll 201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udi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The in-depth examination of a single instance of some social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xtend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echnique in which case study observations are used to discover flaws in and to improve existing social theor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AF4E-6029-4DE8-8780-017443D7D49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stitutional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research technique in which the personal experiences of individuals are used to reveal power relationships and other characteristics of the institution within which they opera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A26F-DFCE-4D79-AF50-0BF6826389C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articipator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searc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social research in which the people being studied are given control over the purpose and procedures of the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ded as a counter to the view that researchers are superior to those they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ncipatory Resear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search conducted for the purpose of benefiting disadvantaged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EF78-A787-455C-AC6F-929AD6C44AC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nducting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paring for the Fi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relevant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your plans with others in the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y and meet informants (when appropria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rst impressions are importa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stablish rapport (an open and trusting relationshi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hical consid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46BD-CD34-4374-8F4B-2D50BA0DA88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Qualitati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rview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Contrasted with survey interviewing, the qualitative interview is based on a set of topics to be discussed in depth rather than based on the use of standardized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ner” who digs for the truth or “Traveler” who wanders around asking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91E7-39A9-4B75-84EE-49714E0572F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ges in Complete Interviewing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matizing – clarifying the subjects to be studied or explo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igning – laying out the process through which you’ll accomplish your purp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ing – doing the actual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cribing – written text of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ing – determining the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ifying – checking the reliability and validity of the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orting – telling others what you’ve lear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6A78-EF15-482D-95E1-EF48B6C8D7D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ocu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group of subjects interviewed together, prompting a discu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: real-life data, flexible, high degree of face validity, fast, 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advantages: not representative, little interviewer control, difficult analysis, interviewer/moderator skills, difficult logistic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5CD-E32B-4119-BA36-CBA9903920C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ording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e detailed notes, but balance with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write notes with observations soon after observations with filled in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mpirical observations and interpre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veryt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cip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1FBB-32B3-4C48-A8DA-338BE409CE1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engths of Qualitative 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ective for studying subtle nuances in attitudes and behaviors and social processes over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aknesses of Qualitative Field Researc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appropriate statistical analy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B6A3-21DA-4336-A6B8-16E620513D8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validity than survey and experimental measu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tial problems with reli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247A-F5D0-4B63-9783-AC61981FBFD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opics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al Consideration in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ome Qualitative Field Research Paradig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ducting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and Weaknesses of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thics and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F398-A21A-4DBC-9D90-C0B3A01DBA6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6C8B-1A14-4BA4-911F-BB8B99B8E4BB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you use field research, you’re confronted with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sions about the role you’ll play as an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r relationship with the people you are observ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47C1-1BEE-47EF-86E0-70BD043627D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you use field research, you’re confronted with decisions about the role you’ll play as an observer and your relationship with the people you are observ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D8C4-5A37-4A64-98BF-A1F2846E1FC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519C-98D8-4404-AD9A-73926307C79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9CF6-032B-41FF-9B70-EB2988B4BD1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er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1479-B7B5-44AB-864F-083458E91F3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4B99-D1B8-4A43-943A-90753980C67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In a _____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 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cr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7B1-9DF2-41C6-A36D-11F16536888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a focus group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8EDE-B01E-49B7-922F-44F23142F87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In comparison to surveys and experiments, field research h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BDF7-C997-477B-98F3-A0FD6E1B6CC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that defy simply quant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itudes and behaviors best understood in their natural set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processes over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9AA2-F780-4E79-9526-07677C6DCAD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arison to surveys and experiments, field research has 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547D-ED8D-4ECB-B5C4-E1C53FE5FC3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lements of Social Life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s and Social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and Personal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and Cl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lements and Habi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Wor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cultures and Lifesty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745C-FFC4-4DBA-83AA-25AB1315A08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pecial Considerations in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s of the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nt, Researcher, Ob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ctivity – The problem that the subjects of social research may react to the fact of being studied, thus altering their behavior from what it would have been normall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 to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ien / Marti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lexivity – the sense of things acting on themsel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8393-5114-404A-8A24-E22F3900FF9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Qualitative Field Research Paradigm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nded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e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itutional 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tory Ac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7049-20D7-45C6-A517-3F79728DCF9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field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report on social life that focuses on detailed and accurate description rather than explan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78C-023B-43DB-8B29-C8BAF1B754D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the study of social life that focuses on the discovery of implicit, usually unspoken assumptions and agree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0B69-E047-4E77-9046-5BDA97F3EE5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Grounded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ory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n inductive approach to the study of social life that attempts to generate a theory from the constant comparing of unfolding observation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eli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nk comparatively – compare numerous incidents to avoid bi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tain multiple viewpoints – of those under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ically step back – to evaluate clea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ntain an attitude of skepticis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llow the research procedures – “making comparisons, asking questions, and sampl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AD6-439B-4334-9393-A1D3E3BC971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02Z</dcterms:modified>
  <cp:revision>14</cp:revision>
  <dc:subject/>
  <dc:title>Slide 1</dc:title>
</cp:coreProperties>
</file>