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56FE-DAF8-4681-B3E4-915FD5C87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E7F5-056E-4BF2-B882-4D608C53A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425D-708C-42BE-A09D-B7ABCA8D4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B5CC-B519-4E7E-8244-4317003B3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E5D9-A7C0-44AF-BAB9-2187E950C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64D6-B1AD-4180-B563-7684D1BD9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B576-3DD2-4DF4-99AA-47DE3F34E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AB2B-965A-4F23-97EC-30FD627A9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A5DB-1F6E-4FC9-BB6F-A979E6DA9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26F1-D647-4AC0-8519-ED33E4381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DCC-5B96-43E3-8DCE-4E3ED6F0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5DF1-56F3-40A4-9EB5-F11368DA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610-BAC5-44F1-B4FD-84A822CE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941-3453-446A-994E-0834F1D9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9CDD-8010-4EF2-95A2-E4B9756C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1489-015E-42E4-8B22-44804160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3C06-DC58-4A25-ADCA-1A0B9A9B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5BC1-BEC4-4DF7-BBAC-82D44861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2A84-F02B-422B-8A82-F823E7A7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C80C-F55E-4857-B775-53658959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9812-4F34-4227-9FAD-B3A7C201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0EA-9C3D-4BE2-A237-1557C7D3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801E-7AD6-4026-B41B-A7BE330A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C73F-1ED5-49FC-B2AE-6415F11C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5B1E-E346-491A-8E0E-5F947FE9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B2AE-3E57-4452-B0F5-26FFD431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CC59-8B2C-4799-A71F-CE3BB88F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5AB68-26FF-41C8-BB33-552E5111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08024-5CFE-447E-A1DE-8EC34991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1AA9D-83BE-4E35-8A31-7A98447F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312B9-ABA2-457B-A63C-137FE4B1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939D8-ABF7-4E91-BBC7-CC7A9AB8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1EA-7C77-426F-8C99-01EDE05C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8DA06-BFFC-462C-96A8-94FB36F3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15521-8F7E-4DE4-8B92-F5993BBC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6B4CD-9F55-4593-8C12-9D2E316C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EABDD-BB3A-48A2-A3A2-D97BD8BE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BB078-1D49-4DDD-832E-B217D6D7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545B1-7CC9-4660-B35A-91489318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13369-BEA9-42E1-8072-D8F53CA5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13BAC-991A-4C4E-99BA-06ADA49D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38B917-D18E-4D2C-8354-CA7D0A8E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8E6E35-A18D-4B1D-ABBF-A48D400D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9685-DB7D-4E6A-8629-39745E3C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8CC87-D905-4F59-A8FF-86BF38C1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A2CD5A-428A-4669-A627-AF72CFB5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83B9F4-D89F-42D5-B110-32F6F50E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3F79CD-F6B5-4F49-A3D9-18C9E26C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A32E1F-2FF6-42D4-AB34-B601D048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238857-8ED5-43C8-9B85-1B9F05A3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9AA85-75D5-439A-BCB4-40533ACF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138CAD-9517-4D02-986A-DB8AF648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A0240D-0A13-4AF1-AFCE-D8A4451B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2C4FC-88DF-4A0D-BB21-B5A636F4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C73-19F3-4F4F-BFDC-A3A3A797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A3CD43-31D5-4D06-8A42-31DC051D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7FF24-6055-481B-AA91-C0E3B52C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00BE0B-2F04-4414-97BB-48C576EA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73F2E0-C952-40CB-A847-BB19CCA8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B6116-C2B4-444E-A068-274F2428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D18F9-B3FA-40BA-83C5-900379CF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55C276-2C58-44A5-9D37-155C310C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9CADEC-8B43-47CA-AAEF-D031C835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5252E-4D6A-42CD-8591-428AB54F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36E55-C799-440C-85E7-952B580A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4EF-AF37-463C-A508-8764290F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D11B11-1250-4555-B43E-921E6AC0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76F10-3A82-4B61-85D0-38E574C2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65DF8-7043-46E8-8759-D700C1B7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3A001-0120-48FC-9AF4-0A7BE942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65E9A-8062-4CF5-9D6F-42B75439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836E2-4192-4B15-9A8F-2ED5C708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4FE5C-1324-45FF-8034-B6ED0AE3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2D764-6BF3-4875-B7FC-A29B5613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97694-2E5B-45FD-A68D-A05994D4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30562-0783-4490-A5DE-F96FDBB2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4CB-4FBE-4BB7-A0E9-02EE8780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B8F8D-4BC5-44F6-8D10-7F322A0C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BA3CD-214D-472A-A7F9-54F92085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53863-A664-4C24-B59D-574FAB1C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BA5941-8159-4369-BE5C-05FD18A2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4AEF27-67F7-433A-8C2B-9B2707A6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DC2DBE-A9E0-4B23-AC7C-5F121373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EFADBA-6A08-4580-8C03-E1AAEBBA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56C64-6920-4019-829C-D0EF9DF0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25E3C7-6B41-4644-848C-B6455CA0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8D763F-FC16-4E69-8DB6-DD440B01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AC8-C10B-4385-8688-ED851FBE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03D07A-5994-42E3-8A6F-0A3321C0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AAD4D2-488C-49B3-B8BA-C825586C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5B375F-E110-4676-8AFC-BE23635B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EA09C1-4D6A-4F11-894A-26DE4351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EB1392-0D54-4920-A371-18F8381C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CBFF3-78E1-4C55-974B-AD4011F1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4706D-5A0B-44A9-BF35-FFE8DA39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F567D-49C4-4CA1-84AD-DA2B2527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09182-A0D9-4A68-8FE1-5A2417B9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FBF70-EBA2-4C4A-ABA4-83EC971F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6EF-48BC-4650-BF5D-E4B7BB37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67285-778C-49E7-9CE4-BA5A3A7C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2589A-B8A4-49BD-88AD-F7AFDB12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FA5A5-596E-4354-BBF1-D2B14300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0EA7E-620F-48E8-8B64-A0BA4FD7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C40AD-E31F-406E-8B96-5EC28B6D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200DD-580B-4168-8317-ADEADD45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E049A-562B-4135-BBB4-80A1EA77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7DF0-5687-4B40-9CF3-588EA35DF884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A751-0BB8-448D-ABE1-7E67935B0C49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39BD-944D-4C19-B851-608E1B32E63E}" type="datetime">
              <a:rPr b="0" lang="en-US" sz="2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4d4d6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B8E7-582F-4C32-BFFC-BDC08C4E198C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DBD4-3524-4B0D-B7D8-71B736C9ABE0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E759-413B-43CF-BA36-7171E482AAF9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6105-1764-448E-A06B-14598BB9F52D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DD08-D7E1-4274-822C-B9E2534F7510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5FCA-F3F8-4815-B7DB-183E7207AB14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9D0B-9E5E-42E9-9613-380C1881B0A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7660-5499-4CE9-AD93-D1A4223F188A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B791-B6D2-41A0-B79C-7AB9B2BE15B9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9962-A933-44FF-99A5-72D00FA1788F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48B3-4A03-4060-964D-CCE1E0D993A0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321A-4330-405B-9848-55CE5845E890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05A7-4667-4731-B24B-22CCB780489F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0, QUALITATIVE FIELD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all 2012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as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tudie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The in-depth examination of a single instance of some social phenomen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xtende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as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technique in which case study observations are used to discover flaws in and to improve existing social theori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22FC-AA64-496A-A6B1-D50C3C40531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stitutional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thnograph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research technique in which the personal experiences of individuals are used to reveal power relationships and other characteristics of the institution within which they opera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9B20-CCFE-4432-B132-C96A30C87AB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articipator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esearc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n approach to social research in which the people being studied are given control over the purpose and procedures of the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ded as a counter to the view that researchers are superior to those they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ncipatory Researc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Research conducted for the purpose of benefiting disadvantaged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CEAB-8857-46E9-BCEF-D97C0832787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onducting Qualitative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paring for the Fi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 familiar with relevant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cuss your plans with others in the are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ntify and meet informants (when appropriat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irst impressions are importan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stablish rapport (an open and trusting relationship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hical consid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9175-96B4-4EF9-895F-FFDE5683715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Qualitativ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terview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Contrasted with survey interviewing, the qualitative interview is based on a set of topics to be discussed in depth rather than based on the use of standardized ques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ner” who digs for the truth or “Traveler” who wanders around asking ques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23EA-E330-4F19-858F-5EC59C36277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ges in Complete Interviewing Proc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matizing – clarifying the subjects to be studied or explo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igning – laying out the process through which you’ll accomplish your purpo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viewing – doing the actual interview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nscribing – written text of interview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ing – determining the mea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ifying – checking the reliability and validity of the materia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orting – telling others what you’ve lear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BFF8-FA5F-4EB9-A27C-5129EAC7762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Focu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group of subjects interviewed together, prompting a discuss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vantages: real-life data, flexible, high degree of face validity, fast, inexpens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advantages: not representative, little interviewer control, difficult analysis, interviewer/moderator skills, difficult logistical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3C80-686B-4F72-8DC2-C5AB239703B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cording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ke detailed notes, but balance with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write notes with observations soon after observations with filled in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rd empirical observations and interpre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rd everyth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ticipate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CA2A-75F5-40D3-B8BD-C1BCC5281CC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trengths and Weaknesses of Qualitative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engths of Qualitative Fiel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fective for studying subtle nuances in attitudes and behaviors and social processes over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expens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aknesses of Qualitative Field Research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appropriate statistical analy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FDB3-D8F4-4C5A-BF38-0D7D58DDD7D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eater validity than survey and experimental measu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tial problems with relia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16CD-1878-4816-8FF1-CAE953CFC14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opics Appropriate to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pecial Consideration in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ome Qualitative Field Research Paradigm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ducting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trengths and Weaknesses of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thics and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F9E6-6AA9-4E43-8612-1E616FC5C4F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0" y="1752480"/>
            <a:ext cx="129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6E95-B7AD-49C9-8D93-1F21F8C9887B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en you use field research, you’re confronted with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isions about the role you’ll play as an observ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our relationship with the people you are observ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ither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751A-F5AF-42FD-B539-2BA54934A05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you use field research, you’re confronted with decisions about the role you’ll play as an observer and your relationship with the people you are observ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E4E6-7F6B-4162-A2FA-557DE001699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is an old tradition in qualitative research based on the assumption that an objective social reality exists and can be observed and reported accurate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uralis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nograp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no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7EF2-2298-4EC4-920D-963096CEAD6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uralism is an old tradition in qualitative research based on the assumption that an objective social reality exists and can be observed and reported accurate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BC67-7D4D-45E8-8061-EB545B27E8B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_____ describes when the subject of social research may react to the fact of being studied, thus altering their behavior from what it would have been normal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nsi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er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725C-313D-4DBB-8F44-96DA508482A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ctivity describes when the subject of social research may react to the fact of being studied, thus altering their behavior from what it would have been normal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7C72-6404-42C0-A68B-EAE84C9AE3F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In a _____, typically 12-15 people are brought together to engage in a guided discussion on some top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sro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cus gro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cro 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4C26-A3E6-424B-97D1-F6843621376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a focus group, typically 12-15 people are brought together to engage in a guided discussion on some top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0B40-3D10-4AF0-B1D1-A6301D79B59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In comparison to surveys and experiments, field research ha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gh validity and high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gh validity and low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w validity and high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w validity and low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B7D0-F917-4400-A669-2E7F5A6360A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opics Appropriate for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pics that defy simply quant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ttitudes and behaviors best understood in their natural set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processes over ti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842E-2F0A-406A-BC92-AE775B15B50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arison to surveys and experiments, field research has high validity and low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6512-BA49-4136-AFBA-B17DE957E21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lements of Social Life Appropriate to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iso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n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les and Social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and Personal Relationsh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s and Cl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tlements and Habi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Worl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cultures and Lifesty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0EA9-C250-4912-BFE3-9F721FDDC5A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pecial Considerations in Qualitative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oles of the Observ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nt, Researcher, Ob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ctivity – The problem that the subjects of social research may react to the fact of being studied, thus altering their behavior from what it would have been normall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96280" indent="-29628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ations to Subj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bj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ien / Marti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lexivity – the sense of things acting on themsel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284B-CFEE-4429-9718-4AB7A015870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ome Qualitative Field Research Paradigm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uralis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no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nded The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se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titutional Ethnograp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ticipatory Ac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9679-C49C-4A50-8191-53E10FE22F7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Naturalis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n approach to field research based on the assumption that an objective social reality exists and can be observed and reported accurate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thnograph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report on social life that focuses on detailed and accurate description rather than explan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3316-AC22-4ECD-97D9-1E8D9DBE1BD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thnomethodolog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n approach to the study of social life that focuses on the discovery of implicit, usually unspoken assumptions and agreem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E1BD-4384-4BB4-9061-4666FDF7745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Grounded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Theory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– an inductive approach to the study of social life that attempts to generate a theory from the constant comparing of unfolding observation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idelin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nk comparatively – compare numerous incidents to avoid bias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btain multiple viewpoints – of those under stud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iodically step back – to evaluate clea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intain an attitude of skepticis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llow the research procedures – “making comparisons, asking questions, and sampling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21F4-3784-4B43-9CCA-98C19B313F1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8:02Z</dcterms:modified>
  <cp:revision>14</cp:revision>
  <dc:subject/>
  <dc:title>Slide 1</dc:title>
</cp:coreProperties>
</file>