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9509-4D47-4EB0-B3C0-B7EB13606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7D26-5AF9-4280-9D19-082F23CB3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ED68-74B0-412C-8D0D-6E89D9BE0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6B6F-0C0B-48F5-A59C-8DFCA011F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FDCA-94FC-4B18-896A-B0774AEE1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B39D-EECE-429D-8C4D-89AA3B0E9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530-FD06-412B-8244-A5AC79CFC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96B-93B7-445F-9AF5-DAF8F6458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D86-5708-4283-B42E-1F8488248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7540-CC53-4BE0-8B12-37212C251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9CC-B0E7-44B6-A4E3-EF504273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911-D0AF-438C-B13F-230708F0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229-E7EF-45AF-BDE1-D5BD453A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3C6-8944-48CA-9244-9543D0AD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D32B-B8CA-4549-BD1B-4AF7170B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0909-8C30-47C4-97A0-DCA20B04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4588-2419-4787-BC9D-1FFA3F6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7000-3DB3-4460-8849-ABBD7F15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DC24-5ABA-406E-AEAE-684B9F4B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B5CD-F707-41D7-AEEB-7984F4C5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982-EDA7-485B-93A6-1265610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DCD-B045-4C38-A554-936E574B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E503-A7F5-4CBF-9BA8-D8405D0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3DD9-768F-49F4-B25E-52B2C61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1F0E-BCAC-464B-AD78-4BA8F69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8A5-064B-4A68-80D1-BEB82FD9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040B-BA11-4183-9F98-FDDA0E5D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0EDEA-7C5A-4067-8EC2-80A2A0C7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AD08A-AF3D-4761-85A9-8321CF19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CF4F7-EC36-413F-8F63-67022E58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DAEB3-9066-4940-8B45-A2BEE0B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52DBF-E0F8-4180-9417-FDC523B5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216-F706-4471-98AF-DECD12B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1CE4F-43D8-407F-8748-74CDDF8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F43A5-CFC6-4C2C-AEAC-192F391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9B959-2E94-441A-95A5-A79FBA6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FD744-305B-43B2-AF73-6FF848B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E5477-CBC5-41A8-BC03-CCA8A4C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137A6-F56D-4AFA-965B-55449C53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E1EF6-3907-4B72-AC68-2F6F8DAD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ECBF8-50BC-4CA8-8754-DF097129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D080D6-DD4C-4368-A488-F235D4CE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2EE91-0F0B-4B9D-86E2-FB1C17DC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365-3B45-4850-B059-4D6709B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CD7D6-7B6E-4865-80B4-F7D7FE61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D021D-A99F-453F-A08A-34954B5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A4478-89CC-47F4-99DB-44EB367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73B3A-1F71-4226-AFA2-364FFFA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39DD0-6E2A-4FD0-B099-5294D6A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60129-6026-4B21-AEEF-A1F2611A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1921A-3F2E-4375-A864-98361EF0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28D12-0F51-4334-B791-7E168FDB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BEDAD-4594-4F36-B17A-AD688066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023A1-D939-4D9B-A024-76E67828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17C-7C23-4079-89AE-DE55E487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6C64F-A088-48B8-95AE-34B6EE2A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0F860-BCA8-4A6F-9D98-6A440869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B18AC-209E-4C34-8BF7-4939E10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66A9A-C085-4C5C-B312-2C5A32E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BA82D-62A3-4739-A7F9-8EA36F7E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08C82-0C3A-4E34-B6BF-888BD05E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A470F-DA1E-4E25-BA78-6DD0CF3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5DC59-FB9D-4CAF-8DA3-4741186E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71A8B-9452-41E4-B539-C87878B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A713D-FA60-4756-875B-7BE22906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C00-7308-405F-B6D0-11ADAAF7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3CE9F-C788-4EF7-BA26-16AACF23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36CA2-C2EA-481F-8595-119641D7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9C37-A157-48C7-A61A-7A50745F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EDF5B-8DD3-4EA2-8181-8D24520D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599A2-7997-4C89-80F8-A053E060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1144E-AF76-4F18-AAE4-DD769BD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FCA22-8BC5-44F8-BDC8-10E5DB0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C0D4D-A4A9-4085-928C-6C1C2B7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2DF9-3DC9-46DF-8EB1-4CC8C7E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13AD3-89E5-4EF0-B66E-33A8F8A4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5D1-CA28-4FF6-BBE2-6907CB6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2D424-6133-4945-ABDD-9E7DC280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2C6C9-9A98-4B7D-9C79-4CEA5B90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1EDA-A9DA-4828-8EC4-F3F8E8DA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C05A8-CADE-460B-ACF6-CD008628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B74DF-C6BF-45E9-94B9-21BA3FBD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BEBD0-F74E-4B6F-BB25-4C04331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4D7F6-1D8F-4F4C-AF1B-4FB6016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F2EBC-89D1-4E64-98C0-28F7ADD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BAF23-15F0-410E-8B17-C919E09C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40C79-5123-4DF1-A989-FA128CFA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7A0-98C8-41ED-8ED6-11BC386E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D0B06-7792-4222-AEA7-E2CD44FD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A70FF-D3AF-42F3-A40D-60C61ED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340BC-9B8C-4629-9069-DFF344B9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CAA7B-40FD-452E-A241-9E9D22E4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79839-625F-4CBE-AD16-9BD667EF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34840-4AF1-4009-B45F-1E885789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82892-9D3D-476F-A0BC-98AAC64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2EF8-BF76-4338-9D65-DDA8140F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8796F-E882-46AA-8B80-702D9265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913DC-4A04-4707-888D-9C362398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5B8-B573-46D4-9857-1C1CEC7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B8958-1874-477D-A8C5-C6453B42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B8E5-6F13-48CF-A61E-24D5188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7A014-E7A6-40B2-B895-1B3DA6A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C9DF9-B472-446E-B0FA-4CA6291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B96E6-FE1A-4A3F-B4E3-D4768D2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532E3-BB63-45F5-B674-112D06F1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85DBB-E5CA-4C58-9C26-2B26DF92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9FEF-B5C5-42DF-BD4E-8AA98E0C751E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7AB-1071-4A7F-B0AC-FE704204F5B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BACF-1B03-4FCA-B7E7-BC7EFF0AB968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A3E-1506-46A4-96BA-2129CC20D0DA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F9D-132D-4356-B7BA-6FB9B5070CF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C03E-E75E-41E7-BEFC-AF138936870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67E9-8408-4C88-877C-53215510E39E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9B05-2F06-4FE5-A3C1-8C32730A91E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020E-0C69-486A-B54A-AFC50E6C927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10F-B53B-49E3-901D-FD617386A39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504F-74F1-4B12-A24D-4013461E66F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1F3-A0A9-4800-8CB2-9F6E230ACCC8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15C-5FF2-4AB1-A1A6-92A84B3C709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5C53-B29B-4B45-AD79-292495238A15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8775-464F-493E-96C8-BC2015994A2E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830-CE22-4EF2-8521-D1A60010EF4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0, QUALITATIVE FIELD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ll 201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ud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The in-depth examination of a single instance of some social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xtend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echnique in which case study observations are used to discover flaws in and to improve existing social theor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CC2-E5D3-4E96-AD6C-FD5642E2162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stitution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research technique in which the personal experiences of individuals are used to reveal power relationships and other characteristics of the institution within which they oper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431-4AC4-44C3-9894-BB8DFF1F3C0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articipator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social research in which the people being studied are given control over the purpose and procedures of the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as a counter to the view that researchers are superior to those they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ncipatory Re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search conducted for the purpose of benefiting disadvantaged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55F3-842C-4539-91EC-B0A18B32B2B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nducting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aring for the Fi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relevant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your plans with others in th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and meet informants (when appropria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st impressions are importa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tablish rapport (an open and trusting relationshi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al consid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D000-195A-4DD5-A2D3-AA71F1C10D9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Qualitati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ontrasted with survey interviewing, the qualitative interview is based on a set of topics to be discussed in depth rather than based on the use of standardized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” who digs for the truth or “Traveler” who wanders around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328-C47D-4500-A5DD-547B3829DB3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ges in Complete Interviewing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matizing – clarifying the subjects to be studied or explo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gning – laying out the process through which you’ll accomplish your purp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ing – doing the actual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ribing – written text of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ing – determining the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ifying – checking the reliability and validity of the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orting – telling others what you’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0BF-3E73-4DD3-B9D9-DC05435478C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ocu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group of subjects interviewed together, prompting a discu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: real-life data, flexible, high degree of face validity, fast, 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advantages: not representative, little interviewer control, difficult analysis, interviewer/moderator skills, difficult logist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6A7-0B0E-4497-AD24-AF5F748153E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rding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e detailed notes, but balance with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write notes with observations soon after observations with filled in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mpirical observations and interpre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veryt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cip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950E-7B5D-481B-BA82-B73DC56FFCB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engths of Qualitative 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for studying subtle nuances in attitudes and behaviors and social processes over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knesses of Qualitative Field Resear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ppropriate statistical analy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08EE-7924-400F-A0AC-9E05DD64BAB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validity than survey and experimental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tial problems with 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5B08-AD30-4C44-B77F-AD6AEEDA3C8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pics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al Consideration in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ative Field Research Paradig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ducting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and Weaknesses of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thics and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D958-CAAF-4187-8A80-941791A536C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0D76-27A4-4FD3-88F7-A99BF70AF9AC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you use field research, you’re confronted with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about the role you’ll play as an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r relationship with the people you are obser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D20E-61F5-4678-AC42-5CCC3C07EED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you use field research, you’re confronted with decisions about the role you’ll play as an observer and your relationship with the people you are observ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353D-CFC8-4379-AE37-F8AC8FEF49C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993-F15A-49CD-83B4-EC952C24D3B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24B-FE52-46FE-A623-FE2B23E29F7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er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1A78-2255-4DF9-B59A-8C28241247A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8AB8-20B8-4203-950D-DA695ECEA8D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In a _____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EC9-0CC7-4DB3-9781-822DEE637BF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 focus group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3D18-F900-4905-A8E8-8410ACE4AB6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In comparison to surveys and experiments, field research h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D565-624A-4E65-8DA7-474B04CB5A1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that defy simply qua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 and behaviors best understood in their natural se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processes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6660-E347-41CF-B467-D842575BD41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arison to surveys and experiments, field research has 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2832-7D24-4A21-9E90-885D699D63D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lements of Social Life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and Social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and Personal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and Cl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Habi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 and Life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24E8-1FB0-4618-B89D-EBD5F9D7A4F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pecial Considerations in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s of the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nt, Researcher, Ob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ctivity – The problem that the subjects of social research may react to the fact of being studied, thus altering their behavior from what it would have been normall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 to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ien / Marti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xivity – the sense of things acting on 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BA43-AA50-4AE4-86D8-6D87DDC3675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Qualitative Field Research Paradigm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nded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itutional 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tory Ac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3BC4-7047-40FD-A427-28B40FADE3F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field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report on social life that focuses on detailed and accurate description rather than explan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C803-D4B9-495C-A254-8B63798DBA0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the study of social life that focuses on the discovery of implicit, usually unspoken assumptions and agree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A149-8AB2-46B5-A5D8-503477030E3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Grounded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ory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n inductive approach to the study of social life that attempts to generate a theory from the constant comparing of unfolding observation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comparatively – compare numerous incidents to avoid bi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 multiple viewpoints – of those unde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ically step back – to evaluate clea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an attitude of skeptic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low the research procedures – “making comparisons, asking questions, and sampl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EC7-8273-45F3-B560-C217016AE62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02Z</dcterms:modified>
  <cp:revision>14</cp:revision>
  <dc:subject/>
  <dc:title>Slide 1</dc:title>
</cp:coreProperties>
</file>