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CCB1-0DC4-4B3E-8A08-EA75BA528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8370-A156-4E9A-9BB2-EC3FB60D3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C564-8BE4-4A1B-A0FF-C431F2EC6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3606-2AB3-47D8-8084-2A5F2ECE4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234-5654-4654-A6C9-FC9520943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9273-B68C-409C-A376-3D67A692D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5C86-74D8-41DD-8AA4-F138C183E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6C6F-155B-42D5-9E48-9508AB49B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87E-0098-47AD-8599-78AA52DCE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B61F-9897-478B-A8C5-5B4F5D9AE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A15-412E-47B1-B64B-944279DB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5B9-7672-45AD-ABD6-A904D68E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1B3-D38F-4530-B259-86DF3E63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14E-E964-49C6-B5D8-3129C6FC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3DF5-D91B-4680-BD51-FAF242F0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4E0C-0704-4EC3-A825-FF2AB57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AE4B-C782-44D7-9921-1648AF19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CE64-7E6B-4FEF-B095-0AB5CC9F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79B6-CAB4-464E-80E4-1E09227B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89FC-40EE-4A73-8F11-269FD249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65E6-DF8B-4764-9E74-D3E6542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C31-5D92-413D-BC21-49921700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24CA-7F39-4F16-89F3-F3DE1CB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FB1B-4A6E-42F7-A355-6C77DA9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3C60-5795-4EA7-968A-ACF56E2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560A-6B86-4456-AF01-3E75AC25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A050-C954-4D24-BBFC-F50737A0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C413A-A90D-4E84-9865-41B55E3B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CF766-6C02-4377-98C4-9ED4BC4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AA9D8-C566-4CDE-BFD1-71EF3EA9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6560F-759B-44C1-8388-91EC6641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12AC1-B35D-4520-9FD3-2E828C99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A8B-0DB8-4601-8523-66B9C614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6DB2E-5ED9-4448-9CD6-0C72F733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1FE5D-1DBA-43A2-98C6-7135D88F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2132F-CBF8-4B87-BA5D-900C67C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C507A-C8A1-475E-A80E-F80968B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57734-15F4-43BA-838E-2BC42B2F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F4F5A-4C94-47F2-A913-0E4B3240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96C44-89ED-49BA-9598-85FEAFCE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20A77-4D2E-40F6-A94B-B235AF18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77376-E8C5-466A-B5F7-6F9F200A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AB6D2-F4F3-4780-8D9F-74C5606C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5C4-879E-451C-B215-8EB980A2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27008-CD0E-405E-A6A6-989907F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E4CEE-E4F3-4EB7-ACD5-812E7008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E9415-B3F3-46EE-99DE-D1469BA9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B2293-746C-4E6E-A15E-7F11F91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2C2C1-21BF-453C-9F96-BE63E8C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3B9AD-3A79-48BC-A19A-09D9AF78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EFDB9-6ABA-493E-875D-C984FC3E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4A139-3526-4EB6-B434-02384053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45CA4-9AFD-4A58-9506-41F673D9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25CC5-622C-4625-A9A5-74420900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5FA-D6E1-4290-A5DE-1EDBCD5E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08DBA-5B39-49F2-8AB0-91C60A63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32C77-F0A1-4701-851D-EF4D8355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10198-6752-49DE-AF9E-E5D40C20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0B91F-653A-4F51-A22C-F033C36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79467-FCE6-4C2E-BA70-3BFBF38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ABB82-DE6E-44A9-A8C7-A5BFE2A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1C02B-F78D-4BC0-95CC-C0B588E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9F885-4308-4B5D-8470-05D1270A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5420F-E857-4CA6-AD4E-D7969D5F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9981C-17C2-4C76-A562-089ADE45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DF2-8755-444D-9C48-659B84B9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953DD-8576-4ECE-AC9C-81DF949A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7C65D-9B6B-419E-A276-7A2CCC70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57A1-BF7C-4F98-9617-541F75F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ABC67-05F5-455D-8F6C-51F0A64F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F0E78-720A-418D-BC3F-6D4752F8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0240-208C-433B-8794-E96DFC8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C85F0-DAB4-463D-BDD1-78656005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6F8D6-02C5-4D6D-8B6F-2412818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D8448-25F6-489C-9ED1-E38E014C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95BFB-3F02-4331-9D87-87360A7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743-AAEC-4E75-8056-D2A82B0A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094E5-C61D-4CCA-979F-504CC808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EBD44-825B-4A90-B031-5B327810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E763D-728D-460C-86C1-A0865BA1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584B8-2949-4283-8E38-ECE317D5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29C13-C95B-4FCE-87A3-CB815421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5CD3A-A41A-44CD-8D08-34A7AB15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0B8D4-A2FD-49F1-9320-02920253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38CA2-4DCF-49FB-A1EE-F2C352D4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89F5B-8C3D-47FD-A393-964D3EB2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8548F-5DF6-40C5-AF56-AACF1E23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BEA-84B4-4478-A7FF-A17C711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E918E-25AF-422A-84A4-B9F2456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7D2A2-6750-4384-AD38-7A919D6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A1CC4-8F17-496E-915E-8F313E70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4DBD1-643B-4AD8-B8F9-2E015CE7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E4D21-A403-44B5-BCB1-94CDC39F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E0163-068E-4E05-AFB8-0BB30598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2D677-7448-444E-9BAC-AB54A1A1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E22D4-1856-41AD-BDBE-7E4F8DD9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17F52-BBB5-4815-ABC9-1F05A0D7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4F576-0F5C-4B71-A122-B338C096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F3A-D3B1-44A1-B8F7-052BE13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7824-8E62-40AC-8C0C-B081BE60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15DB-ACDD-4F11-910C-E5B3CB7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5E7E-7DC3-4ED6-B568-160C879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FD437-B46D-44B7-899B-63C8542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FD38-B05F-4111-93F5-3340D5C1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BD1A-5C3F-4998-968B-4F2A762F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D0B83-C09B-48FD-87C8-DF923046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4B4-EB6B-41DF-ABF5-A9AEE6C68CC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529-548D-4A43-B875-FA0EC269051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054-ADA9-49DA-810D-8FE1C390162F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50D8-0215-403C-AFB9-0DCFCF5BC109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8CB-54D6-424C-A771-A11F8A723BD4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FB9-98F8-4A18-B9A5-384188CC1E53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0BAB-6CEF-4C21-8C5B-4BB80F74A4AB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3371-782D-4822-8AE1-CC32F9AC9DF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9320-5C77-4883-9DBA-9BF752818EC0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3C0E-590C-4275-85A8-59D8D12F7AA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3817-551C-43D9-BE76-883D492B190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0615-05EE-4C44-8993-9A45506B49A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1D1A-704A-49C7-88E5-AD41BE8018AF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68CF-12FA-41F2-9154-8AE884A61E0A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4D9-3584-4451-99FA-31877AEE300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1C88-93B6-4FEF-B68F-944A03D51B6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0, QUALITATIVE FIELD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ll 201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udi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The in-depth examination of a single instance of some social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xtend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echnique in which case study observations are used to discover flaws in and to improve existing social theor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8B25-DA95-4A2E-9DD5-6C1B30010FE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stitutiona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research technique in which the personal experiences of individuals are used to reveal power relationships and other characteristics of the institution within which they oper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9652-AD96-44D3-BCCE-53CAAED4B33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articipator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social research in which the people being studied are given control over the purpose and procedures of the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ded as a counter to the view that researchers are superior to those they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ancipatory Researc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Research conducted for the purpose of benefiting disadvantaged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337A-6E0F-4A38-B2C2-B3D93553B85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nducting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paring for the Fi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relevant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uss your plans with others in the ar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ntify and meet informants (when appropria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rst impressions are importa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tablish rapport (an open and trusting relationshi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hical consid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ED6C-94FD-4506-A42F-DF555AE5D3E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Qualitati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rview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Contrasted with survey interviewing, the qualitative interview is based on a set of topics to be discussed in depth rather than based on the use of standardized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ner” who digs for the truth or “Traveler” who wanders around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F6F-986F-4B4A-8C57-0CB749195D5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ges in Complete Interviewing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matizing – clarifying the subjects to be studied or explo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gning – laying out the process through which you’ll accomplish your purp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ing – doing the actual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cribing – written text of intervie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zing – determining the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ifying – checking the reliability and validity of the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orting – telling others what you’ve lear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12AF-F241-4222-8D40-D6D461B71B7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ocu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group of subjects interviewed together, prompting a discu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: real-life data, flexible, high degree of face validity, fast, 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advantages: not representative, little interviewer control, difficult analysis, interviewer/moderator skills, difficult logistic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553-640B-4EE7-9AE5-1C8F1D80B67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rding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e detailed notes, but balance with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write notes with observations soon after observations with filled in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mpirical observations and interpre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everyt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icip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FC9-B263-4344-9375-1BF3410C443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engths of Qualitative 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 for studying subtle nuances in attitudes and behaviors and social processes over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expens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knesses of Qualitative Field Resear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appropriate statistical analy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D002-765F-4350-B85B-3E6718C8D72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validity than survey and experimental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tial problems with relia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660-778B-4FAC-BE86-67EE212C5CC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opics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al Consideration in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ome Qualitative Field Research Paradig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ducting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and Weaknesses of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thics and Qualitative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438-92B4-4E8B-A112-894503F8764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9C82-7EF5-4D9D-BC49-6F2277933B5B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you use field research, you’re confronted with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about the role you’ll play as an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r relationship with the people you are obser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97EA-47F5-47EC-8626-662EBC6FF36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you use field research, you’re confronted with decisions about the role you’ll play as an observer and your relationship with the people you are observ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879A-2326-4DC9-A9E8-B9217EB5CEC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9FFE-5F79-40FF-B0FF-7F7EE99F769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 is an old tradition in qualitative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66EE-C992-4DFB-B99B-06B8AA510E7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er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FB2F-F7D0-4E7D-BDF2-E4592A76276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vity describes when the subject of social research may react to the fact of being studied, thus altering their behavior from what it would have been normal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EC0B-39E8-4206-A35E-1C12AF7B5B3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In a _____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 gro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0105-3726-4510-8257-8E5F16FAC87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 focus group, typically 12-15 people are brought together to engage in a guided discussion on some top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C7C3-C290-43D0-9E5F-892CD05B1ED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In comparison to surveys and experiments, field research h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high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w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50AB-1818-4E84-883A-580EE42A848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that defy simply qua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 and behaviors best understood in their natural set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processes over 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2466-8AF4-4C6B-8A0A-C826DBFD405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arison to surveys and experiments, field research has high validity and low reli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2719-D735-4993-9E33-E50D1EF0118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lements of Social Life Appropriate to Field Research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s and Social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and Personal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and Cl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lements and Habi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Wor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cultures and Lifesty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DE39-D8EA-474C-9454-5C24AC73710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pecial Considerations in Qualitative Field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oles of the Obser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nt, Researcher, Ob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ctivity – The problem that the subjects of social research may react to the fact of being studied, thus altering their behavior from what it would have been normall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6280" indent="-29628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 to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j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ien / Marti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lexivity – the sense of things acting on themsel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C8FA-B698-4642-AAA4-B03831B0C6F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Qualitative Field Research Paradigm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nded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e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itutional Ethnograp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tory Ac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9B7B-0DE8-4C20-80A7-A36759F3CBA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aturalis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field research based on the assumption that an objective social reality exists and can be observed and reported accurate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thnograph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report on social life that focuses on detailed and accurate description rather than explan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2963-8392-4028-AD16-C4C8B75AD6C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Ethnomethodolo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n approach to the study of social life that focuses on the discovery of implicit, usually unspoken assumptions and agree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2992-C781-4D1D-B123-9A03FC1D6E2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Grounded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ory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n inductive approach to the study of social life that attempts to generate a theory from the constant comparing of unfolding observation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deli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comparatively – compare numerous incidents to avoid bi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tain multiple viewpoints – of those under stud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ically step back – to evaluate clea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an attitude of skepticis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llow the research procedures – “making comparisons, asking questions, and sampling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D68A-2FBE-43B9-B69E-B4F743275E2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Qualitative Field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02Z</dcterms:modified>
  <cp:revision>14</cp:revision>
  <dc:subject/>
  <dc:title>Slide 1</dc:title>
</cp:coreProperties>
</file>