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7684-0925-4765-8E19-B1B3142550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3D47-E011-480E-812A-C77497A02C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5D52-ED96-4E8F-90FC-76279C77CC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BB43-4F8B-408C-8ED9-E35AEB213E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8AEA-21C2-489A-AF54-3981024744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AC35-A11A-4214-8F8D-927CFD9894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76A8-432A-4124-8EC4-6B71B27DDE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9EB7-6FC1-4CFB-AEBB-18EF7B73A7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57F6-4472-4276-9437-C56F52F08C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7477-68BA-4AF0-978B-F43354E99F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031E-C2D5-4246-86B0-C9FFDBA87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DB1D-70F6-4C73-88CB-F20AD6CE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3B60-5448-469E-864D-4FCA80805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38D3-D177-477D-9419-9FE96872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EA2D9-1E18-43E1-8DF6-D863959CD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F283-1839-4CE3-9883-87F11087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A029-C9CA-4599-BDAF-AD635AC1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32EF-3088-4B03-999C-1CBE8BCD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6BE60-63CB-4F72-9838-EC29B4CF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3586-D16E-4AE7-83D0-669599C2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42B3-1339-4D68-A2B6-E290A059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F2FE-8EC7-4C37-8EDA-D5918EA0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5661-579C-4772-AB63-EF9B734A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1185-C0F6-4D2A-8156-A2E2D0EB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D6C5-131D-4C6A-AA78-3D8E82B2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6E2C-2032-4939-846B-E57E03493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CA4F-2C35-48CE-B36D-BCA6464FD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63F0B5-0F68-487E-94F4-0FB8DD49F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8D6F3B-84FE-4875-868E-16487AD3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743D52-CD0B-494E-BA74-4FB718BA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C0B899-F798-4B40-9BD5-C21F0315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68E2D6-C70A-46B5-959B-4FCAFD5C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DAE7-523F-4A41-90A1-8B23ED2D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443B17-E1D9-46DC-BD85-D89FE2EE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7CED6A-882F-448B-9EA5-E62D9F1D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11DF9E-C242-4A45-8500-E2A29170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69C69A-C81B-415D-A102-74B6A8B4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57F748-3DAF-4570-81BC-4AE1B7F7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F2E203-646E-4698-A971-C869D81E3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EC9C8D-07DB-4623-8347-64A422A11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A727DF-C925-4723-ADBA-0E68DE293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48AC32-B4F9-40C7-905F-BC3AFA4E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CB203F-29E9-4347-94E0-C086973C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9642-EF72-4359-A8FD-FE03CED4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739A77-14A5-447E-A224-210F0ADE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4CC654-955D-47C0-802B-1541B621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9B7D32-B288-414C-A05B-63E2326D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EB31F1-F822-493A-A0D2-0E3CEF68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67F7EB-18EF-45C2-8887-975BF77E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2EFE54-C4D7-42E4-8856-99D11616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7CDB0E-6994-4FDC-9196-A79088B6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440DAC-F866-4187-AB84-E2C107CF5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C55DDC-6ED8-4A26-948F-02F670889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5FB5C3-E9AB-4123-929A-60A65D029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3AC7-3937-4E42-A96C-01873B06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E1B48E-B5A3-4EF6-80CA-ED728503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CAF3DC-40BD-41CD-9EAB-0A713D8A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31F6DB-B203-4106-B19C-8CDB1D15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7B13FD-1E71-4A47-927D-704FE43C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DD4666-6D6F-4726-9F15-5D13AACB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7E2AFF-B44A-468A-A373-3DC9672C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88EA9B-8A78-42B7-8CB5-2D2AE951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0DD737-9E5A-4000-B678-0D11C5BF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FB1AA3-80FC-4936-BEF6-7B3773B7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9BF0A4-B173-46A9-A442-28B48F21E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A6C2-FD6D-49CB-B7BF-AED22BFD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A7C1C9-C445-4B51-A9AC-3350CCFA3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96AAE-509C-4856-BA4A-0402BE6DD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ED43A-78E8-4960-BF3E-90BE88AE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2DD43-29D3-41C9-BDE0-AFEAFF66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2F5BE-089A-4F9A-B002-7FC2F5F4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988E4-17CF-4FE5-A46F-F93CAEB2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A6AE5-519E-4D76-9C36-310B8175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E7AF8-92CC-4A9D-B624-57AACA0E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4FC38-A477-4EC2-B7DA-AAC4CA21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338CF-6BA9-41CE-9606-49404B9B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1FF1-0F75-41C8-8C3C-BCCD8195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BC4CD-5634-4E41-9260-8123664B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644EA-8E5A-4729-ABB7-AD28FFB3E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A4BBB-48E7-43D8-8EB5-BB9A51C26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C0B0B5-0BEC-4548-A35F-EA13F20DC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B6F4A3-DF28-4331-B5AE-8D40EFAC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E1B567-4F5A-419B-B094-119C8272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D071F4-D1FC-4A62-AC6F-57FC14A3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3E51D7-5051-4646-B7A0-1B8C11D7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00B1A0-B274-428C-A95C-6DE75B1E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09794B-0424-4D92-B093-BDD7B492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F0BD-C8E6-4ADC-8548-5780BA61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526759-1F3B-4889-8583-44B239D2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E4294E-3B7F-4FAE-B44E-C07F1756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A5A84C-BF23-4936-9C63-7D81C29A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7EEA33-92A1-4E9B-B3C4-18006A345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E0AFD0-4E67-4EE1-9A02-65DCF3BBA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6F469-1DDF-4CD0-8F5F-C7BEC359E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33D5A-F299-429E-B581-354466B0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F1CB8-9605-4B85-9953-B0AB0C73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14BDB-F441-4931-ADA0-33308A95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FF720-6123-4FE3-8281-E57E5EC2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FB57-5566-48AB-8921-5CC0DDEB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2AB9F-9513-4541-A75C-823E54E5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5AC6C-0930-4245-8FFC-519F9D53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62F97-D48E-48DF-8073-F6C5C5BE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08A06-698C-49CD-87FE-6DFFECD1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90E95-ECC3-449D-932E-F899CBDC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E57F4-B417-4D29-AE2A-382D0BD67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21D88-AAB5-4ABC-9FAB-25357B3F2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1D68-0E4C-423C-BA44-67C466795827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3B0D-0CB3-4087-90B2-7C476AC961DC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335E-EC14-421B-AC0E-B3E7796629DC}" type="datetime">
              <a:rPr b="0" lang="en-US" sz="2000" spc="-1" strike="noStrike">
                <a:solidFill>
                  <a:srgbClr val="ffffff"/>
                </a:solidFill>
                <a:latin typeface="Verdana"/>
              </a:rPr>
              <a:t>07/31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4d4d6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BAE8-174A-4FDA-B1FE-0E584DA0785F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246F-4800-4725-BF5C-251C2F8D9374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E82C-3D8B-4A7D-88B5-502D696CF9A8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EBFB-6AC3-4D89-97EB-9A21E51530E8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413A-CB5A-4E55-8091-5CE3BC95BFC9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18C3-5FB4-4BF7-A264-4BE748DDD781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F51E-BE36-4A99-8635-AC9D9E712961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E68C-2A2D-451E-BBBE-C228FE9BEA59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34F7-E52C-45CC-BCFA-40FDC8CFF145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FC36-3705-4BCC-9D6A-B52DB845D78C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AC93-3723-4FFF-B338-D8B93023AAB3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E700-EA9A-4CA2-8B65-83BDB788B4A9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6BEC-15E8-49E7-96D9-C36CB62E4BC3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4d4d6"/>
                </a:solidFill>
                <a:latin typeface="Verdana"/>
              </a:rPr>
              <a:t>CHAPTER 10, QUALITATIVE FIELD RESEARCH</a:t>
            </a:r>
            <a:endParaRPr b="0" lang="en-US" sz="40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Fall 2012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Cas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tudies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The in-depth examination of a single instance of some social phenomen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Extende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Cas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Metho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A technique in which case study observations are used to discover flaws in and to improve existing social theori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0214-41A0-4014-953E-33540B7CAB1E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Institutional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Ethnography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A research technique in which the personal experiences of individuals are used to reveal power relationships and other characteristics of the institution within which they operat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6443-7348-42C6-830E-A421958969D8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Participatory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Research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An approach to social research in which the people being studied are given control over the purpose and procedures of the research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nded as a counter to the view that researchers are superior to those they stud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mancipatory Researc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Research conducted for the purpose of benefiting disadvantaged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8F32-D8A1-4C1F-B023-FAD9241CA4C0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Conducting Qualitative Field Research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eparing for the Fiel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 familiar with relevant re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scuss your plans with others in the are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dentify and meet informants (when appropriat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First impressions are important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stablish rapport (an open and trusting relationship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hical consid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862D-221F-45AD-8B63-C1AB3FAAB9DC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Qualitativ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Interview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Contrasted with survey interviewing, the qualitative interview is based on a set of topics to be discussed in depth rather than based on the use of standardized questio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iner” who digs for the truth or “Traveler” who wanders around asking ques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A679-800E-49D4-8573-97A1D372DA19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ages in Complete Interviewing Proce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matizing – clarifying the subjects to be studied or explo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signing – laying out the process through which you’ll accomplish your purpo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erviewing – doing the actual interview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ranscribing – written text of interview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alyzing – determining the mean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rifying – checking the reliability and validity of the materia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porting – telling others what you’ve lear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1239-F972-45DF-ADFA-B749F5D8914D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Focus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Group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A group of subjects interviewed together, prompting a discuss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vantages: real-life data, flexible, high degree of face validity, fast, inexpensi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sadvantages: not representative, little interviewer control, difficult analysis, interviewer/moderator skills, difficult logistical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CF29-F8EB-4D04-885A-A6D38FE9B078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cording Observ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ke detailed notes, but balance with observ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write notes with observations soon after observations with filled in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cord empirical observations and interpret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cord everyth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ticipate observ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D1F8-66A5-4E7A-9B62-41234B073DB9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Strengths and Weaknesses of Qualitative Field Research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rengths of Qualitative Field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ffective for studying subtle nuances in attitudes and behaviors and social processes over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lexibi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expensi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eaknesses of Qualitative Field Research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 appropriate statistical analys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357C-621D-4B10-8370-EC00603165C0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alid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reater validity than survey and experimental measu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iabi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tential problems with reliabi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3149-3FC5-4FE2-8DEF-1D0147419795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opics Appropriate to Field Research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pecial Consideration in Qualitative Field Research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ome Qualitative Field Research Paradigm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onducting Qualitative Field Research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trengths and Weaknesses of Qualitative Field Research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Ethics and Qualitative Field Research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9709-FE9E-445F-80DE-FB45A999A46D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0" y="1752480"/>
            <a:ext cx="1295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4970-9C2A-4281-92A6-04517FFE102A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When you use field research, you’re confronted with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cisions about the role you’ll play as an observ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your relationship with the people you are observ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th of the above cho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ither of the above cho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AC66-7B9B-4278-AB73-BAA4FF596159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you use field research, you’re confronted with decisions about the role you’ll play as an observer and your relationship with the people you are observ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2165-FA8E-4AD8-BD35-9395812F8053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_____ is an old tradition in qualitative research based on the assumption that an objective social reality exists and can be observed and reported accuratel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aturalis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thnograph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thnomethodolog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AC05-2A3D-448F-9B72-4AAC95031671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aturalism is an old tradition in qualitative research based on the assumption that an objective social reality exists and can be observed and reported accuratel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ECC3-55B4-47B5-9451-B799480166DF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 _____ describes when the subject of social research may react to the fact of being studied, thus altering their behavior from what it would have been normall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activ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nsitiv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yperactiv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6010-CC6B-4F50-9D4D-FB677DE6816D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activity describes when the subject of social research may react to the fact of being studied, thus altering their behavior from what it would have been normall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86E2-3A64-4FF9-A196-BB72006B4E7A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 In a _____, typically 12-15 people are brought together to engage in a guided discussion on some topi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assroo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cus grou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icro stud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27E1-A4A2-4BE8-A069-46D15A4E1782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a focus group, typically 12-15 people are brought together to engage in a guided discussion on some topi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A16C-9D30-4EE2-A898-5E9D14BE525E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. In comparison to surveys and experiments, field research ha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igh validity and high reliabil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igh validity and low reliabil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w validity and high reliabil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w validity and low reliabil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5003-F10B-41F4-B794-C02BD0294B61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Topics Appropriate for Field Research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pics that defy simply quantific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ttitudes and behaviors best understood in their natural sett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cial processes over tim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4EDF-A013-4BE3-A780-71BA70E3ECB5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comparison to surveys and experiments, field research has high validity and low reliabil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2B34-F456-4535-A690-31666B5EEE56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Elements of Social Life Appropriate to Field Research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piso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coun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les and Social Typ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cial and Personal Relationshi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ups and Cl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ganiz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ttlements and Habit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cial Worl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cultures and Lifesty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A4FF-2CD1-4F71-BF4D-0EDEC6E70571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Special Considerations in Qualitative Field Research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oles of the Observ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594720" indent="-253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rticipant, Researcher, Ob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850320" indent="-2124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activity – The problem that the subjects of social research may react to the fact of being studied, thus altering their behavior from what it would have been normally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96280" indent="-29628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ations to Subjec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594720" indent="-253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bjectiv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94720" indent="-253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ien / Marti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94720" indent="-253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flexivity – the sense of things acting on themselv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42C1-B23C-4E69-BA23-E3B3850D475E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Some Qualitative Field Research Paradigms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aturalis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thnomethodolog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rounded Theo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se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stitutional Ethnograph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rticipatory Action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6DCD-EAF9-48C4-B4F5-5D8806537F71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Naturalism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An approach to field research based on the assumption that an objective social reality exists and can be observed and reported accuratel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thnography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A report on social life that focuses on detailed and accurate description rather than explan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19D4-2FFB-4FC3-9466-14F5C5C477EC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Ethnomethodology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An approach to the study of social life that focuses on the discovery of implicit, usually unspoken assumptions and agreemen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6A7F-F389-46B0-8686-5199138D2877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Grounded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Theory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– an inductive approach to the study of social life that attempts to generate a theory from the constant comparing of unfolding observation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idelin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nk comparatively – compare numerous incidents to avoid bias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btain multiple viewpoints – of those under stud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eriodically step back – to evaluate clea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intain an attitude of skepticis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llow the research procedures – “making comparisons, asking questions, and sampling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B09E-FD2C-4B20-A643-AA5A17BC0F00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18:02Z</dcterms:modified>
  <cp:revision>14</cp:revision>
  <dc:subject/>
  <dc:title>Slide 1</dc:title>
</cp:coreProperties>
</file>