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move the slide</a:t>
            </a:r>
            <a:endParaRPr b="0" lang="en-US" sz="4400" spc="-1" strike="noStrike">
              <a:solidFill>
                <a:srgbClr val="d4d4d6"/>
              </a:solidFill>
              <a:latin typeface="Verdana"/>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BBD2-5B5B-458B-845D-B7E61708B9C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0C014-8792-4004-B25F-28DBC897C4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9CED-7CCE-4BB7-B19F-FA76BECB74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E0A2-C118-4C97-8D56-F263B6DB3A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2330-C531-4CEB-AEF8-51EF76E557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EF59-03AF-4BAC-9F25-D0352043F5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80934-4E00-4F28-9E50-13799C81C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64A77-7F6C-4225-817E-5F358D0C0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E0884-13DD-40D6-B168-682EA339F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8E686-DCC3-49BA-AFB1-959BFB021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6A4BB-9FC2-4E20-AD84-0F4BAF35ED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8C3F8-1B31-4C6E-935A-1BC5417B1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0BCFD-283C-4E08-A57D-354E3C3F5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BB792-4571-4114-BFB8-E945B847E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D391E-3568-4684-B1A8-89159B8B7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FB413-B206-4EEF-B6F8-D158041C1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3A026-8A7B-43ED-B36D-44B6EF846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45B8E-51A4-4118-AE0E-A3E0CEB52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E84AC-3C88-47C9-9C58-CEABE1371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6D0A2-10A8-4F85-80B8-ED00A78DA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07C96-8910-4D19-8EC8-94679ED78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4FF537-2296-4B05-ABB7-671B9EFA56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54A841-AEBF-474C-9203-9B6A82D329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A2BC77D-4F4D-43B8-9A3F-9D45CE6B98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0B0A8C0-3666-4B00-B6FE-38ECFE7DB3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C58EC10-4775-491C-8CBD-7D7C59E28A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169FD3A-ACAD-4318-AA7F-A31E6BF5D2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FD66CD8-D3AF-464F-BEAB-0DC80DA710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60B85-C19B-49B1-BB6A-C88016074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789A26E-D244-4DDF-AD19-0F58513C5B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8AB43C3-9368-4EBB-ACC3-A3F5803651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28695AD-584E-4A00-AD27-4899998A0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6BBF181-2945-45E4-B002-73BBAC214D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9BE40AE-3972-4B06-B07A-F1625D44E5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8AE177D-4236-4D29-AE0B-EFD2E8C9CE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585301A-6BF5-4CDF-960E-11902EE281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4C3654F-37BA-4A8D-991B-2C48F215D5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F5C172C-9EA1-4A99-8C5A-1276E188C9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41B0A5C-4590-495B-BFFB-E136A4E4C9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8C924-F03F-4966-8CBB-646CDA66B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C8B403C-E298-4C54-B29F-8E1D134C57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E09963E-E4AC-4AE1-A63C-7B11A9769A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6704089-F25B-4E24-9AB6-2CF4B5864B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E0F6FA7-520E-4E35-B4C9-1763BCB7C4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F41FBB4-0E4A-46D4-AA87-239079AC19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1ACB7B2-78F3-416C-BE3E-B610EE9017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B9FDA34-4CC0-434E-B9AC-969318097A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1A6D89D-3726-4A2D-816E-05D21F1B27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CF675E1-C85D-4ABE-9510-A8F5F934BD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66079E4-F159-4451-85ED-3F9D943699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AFB35-4EE5-42E7-B713-18CE284C7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94A5309-FA4B-4E3D-85A1-FEC003DF37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7DB77E9-529E-46AC-BA62-55892B9143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FC308FE-0354-402C-8672-B15E766C68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5D5B05D-3093-430F-9EE7-BAF79D1655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E87CFF3-2CFD-4C4C-BA0A-7831002AD3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300A1AB-3E4A-4669-8C74-917F950B94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868EC8-8AB2-4FCC-AF38-7B28F30674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84B4267-E38A-4E8C-9E29-02F4F2D9B5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19A5FDF-48A8-4D3D-9A18-595C74A3D6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D109C47-D522-47B0-A3AD-EB32D5E5E3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7B78A-C45A-4FEB-A11E-96D29B77E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0B2B44A-11EC-4ED1-B75B-7CBA195DB6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7831E3-FDDF-4CF1-8CE0-B054E5B72F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1B673D-7048-46A8-9091-B82D998F0F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2D414C-04D5-49DE-B3B3-D9C8E64259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9C5E3E-9F11-4FC7-8DA5-7028E85201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CC6343-C989-4915-A5B7-7AA5F492B9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F73820-4ADC-47A4-BA7D-248A59918A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4C9A9A-DFDF-4EE2-B7ED-31ED4B332C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848924-859A-4C4D-B9FB-86728E7D7B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8026E0-34CF-4D56-95EA-09261BA08F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F42DA-EE8E-46C0-BCEF-A983FBF99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F30558-C2D0-4BEF-803B-A0E64AAB10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42F43B-47D4-492C-A48D-732773ABEC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22938C-0154-4B68-BFAB-7C840EA465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5E8F1D2-CE49-4158-848F-3509941D0B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0799F98-53A1-4C90-BD8D-306A3F5FD0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9019F4C-C642-45E4-A816-AD26ECABAA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326D7E1-3DEE-420F-9B70-CD1CA35017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F20F7A3-83D5-4078-95C8-AD75B7DD1F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B325B89-E8D1-47D1-BEBD-B9595F2759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6AF6E6B-CF93-4523-B589-77C5264B2C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69F37-FD02-4BC0-BDAB-E9CAC875A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AC22C29-E1C8-41EE-9071-094FFAEB98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A21B2BF-642A-4A93-A53C-E75DEBC278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26CA568-37B1-4826-9532-4378F88487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9F1CD69-BFD9-4E25-AE4D-1034E07570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F89A87C-D9D9-4408-9E7A-B98DFFC06F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4D14D6-8F68-4918-A38E-A01B9DA7CD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E58A29-A8FB-4685-8606-8BD6BF80C9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65F079-5E25-4479-AD36-9198349D26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A4CA55-2146-4AC7-A1B6-A0FF20A6D7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E678D6-B8D3-4811-BB8E-E6D353E50A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2BB36-F22F-4B2F-8E54-EA6376DBD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9B672B-25A0-4D79-8ED8-4189152169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E87408-BA44-4A22-9178-5A204DE655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0EC7BF-CE1B-44B1-990F-9AD8580197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CA9791-DB0F-4BEE-A055-0610E0F7A7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2C8C64-2185-43B1-931D-219A172CE1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4A1B08-1B2D-44DA-81EA-7155E5E644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F205C2-11BD-4D79-8B1C-6E90771D0B3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415D-7FB8-4860-8168-8EBDF3C5ACBA}"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2B2E0-234A-44AF-A83E-3C5EAF57320F}"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A570E-8E7D-4B2B-90C2-6EB146E467BC}" type="datetime">
              <a:rPr b="0" lang="en-US" sz="2000" spc="-1" strike="noStrike">
                <a:solidFill>
                  <a:srgbClr val="ffffff"/>
                </a:solidFill>
                <a:latin typeface="Verdana"/>
              </a:rPr>
              <a:t>07/31/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D732-BDE3-405B-A134-F66B4FC7FADB}"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C2EA8-279D-4FC3-96DF-B1DF68914445}"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7083-A0E0-4712-BE85-BAAB3AF49BC9}"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0B1C-197B-4584-8BA6-850C2C7ECF82}"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4360-7504-445D-9397-C3D8D34D4A43}"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E4EA7-A6A8-4C29-9BFA-F25499F88058}"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CAF9-8B57-4554-8BE6-1338A9036C24}"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89B0-F802-48BA-B606-4415CD6CEDED}"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CDC6-EEE2-4641-A668-4CA4246085E8}"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A4D60-E622-456F-AB90-5BD81A63FDD5}"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9CF1-5010-4939-A011-EE035298A4F5}"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C8E95-BE6A-4C36-A120-AE592BE0D7D1}" type="datetime">
              <a:rPr b="0" lang="en-US" sz="1400" spc="-1" strike="noStrike">
                <a:solidFill>
                  <a:srgbClr val="5a6378"/>
                </a:solidFill>
                <a:latin typeface="Verdana"/>
              </a:rPr>
              <a:t>07/31/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806D-A721-48F1-8982-2E270469952D}"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HAPTER 8, EXPERIMENTS</a:t>
            </a:r>
            <a:endParaRPr b="0" lang="en-US" sz="4400" spc="-1" strike="noStrike">
              <a:solidFill>
                <a:srgbClr val="d4d4d6"/>
              </a:solidFill>
              <a:latin typeface="Verdana"/>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59"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92346-6DED-4803-AD0B-B8030C8CBBA1}" type="slidenum">
              <a:rPr b="1" lang="en-US" sz="1400" spc="-1" strike="noStrike">
                <a:solidFill>
                  <a:srgbClr val="d4d4d6"/>
                </a:solidFill>
                <a:latin typeface="Verdan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awthorne Effect</a:t>
            </a:r>
            <a:endParaRPr b="0" lang="en-US" sz="2900" spc="-1" strike="noStrike">
              <a:solidFill>
                <a:srgbClr val="000000"/>
              </a:solidFill>
              <a:latin typeface="Verdana"/>
            </a:endParaRPr>
          </a:p>
        </p:txBody>
      </p:sp>
      <p:sp>
        <p:nvSpPr>
          <p:cNvPr id="38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A071-76D3-4222-839D-7CDC3EDB123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The Double-Blind Experiment </a:t>
            </a:r>
            <a:r>
              <a:rPr b="0" lang="en-US" sz="2900" spc="-1" strike="noStrike">
                <a:solidFill>
                  <a:srgbClr val="000000"/>
                </a:solidFill>
                <a:latin typeface="Verdana"/>
              </a:rPr>
              <a:t>– An experimental design in which neither the subjects nor the experimenters know which is the experimental and which is the control group.</a:t>
            </a:r>
            <a:endParaRPr b="0" lang="en-US" sz="2900" spc="-1" strike="noStrike">
              <a:solidFill>
                <a:srgbClr val="000000"/>
              </a:solidFill>
              <a:latin typeface="Verdana"/>
            </a:endParaRPr>
          </a:p>
        </p:txBody>
      </p:sp>
      <p:sp>
        <p:nvSpPr>
          <p:cNvPr id="39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283CB-88CC-4423-8EF7-537485AF9CB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Selecting Subjects</a:t>
            </a:r>
            <a:endParaRPr b="0" lang="en-US" sz="4400" spc="-1" strike="noStrike">
              <a:solidFill>
                <a:srgbClr val="5a6378"/>
              </a:solidFill>
              <a:latin typeface="Verdana"/>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ole of college student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eneralizability?</a:t>
            </a:r>
            <a:endParaRPr b="0" lang="en-US" sz="2900" spc="-1" strike="noStrike">
              <a:solidFill>
                <a:srgbClr val="000000"/>
              </a:solidFill>
              <a:latin typeface="Verdana"/>
            </a:endParaRPr>
          </a:p>
        </p:txBody>
      </p:sp>
      <p:sp>
        <p:nvSpPr>
          <p:cNvPr id="39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F4D3-3D60-4E78-8972-DC12126CE59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5"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robability Sampling</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Randomization</a:t>
            </a:r>
            <a:r>
              <a:rPr b="0" lang="en-US" sz="2700" spc="-1" strike="noStrike">
                <a:solidFill>
                  <a:srgbClr val="000000"/>
                </a:solidFill>
                <a:latin typeface="Verdana"/>
              </a:rPr>
              <a:t> – A technique for assigning experimental subjects to experimental and control groups.</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Matching</a:t>
            </a:r>
            <a:r>
              <a:rPr b="0" lang="en-US" sz="2700" spc="-1" strike="noStrike">
                <a:solidFill>
                  <a:srgbClr val="000000"/>
                </a:solidFill>
                <a:latin typeface="Verdana"/>
              </a:rPr>
              <a:t> – The procedure whereby pairs of subjects are matched on the basis of their similarities on one or more variables, and one member of the pair is assigned to the experimental group and the other to the control group.</a:t>
            </a:r>
            <a:endParaRPr b="0" lang="en-US" sz="2700" spc="-1" strike="noStrike">
              <a:solidFill>
                <a:srgbClr val="000000"/>
              </a:solidFill>
              <a:latin typeface="Verdana"/>
            </a:endParaRPr>
          </a:p>
        </p:txBody>
      </p:sp>
      <p:sp>
        <p:nvSpPr>
          <p:cNvPr id="39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48FD-7942-43F5-9291-1BC9B2E80C7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2</a:t>
            </a:r>
            <a:endParaRPr b="0" lang="en-US" sz="4400" spc="-1" strike="noStrike">
              <a:solidFill>
                <a:srgbClr val="5a6378"/>
              </a:solidFill>
              <a:latin typeface="Verdana"/>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99" name="Picture 2" descr=""/>
          <p:cNvPicPr/>
          <p:nvPr/>
        </p:nvPicPr>
        <p:blipFill>
          <a:blip r:embed="rId1"/>
          <a:stretch/>
        </p:blipFill>
        <p:spPr>
          <a:xfrm>
            <a:off x="533520" y="1600200"/>
            <a:ext cx="8267760" cy="4049640"/>
          </a:xfrm>
          <a:prstGeom prst="rect">
            <a:avLst/>
          </a:prstGeom>
          <a:ln w="0">
            <a:noFill/>
          </a:ln>
        </p:spPr>
      </p:pic>
      <p:sp>
        <p:nvSpPr>
          <p:cNvPr id="400"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08690-BA53-452A-BEC8-1BE67C21AAE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Variations on Experimental Design</a:t>
            </a:r>
            <a:endParaRPr b="0" lang="en-US" sz="4000" spc="-1" strike="noStrike">
              <a:solidFill>
                <a:srgbClr val="5a6378"/>
              </a:solidFill>
              <a:latin typeface="Verdana"/>
            </a:endParaRPr>
          </a:p>
        </p:txBody>
      </p:sp>
      <p:sp>
        <p:nvSpPr>
          <p:cNvPr id="402"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re-experimental Research Designs</a:t>
            </a:r>
            <a:endParaRPr b="0" lang="en-US" sz="27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ne-shot case study </a:t>
            </a:r>
            <a:r>
              <a:rPr b="0" lang="en-US" sz="2400" spc="-1" strike="noStrike">
                <a:solidFill>
                  <a:srgbClr val="000000"/>
                </a:solidFill>
                <a:latin typeface="Verdana"/>
              </a:rPr>
              <a:t>– A single group of subjects is measured on a dependent variable following an experimental stimulus.</a:t>
            </a: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ne-group pre-test post-test design </a:t>
            </a:r>
            <a:r>
              <a:rPr b="0" lang="en-US" sz="2400" spc="-1" strike="noStrike">
                <a:solidFill>
                  <a:srgbClr val="000000"/>
                </a:solidFill>
                <a:latin typeface="Verdana"/>
              </a:rPr>
              <a:t>– A pre-test is added for the experimental group but lacks a control group.</a:t>
            </a: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ic-group comparison </a:t>
            </a:r>
            <a:r>
              <a:rPr b="0" lang="en-US" sz="2400" spc="-1" strike="noStrike">
                <a:solidFill>
                  <a:srgbClr val="000000"/>
                </a:solidFill>
                <a:latin typeface="Verdana"/>
              </a:rPr>
              <a:t>– Includes experimental and control groups, but no pre-test.</a:t>
            </a:r>
            <a:endParaRPr b="0" lang="en-US" sz="2400" spc="-1" strike="noStrike">
              <a:solidFill>
                <a:srgbClr val="000000"/>
              </a:solidFill>
              <a:latin typeface="Verdana"/>
            </a:endParaRPr>
          </a:p>
        </p:txBody>
      </p:sp>
      <p:sp>
        <p:nvSpPr>
          <p:cNvPr id="40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A619E-6D59-4BBC-B351-855DEF41379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3</a:t>
            </a:r>
            <a:endParaRPr b="0" lang="en-US" sz="4400" spc="-1" strike="noStrike">
              <a:solidFill>
                <a:srgbClr val="5a6378"/>
              </a:solidFill>
              <a:latin typeface="Verdana"/>
            </a:endParaRPr>
          </a:p>
        </p:txBody>
      </p:sp>
      <p:sp>
        <p:nvSpPr>
          <p:cNvPr id="40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6" name="Picture 2" descr=""/>
          <p:cNvPicPr/>
          <p:nvPr/>
        </p:nvPicPr>
        <p:blipFill>
          <a:blip r:embed="rId1"/>
          <a:stretch/>
        </p:blipFill>
        <p:spPr>
          <a:xfrm>
            <a:off x="2514600" y="1238400"/>
            <a:ext cx="6400800" cy="5391000"/>
          </a:xfrm>
          <a:prstGeom prst="rect">
            <a:avLst/>
          </a:prstGeom>
          <a:ln w="0">
            <a:noFill/>
          </a:ln>
        </p:spPr>
      </p:pic>
      <p:sp>
        <p:nvSpPr>
          <p:cNvPr id="40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FBB4F-F297-40EE-A3BB-73F3BB66FA3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9" name=""/>
          <p:cNvSpPr txBox="1"/>
          <p:nvPr/>
        </p:nvSpPr>
        <p:spPr>
          <a:xfrm>
            <a:off x="612360" y="1600200"/>
            <a:ext cx="8226360" cy="510552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alidity Issues in Experimental Research</a:t>
            </a:r>
            <a:endParaRPr b="0" lang="en-US" sz="25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Internal Validity </a:t>
            </a:r>
            <a:r>
              <a:rPr b="0" lang="en-US" sz="2200" spc="-1" strike="noStrike">
                <a:solidFill>
                  <a:srgbClr val="000000"/>
                </a:solidFill>
                <a:latin typeface="Verdana"/>
              </a:rPr>
              <a:t>– The possibility that the conclusions drawn from experimental results may not accurately reflect what went on in the experiment itself.</a:t>
            </a:r>
            <a:endParaRPr b="0" lang="en-US" sz="22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s: history (during exp, events happen outside that may confound the results),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uration (subjects change over time),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dministering the test changes them),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rumentation (changes in the survey for instance),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stical regression (extreme scores necessarily level out over time even w/out IV),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ion bias (comparisons have no meaning unless the groups are comparable at the beginning of exp),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erimental mortality (some participants drop out),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ralization (deprivation in the control group may lead to dropping out)</a:t>
            </a:r>
            <a:endParaRPr b="0" lang="en-US" sz="2000" spc="-1" strike="noStrike">
              <a:solidFill>
                <a:srgbClr val="000000"/>
              </a:solidFill>
              <a:latin typeface="Verdana"/>
            </a:endParaRPr>
          </a:p>
        </p:txBody>
      </p:sp>
      <p:sp>
        <p:nvSpPr>
          <p:cNvPr id="410"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CE00E-85D8-46B5-A13A-C5EAFB2BA20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2" name=""/>
          <p:cNvSpPr txBox="1"/>
          <p:nvPr/>
        </p:nvSpPr>
        <p:spPr>
          <a:xfrm>
            <a:off x="612720" y="1600200"/>
            <a:ext cx="8153280" cy="4495680"/>
          </a:xfrm>
          <a:prstGeom prst="rect">
            <a:avLst/>
          </a:prstGeom>
          <a:noFill/>
          <a:ln w="0">
            <a:noFill/>
          </a:ln>
        </p:spPr>
        <p:txBody>
          <a:bodyPr anchor="t">
            <a:normAutofit/>
          </a:bodyPr>
          <a:p>
            <a:pPr lvl="1"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xternal Validity </a:t>
            </a:r>
            <a:r>
              <a:rPr b="0" lang="en-US" sz="2600" spc="-1" strike="noStrike">
                <a:solidFill>
                  <a:srgbClr val="000000"/>
                </a:solidFill>
                <a:latin typeface="Verdana"/>
              </a:rPr>
              <a:t>– The possibility that conclusions drawn from experimental results may not be generalizable to the “real” world</a:t>
            </a:r>
            <a:endParaRPr b="0" lang="en-US" sz="26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1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A135-664A-41A1-B6C1-048C5BB044A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Figure 8.4 – The Classical Experiment</a:t>
            </a:r>
            <a:endParaRPr b="0" lang="en-US" sz="4000" spc="-1" strike="noStrike">
              <a:solidFill>
                <a:srgbClr val="5a6378"/>
              </a:solidFill>
              <a:latin typeface="Verdana"/>
            </a:endParaRPr>
          </a:p>
        </p:txBody>
      </p:sp>
      <p:sp>
        <p:nvSpPr>
          <p:cNvPr id="41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16" name="Picture 2" descr=""/>
          <p:cNvPicPr/>
          <p:nvPr/>
        </p:nvPicPr>
        <p:blipFill>
          <a:blip r:embed="rId1"/>
          <a:stretch/>
        </p:blipFill>
        <p:spPr>
          <a:xfrm>
            <a:off x="609480" y="1581120"/>
            <a:ext cx="8169480" cy="4133880"/>
          </a:xfrm>
          <a:prstGeom prst="rect">
            <a:avLst/>
          </a:prstGeom>
          <a:ln w="0">
            <a:noFill/>
          </a:ln>
        </p:spPr>
      </p:pic>
      <p:sp>
        <p:nvSpPr>
          <p:cNvPr id="41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D971B-F574-4AFC-9BBD-49109681C99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pics Appropriate to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Classical Experiment</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lecting Subjec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ariations on Experimental Design</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n Illustration of Experimentation</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b-Based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t>
            </a:r>
            <a:r>
              <a:rPr b="0" lang="en-US" sz="2500" spc="-1" strike="noStrike">
                <a:solidFill>
                  <a:srgbClr val="000000"/>
                </a:solidFill>
                <a:latin typeface="Verdana"/>
              </a:rPr>
              <a:t>Natural”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trengths and Weaknesses of the Experimental Method</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thics and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Quick Quiz</a:t>
            </a:r>
            <a:endParaRPr b="0" lang="en-US" sz="2500" spc="-1" strike="noStrike">
              <a:solidFill>
                <a:srgbClr val="000000"/>
              </a:solidFill>
              <a:latin typeface="Verdana"/>
            </a:endParaRPr>
          </a:p>
        </p:txBody>
      </p:sp>
      <p:sp>
        <p:nvSpPr>
          <p:cNvPr id="3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5DFC-1D7C-4B9D-B650-063D7DD095E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5</a:t>
            </a:r>
            <a:endParaRPr b="0" lang="en-US" sz="4400" spc="-1" strike="noStrike">
              <a:solidFill>
                <a:srgbClr val="5a6378"/>
              </a:solidFill>
              <a:latin typeface="Verdana"/>
            </a:endParaRPr>
          </a:p>
        </p:txBody>
      </p:sp>
      <p:sp>
        <p:nvSpPr>
          <p:cNvPr id="41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20" name="Picture 2" descr=""/>
          <p:cNvPicPr/>
          <p:nvPr/>
        </p:nvPicPr>
        <p:blipFill>
          <a:blip r:embed="rId1"/>
          <a:stretch/>
        </p:blipFill>
        <p:spPr>
          <a:xfrm>
            <a:off x="4114800" y="295200"/>
            <a:ext cx="4800600" cy="6323040"/>
          </a:xfrm>
          <a:prstGeom prst="rect">
            <a:avLst/>
          </a:prstGeom>
          <a:ln w="0">
            <a:noFill/>
          </a:ln>
        </p:spPr>
      </p:pic>
      <p:sp>
        <p:nvSpPr>
          <p:cNvPr id="421"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A41ED-1C64-4077-A611-87D47BA725F2}"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An Illustration of Experimentation</a:t>
            </a:r>
            <a:endParaRPr b="0" lang="en-US" sz="4000" spc="-1" strike="noStrike">
              <a:solidFill>
                <a:srgbClr val="5a6378"/>
              </a:solidFill>
              <a:latin typeface="Verdana"/>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Field Experiments </a:t>
            </a:r>
            <a:r>
              <a:rPr b="0" lang="en-US" sz="2900" spc="-1" strike="noStrike">
                <a:solidFill>
                  <a:srgbClr val="000000"/>
                </a:solidFill>
                <a:latin typeface="Verdana"/>
              </a:rPr>
              <a:t>– formal experiment, conducted outside the laboratory, in a natural setting</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 Tests of “spurters” in the classroom</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 Resumes with different names, or criminal records</a:t>
            </a:r>
            <a:endParaRPr b="0" lang="en-US" sz="26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2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F59E1-E4B8-40B8-B0F5-5C543D7C642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Web-Based Experiments</a:t>
            </a:r>
            <a:endParaRPr b="0" lang="en-US" sz="4400" spc="-1" strike="noStrike">
              <a:solidFill>
                <a:srgbClr val="5a6378"/>
              </a:solidFill>
              <a:latin typeface="Verdana"/>
            </a:endParaRPr>
          </a:p>
        </p:txBody>
      </p:sp>
      <p:sp>
        <p:nvSpPr>
          <p:cNvPr id="4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presentative samples are </a:t>
            </a:r>
            <a:r>
              <a:rPr b="0" i="1" lang="en-US" sz="2900" spc="-1" strike="noStrike">
                <a:solidFill>
                  <a:srgbClr val="000000"/>
                </a:solidFill>
                <a:latin typeface="Verdana"/>
              </a:rPr>
              <a:t>not</a:t>
            </a:r>
            <a:r>
              <a:rPr b="0" lang="en-US" sz="2900" spc="-1" strike="noStrike">
                <a:solidFill>
                  <a:srgbClr val="000000"/>
                </a:solidFill>
                <a:latin typeface="Verdana"/>
              </a:rPr>
              <a:t> essential…therefore, volunteers may be used.</a:t>
            </a:r>
            <a:endParaRPr b="0" lang="en-US" sz="2900" spc="-1" strike="noStrike">
              <a:solidFill>
                <a:srgbClr val="000000"/>
              </a:solidFill>
              <a:latin typeface="Verdana"/>
            </a:endParaRPr>
          </a:p>
        </p:txBody>
      </p:sp>
      <p:sp>
        <p:nvSpPr>
          <p:cNvPr id="42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319C-699A-41B4-8766-DF85AE14135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a:t>
            </a:r>
            <a:r>
              <a:rPr b="0" lang="en-US" sz="4400" spc="-1" strike="noStrike">
                <a:solidFill>
                  <a:srgbClr val="5a6378"/>
                </a:solidFill>
                <a:latin typeface="Verdana"/>
              </a:rPr>
              <a:t>Natural” Experiments</a:t>
            </a:r>
            <a:endParaRPr b="0" lang="en-US" sz="4400" spc="-1" strike="noStrike">
              <a:solidFill>
                <a:srgbClr val="5a6378"/>
              </a:solidFill>
              <a:latin typeface="Verdana"/>
            </a:endParaRPr>
          </a:p>
        </p:txBody>
      </p:sp>
      <p:sp>
        <p:nvSpPr>
          <p:cNvPr id="42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s that occur outside controlled setting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 Superstorm “Sandy” or Hurricane Katrina</a:t>
            </a:r>
            <a:endParaRPr b="0" lang="en-US" sz="2900" spc="-1" strike="noStrike">
              <a:solidFill>
                <a:srgbClr val="000000"/>
              </a:solidFill>
              <a:latin typeface="Verdana"/>
            </a:endParaRPr>
          </a:p>
        </p:txBody>
      </p:sp>
      <p:sp>
        <p:nvSpPr>
          <p:cNvPr id="43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96A6-DE7B-45D3-B6FC-9804321CF74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Strengths and Weaknesses of the Experimental Method</a:t>
            </a:r>
            <a:endParaRPr b="0" lang="en-US" sz="4000" spc="-1" strike="noStrike">
              <a:solidFill>
                <a:srgbClr val="5a6378"/>
              </a:solidFill>
              <a:latin typeface="Verdana"/>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trengths of Experimental Method</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olation of experimental variable’s impact over tim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plication</a:t>
            </a:r>
            <a:endParaRPr b="0" lang="en-US" sz="26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aknesses of Experimental Method</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rtificiality of laboratory settings</a:t>
            </a:r>
            <a:endParaRPr b="0" lang="en-US" sz="2600" spc="-1" strike="noStrike">
              <a:solidFill>
                <a:srgbClr val="000000"/>
              </a:solidFill>
              <a:latin typeface="Verdana"/>
            </a:endParaRPr>
          </a:p>
        </p:txBody>
      </p:sp>
      <p:sp>
        <p:nvSpPr>
          <p:cNvPr id="43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B50F-1C71-4F57-9533-AB6811998DB7}"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The Placebo Effect</a:t>
            </a:r>
            <a:endParaRPr b="0" lang="en-US" sz="4400" spc="-1" strike="noStrike">
              <a:solidFill>
                <a:srgbClr val="5a6378"/>
              </a:solidFill>
              <a:latin typeface="Verdana"/>
            </a:endParaRPr>
          </a:p>
        </p:txBody>
      </p:sp>
      <p:sp>
        <p:nvSpPr>
          <p:cNvPr id="43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6681-82FB-4277-9EE6-C9C553A4898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graphicFrame>
        <p:nvGraphicFramePr>
          <p:cNvPr id="437" name="ShockwaveFlash1"/>
          <p:cNvGraphicFramePr/>
          <p:nvPr/>
        </p:nvGraphicFramePr>
        <p:xfrm>
          <a:off x="533520" y="1600200"/>
          <a:ext cx="8305560" cy="4572000"/>
        </p:xfrm>
        <a:graphic>
          <a:graphicData uri="http://schemas.openxmlformats.org/presentationml/2006/ole">
            <p:oleObj r:id="rId1" spid="">
              <p:embed/>
              <p:pic>
                <p:nvPicPr>
                  <p:cNvPr id="438" name="ShockwaveFlash1" descr=""/>
                  <p:cNvPicPr/>
                  <p:nvPr/>
                </p:nvPicPr>
                <p:blipFill>
                  <a:blip r:embed="rId2"/>
                  <a:stretch/>
                </p:blipFill>
                <p:spPr>
                  <a:xfrm>
                    <a:off x="533520" y="1600200"/>
                    <a:ext cx="83055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440"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
        <p:nvSpPr>
          <p:cNvPr id="441"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7FCE-9421-42DF-BA97-62C14E0F6B71}" type="slidenum">
              <a:rPr b="1" lang="en-US" sz="2400" spc="-1" strike="noStrike">
                <a:solidFill>
                  <a:srgbClr val="ffffff"/>
                </a:solidFill>
                <a:latin typeface="Verdana"/>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3"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In the simplest experimental design, subjects are measured in terms of a/n _____ variable exposed to a/n _____ variabl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test; post-tes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ost-test, pre-tes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ndependent; dependen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dependent; independent</a:t>
            </a:r>
            <a:endParaRPr b="0" lang="en-US" sz="2900" spc="-1" strike="noStrike">
              <a:solidFill>
                <a:srgbClr val="000000"/>
              </a:solidFill>
              <a:latin typeface="Verdana"/>
            </a:endParaRPr>
          </a:p>
        </p:txBody>
      </p:sp>
      <p:sp>
        <p:nvSpPr>
          <p:cNvPr id="44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EA55-27DF-4A67-87B2-DBCF24AEA15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6"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 the simplest experimental design, subjects are measured in terms of a dependent variable exposed to an independent variable.</a:t>
            </a:r>
            <a:endParaRPr b="0" lang="en-US" sz="2900" spc="-1" strike="noStrike">
              <a:solidFill>
                <a:srgbClr val="000000"/>
              </a:solidFill>
              <a:latin typeface="Verdana"/>
            </a:endParaRPr>
          </a:p>
        </p:txBody>
      </p:sp>
      <p:sp>
        <p:nvSpPr>
          <p:cNvPr id="4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8202-6AA3-4ECF-B414-97132242B2D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9"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_____ groups are groups of subjects to whom an experimental stimulus is administered.</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tro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urposiv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test</a:t>
            </a:r>
            <a:endParaRPr b="0" lang="en-US" sz="2900" spc="-1" strike="noStrike">
              <a:solidFill>
                <a:srgbClr val="000000"/>
              </a:solidFill>
              <a:latin typeface="Verdana"/>
            </a:endParaRPr>
          </a:p>
        </p:txBody>
      </p:sp>
      <p:sp>
        <p:nvSpPr>
          <p:cNvPr id="45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E1F1-F8C0-42A0-B8EC-C555F938431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s involve:</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king action</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bserving consequences of that action</a:t>
            </a:r>
            <a:endParaRPr b="0" lang="en-US" sz="2600" spc="-1" strike="noStrike">
              <a:solidFill>
                <a:srgbClr val="000000"/>
              </a:solidFill>
              <a:latin typeface="Verdana"/>
            </a:endParaRPr>
          </a:p>
        </p:txBody>
      </p:sp>
      <p:sp>
        <p:nvSpPr>
          <p:cNvPr id="3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F2F3-B351-4C6E-AEB3-A8FB7877CFD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2" name=""/>
          <p:cNvSpPr txBox="1"/>
          <p:nvPr/>
        </p:nvSpPr>
        <p:spPr>
          <a:xfrm>
            <a:off x="612720" y="1600200"/>
            <a:ext cx="8153280" cy="44956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al groups are groups of subjects to whom an experimental stimulus is administered.</a:t>
            </a:r>
            <a:endParaRPr b="0" lang="en-US" sz="2900" spc="-1" strike="noStrike">
              <a:solidFill>
                <a:srgbClr val="000000"/>
              </a:solidFill>
              <a:latin typeface="Verdana"/>
            </a:endParaRPr>
          </a:p>
        </p:txBody>
      </p:sp>
      <p:sp>
        <p:nvSpPr>
          <p:cNvPr id="45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FAB0-B208-4894-99AF-FC9413E0284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5"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_____ is a technique for assigning experimental subjects to experimental and control groups randoml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nprobability analys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atch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andomizat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trolling</a:t>
            </a:r>
            <a:endParaRPr b="0" lang="en-US" sz="2900" spc="-1" strike="noStrike">
              <a:solidFill>
                <a:srgbClr val="000000"/>
              </a:solidFill>
              <a:latin typeface="Verdana"/>
            </a:endParaRPr>
          </a:p>
        </p:txBody>
      </p:sp>
      <p:sp>
        <p:nvSpPr>
          <p:cNvPr id="45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F3EA-E96D-41D3-B0DB-3E5D823E36C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8"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andomization is a technique for assigning experimental subjects to experimental and control groups randomly.</a:t>
            </a:r>
            <a:endParaRPr b="0" lang="en-US" sz="2900" spc="-1" strike="noStrike">
              <a:solidFill>
                <a:srgbClr val="000000"/>
              </a:solidFill>
              <a:latin typeface="Verdana"/>
            </a:endParaRPr>
          </a:p>
        </p:txBody>
      </p:sp>
      <p:sp>
        <p:nvSpPr>
          <p:cNvPr id="45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54612-C83D-4D9E-893F-F5B080C4814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4. Experiments are especially well-suited for research projects involv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limited concept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well-defined concept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hypothesis test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 choices</a:t>
            </a:r>
            <a:endParaRPr b="0" lang="en-US" sz="2900" spc="-1" strike="noStrike">
              <a:solidFill>
                <a:srgbClr val="000000"/>
              </a:solidFill>
              <a:latin typeface="Verdana"/>
            </a:endParaRPr>
          </a:p>
        </p:txBody>
      </p:sp>
      <p:sp>
        <p:nvSpPr>
          <p:cNvPr id="4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8648-2EB1-43EE-9643-62D83DE3A4D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4"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s are especially well-suited for research projects involving limited concepts, well-defined concepts, and hypothesis testing.</a:t>
            </a:r>
            <a:endParaRPr b="0" lang="en-US" sz="2900" spc="-1" strike="noStrike">
              <a:solidFill>
                <a:srgbClr val="000000"/>
              </a:solidFill>
              <a:latin typeface="Verdana"/>
            </a:endParaRPr>
          </a:p>
        </p:txBody>
      </p:sp>
      <p:sp>
        <p:nvSpPr>
          <p:cNvPr id="4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FCBE-3A7F-4690-8923-4827D57F5F08}"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7"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_____ refers to the possibility that the conclusion drawn from experimental results may not accurately reflect what has gone on in the experiment itself.</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clus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nternal validit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ternal validit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presentativeness</a:t>
            </a:r>
            <a:endParaRPr b="0" lang="en-US" sz="2900" spc="-1" strike="noStrike">
              <a:solidFill>
                <a:srgbClr val="000000"/>
              </a:solidFill>
              <a:latin typeface="Verdana"/>
            </a:endParaRPr>
          </a:p>
        </p:txBody>
      </p:sp>
      <p:sp>
        <p:nvSpPr>
          <p:cNvPr id="46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48B2-AC83-4DB9-A4C9-D62713DCFB47}"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70"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ernal validity refers to the possibility that the conclusion drawn from experimental results may not accurately reflect what has gone on in the experiment itself.</a:t>
            </a:r>
            <a:endParaRPr b="0" lang="en-US" sz="2900" spc="-1" strike="noStrike">
              <a:solidFill>
                <a:srgbClr val="000000"/>
              </a:solidFill>
              <a:latin typeface="Verdana"/>
            </a:endParaRPr>
          </a:p>
        </p:txBody>
      </p:sp>
      <p:sp>
        <p:nvSpPr>
          <p:cNvPr id="4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CAF64-A1F3-4C69-A572-0E3038CCD47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73"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6. Which of the following is the chief advantage of a controlled experimen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y require little tim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y require little mone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y are artificia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 experimental variable is isolated.</a:t>
            </a:r>
            <a:endParaRPr b="0" lang="en-US" sz="2900" spc="-1" strike="noStrike">
              <a:solidFill>
                <a:srgbClr val="000000"/>
              </a:solidFill>
              <a:latin typeface="Verdana"/>
            </a:endParaRPr>
          </a:p>
        </p:txBody>
      </p:sp>
      <p:sp>
        <p:nvSpPr>
          <p:cNvPr id="47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3A1F-BE80-4CAD-8FD0-3224E131B3A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76"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isolation of the experimental variable is the chief advantage of a controlled experiment.</a:t>
            </a:r>
            <a:endParaRPr b="0" lang="en-US" sz="2900" spc="-1" strike="noStrike">
              <a:solidFill>
                <a:srgbClr val="000000"/>
              </a:solidFill>
              <a:latin typeface="Verdana"/>
            </a:endParaRPr>
          </a:p>
        </p:txBody>
      </p:sp>
      <p:sp>
        <p:nvSpPr>
          <p:cNvPr id="47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34EC-9B24-40AE-9901-2859A4B8A0D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opics Appropriate to Experiments</a:t>
            </a:r>
            <a:endParaRPr b="0" lang="en-US" sz="40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ll-suited for projects involving limited and well-defined concepts and proposition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othesis testing</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tter suited for explanatory than descriptiv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mall group interaction</a:t>
            </a:r>
            <a:endParaRPr b="0" lang="en-US" sz="2600" spc="-1" strike="noStrike">
              <a:solidFill>
                <a:srgbClr val="000000"/>
              </a:solidFill>
              <a:latin typeface="Verdana"/>
            </a:endParaRPr>
          </a:p>
        </p:txBody>
      </p:sp>
      <p:sp>
        <p:nvSpPr>
          <p:cNvPr id="36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0B968-4418-4C52-B064-72F056EA2B8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The Classical Experiment</a:t>
            </a:r>
            <a:endParaRPr b="0" lang="en-US" sz="4400" spc="-1" strike="noStrike">
              <a:solidFill>
                <a:srgbClr val="5a6378"/>
              </a:solidFill>
              <a:latin typeface="Verdana"/>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jor Components</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ependent and Dependent Variable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testing and Post-testing</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perimental and Control Groups</a:t>
            </a:r>
            <a:endParaRPr b="0" lang="en-US" sz="2600" spc="-1" strike="noStrike">
              <a:solidFill>
                <a:srgbClr val="000000"/>
              </a:solidFill>
              <a:latin typeface="Verdana"/>
            </a:endParaRPr>
          </a:p>
        </p:txBody>
      </p:sp>
      <p:sp>
        <p:nvSpPr>
          <p:cNvPr id="3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ACF2-7314-4879-9F6F-44CB263ADB5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ependent and Dependent Variable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ndependent</a:t>
            </a:r>
            <a:r>
              <a:rPr b="0" lang="en-US" sz="2600" spc="-1" strike="noStrike">
                <a:solidFill>
                  <a:srgbClr val="000000"/>
                </a:solidFill>
                <a:latin typeface="Verdana"/>
              </a:rPr>
              <a:t> – Takes the form of a stimulus (present or absent), caus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pendent</a:t>
            </a:r>
            <a:r>
              <a:rPr b="0" lang="en-US" sz="2600" spc="-1" strike="noStrike">
                <a:solidFill>
                  <a:srgbClr val="000000"/>
                </a:solidFill>
                <a:latin typeface="Verdana"/>
              </a:rPr>
              <a:t> - Effect</a:t>
            </a:r>
            <a:endParaRPr b="0" lang="en-US" sz="2600" spc="-1" strike="noStrike">
              <a:solidFill>
                <a:srgbClr val="000000"/>
              </a:solidFill>
              <a:latin typeface="Verdana"/>
            </a:endParaRPr>
          </a:p>
        </p:txBody>
      </p:sp>
      <p:sp>
        <p:nvSpPr>
          <p:cNvPr id="37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9404-00A1-4B26-B9D4-706256596278}"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Pre-testing</a:t>
            </a:r>
            <a:r>
              <a:rPr b="0" lang="en-US" sz="2900" spc="-1" strike="noStrike">
                <a:solidFill>
                  <a:srgbClr val="000000"/>
                </a:solidFill>
                <a:latin typeface="Verdana"/>
              </a:rPr>
              <a:t> – The measurement of a dependent variable along subject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Post-testing</a:t>
            </a:r>
            <a:r>
              <a:rPr b="0" lang="en-US" sz="2900" spc="-1" strike="noStrike">
                <a:solidFill>
                  <a:srgbClr val="000000"/>
                </a:solidFill>
                <a:latin typeface="Verdana"/>
              </a:rPr>
              <a:t> – The measurement of a dependent variable among subjects after they have been exposed to an independent variable.</a:t>
            </a:r>
            <a:endParaRPr b="0" lang="en-US" sz="2900" spc="-1" strike="noStrike">
              <a:solidFill>
                <a:srgbClr val="000000"/>
              </a:solidFill>
              <a:latin typeface="Verdana"/>
            </a:endParaRPr>
          </a:p>
        </p:txBody>
      </p:sp>
      <p:sp>
        <p:nvSpPr>
          <p:cNvPr id="37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97E9-70F7-4A98-B7D6-C3F997B41D2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Experimental Group </a:t>
            </a:r>
            <a:r>
              <a:rPr b="0" lang="en-US" sz="2900" spc="-1" strike="noStrike">
                <a:solidFill>
                  <a:srgbClr val="000000"/>
                </a:solidFill>
                <a:latin typeface="Verdana"/>
              </a:rPr>
              <a:t>– A group of subjects to whom an experimental stimulus is administered.</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Control Group </a:t>
            </a:r>
            <a:r>
              <a:rPr b="0" lang="en-US" sz="2900" spc="-1" strike="noStrike">
                <a:solidFill>
                  <a:srgbClr val="000000"/>
                </a:solidFill>
                <a:latin typeface="Verdana"/>
              </a:rPr>
              <a:t>– A group of subjects to whom no experimental stimulus is administered and who should resemble the experimental group in all other respects.</a:t>
            </a:r>
            <a:endParaRPr b="0" lang="en-US" sz="2900" spc="-1" strike="noStrike">
              <a:solidFill>
                <a:srgbClr val="000000"/>
              </a:solidFill>
              <a:latin typeface="Verdana"/>
            </a:endParaRPr>
          </a:p>
        </p:txBody>
      </p:sp>
      <p:sp>
        <p:nvSpPr>
          <p:cNvPr id="38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06D4-1B85-4562-8133-E3AE5C7BDF8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1</a:t>
            </a:r>
            <a:endParaRPr b="0" lang="en-US" sz="44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3" name="Picture 2" descr=""/>
          <p:cNvPicPr/>
          <p:nvPr/>
        </p:nvPicPr>
        <p:blipFill>
          <a:blip r:embed="rId1"/>
          <a:stretch/>
        </p:blipFill>
        <p:spPr>
          <a:xfrm>
            <a:off x="2133720" y="1676520"/>
            <a:ext cx="4895640" cy="4476600"/>
          </a:xfrm>
          <a:prstGeom prst="rect">
            <a:avLst/>
          </a:prstGeom>
          <a:ln w="0">
            <a:noFill/>
          </a:ln>
        </p:spPr>
      </p:pic>
      <p:sp>
        <p:nvSpPr>
          <p:cNvPr id="38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56122-B919-4831-B696-C3CD0E9AAAF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6:39Z</dcterms:modified>
  <cp:revision>21</cp:revision>
  <dc:subject/>
  <dc:title>Slide 1</dc:title>
</cp:coreProperties>
</file>