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106B-A9C0-42CE-98D0-1A4A3EF146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3927-66BE-4234-BB2B-642124E46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D8EF-4DED-4FDF-ABDB-A7E2265F7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F69B-1B30-4C40-9FD4-F89F4284B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8C18-069C-4BA2-9CFF-DD17BC290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D4C6-497D-4C48-9790-51C654952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851F0-432F-44EF-A0BB-36CD27880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01C9A-7F0C-44E3-B700-D80F800F8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EDA98-FF3F-4F34-A145-8BB9C809E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35828-7006-4D0F-96A0-A5C41E7F9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0497A-B264-46B2-B078-3F5AC1F47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6F245-BF2A-447C-A169-2EA790C0A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000A8-85C4-40BC-A0C6-BF6E2807E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313C0-6811-4A1B-BF87-C487D40BE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5D803-F84B-4A7B-BE17-37A8CC230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BB83A-3015-48A6-A037-4A98F13DA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B7148-B3C9-4942-901F-8928C47DE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8C6BB-58E1-40C4-B456-3194422DC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96397-3BE7-4B4B-9720-BC04A039D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E591-6BF8-4EA8-B562-2C072342A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0FC0E-C580-4E29-9121-51613CE40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7EC1D-E5C4-424D-96A8-A6797D31B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0F08F-3372-4AB9-8DF6-22FCF3DC4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FD9376C-CAFF-4ED6-B6AC-7AC9BE678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112EFC-1D61-4CB0-B975-386FD5CB7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07DEE2-77C2-4B0A-93B6-80E69C5E13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95EB622-4A24-4FC9-ADDF-588119745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E5BEA34-EB75-4ACF-B2A0-E5B9FF9409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E796B-FF60-460D-9BB0-799AFB11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E0CA1E-383A-4345-8130-7FF939315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F8E378-D396-48CE-8C78-24F066145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DCC7DA-B930-4E63-B045-7C12BDB1C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113551-C41D-415F-8560-94E9F9BA0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7FD8B8-144A-4D89-ABB6-336A33106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495E011-436F-4369-B33D-2B6481870D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F4F72E9-CF78-47A5-9FCC-4BF4C057C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57083ED-BE66-477F-8BB4-1D1AB3B96B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51BD65-41C6-4572-A28A-064BDD3AFA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9B570D-34C6-4C16-988D-43F07094A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ABA6-418A-4719-8E6E-6E7C0D8E0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C2FBF0-8BE3-4A52-A833-7DC4E0A93E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3C6C1F7-CF51-4900-968F-CA06C242B4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CBD71F-BB56-40E0-9216-1B8262175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820793-2B14-40FF-BDF6-B115ECE29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18951A-49DA-48B1-BDF2-4CAAB1A32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659DB6-A114-4DAB-9C05-4B67DA375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32F372-D7E9-4245-A2A3-659F5EF167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7E49B0C-CE9E-47BB-B891-E108ACC600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990397E-55B4-4E1C-8ADE-3F82832BB6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964A26D-E126-4CF9-8E93-F8F217FAE6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82971-5430-4B5D-A1FF-7FA942040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72150D-5793-435B-A85D-B19337F8C3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B2A42F-796B-4325-A26C-7A79CC0E0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617FD5-37BE-4478-9C8F-22AFB84488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501BF1-E884-401B-A351-566FD1603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1751FF-6072-42B9-B258-AA9FB328CC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D9F39F-AE19-4000-8B0D-C0BE43B92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42C08B-D276-4DCC-B856-D3DBA91CA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C57000-93CF-4238-8E24-5407A207B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3E06B7-89BE-4A0D-8752-C2B246FFD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D2C951B-EFA9-4A64-827A-1157393183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676C-C884-488E-B514-EB680CE93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DAD299-3761-463B-A145-20D2A2026C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75008E-6605-40F5-908D-EC304E25EB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93D56A-62D1-4A75-8C53-F3825F8DE4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A7529B-1389-4E1C-9048-679EA855DE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A134B-9E5D-48E4-B77C-B499D378BE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40B4C-A665-49FC-ADA6-EB466F2673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29C514-4DC9-4F89-A70F-3E38EFBAC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6CEB2-525C-48F4-8440-F7B7CB3C8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4E2D8-A0A7-4116-8C37-ED18566FA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1A852-7F00-4BFA-8EFD-4D09B2932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95AE4-EE6C-4FB0-9083-B32883D7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3FDF76-2021-4BE8-A01C-7ECBEA6AB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F6EC17-029C-44A6-8F35-C87DA57534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E35DA1-3905-4CDB-B9EB-7F7D685713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CCFE36E-12F0-43B5-B037-2A6F1C234D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9BED4C1-FC14-4B89-9D2C-8A85C49DFC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C793A45-5AEE-4D94-B563-D2D0C5056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3CB294-43E4-4E14-A75D-C1205F2330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28A6D0-7896-4C88-8386-DA13D9BE9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8189CD7-442E-442A-9490-37AC2F317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B26EE95-E48F-4399-99A9-ACAC6E9AA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6D59E-898D-42D9-BC81-A305E32A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BED891-7D98-41A0-B0CE-2A46F7F9F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A54397-49D4-4378-BBE7-E84F23C211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E33321B-F597-4E0A-9F5E-2BA3BC193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39DC468-4CE9-4345-AA1D-71551CB5A2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4C557EC-95A8-4F33-86A8-A9B0DE9E83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92B619-C5D1-474C-A2E6-C465496606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FEFA65-5334-4AF7-A890-A2CB2F807B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9AD024-0DA7-4983-B124-429CBB94AC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44F6D-3FFB-4CDA-AB5A-811EC642E9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A1B65-EF9E-4B98-B375-0E71879FD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5396-E3C4-463F-8836-7998390F5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8A8299-128B-4D30-9CFB-FE828F7AC9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12178-013D-4C61-8F95-10F540D94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F9644D-5EA7-4576-8F53-AA143F505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C43F4-CC53-48E4-90AF-668B4C6A64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FD2814-0EAA-4838-A41F-28CB427C1E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9574D7-858B-414A-BD15-DF6CA37DFA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2A5ECD-2E2F-4882-8D57-528D4571D74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E883-E0E9-4D5B-824B-9D2878BF266E}"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A020-8F5A-4833-B1B7-F607055DE92C}"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49D1-1EB0-427E-8ECC-346CF790A1C7}" type="datetime">
              <a:rPr b="0" lang="en-US" sz="2000" spc="-1" strike="noStrike">
                <a:solidFill>
                  <a:srgbClr val="ffffff"/>
                </a:solidFill>
                <a:latin typeface="Verdana"/>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C4D9-766B-4975-B8D6-1ED2FDA14C94}"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5EBD-6954-45EB-922E-2EB855A1D747}"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A4AD-FC5A-4C03-B61D-3A67D30437E5}"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CDC5-0166-451F-8889-506B43332D39}"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BC97-7283-4CEB-8D72-69F428F785A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CFAC-56FD-4FB6-ADB5-6A8C6F64C664}"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1A5D-F611-4F4C-A692-80AC008DD08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E1A7-E581-422E-82BA-7E083F26686B}"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BA24-35B8-4331-8B74-3675F906F8BE}"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32DB-E71D-4D7E-B9D0-C3DED4BF42FD}"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A057-DE19-476A-901C-4A89C2E77B42}"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3EB3-77F9-4B01-BC1A-7697CFC39F7D}"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6098-1A0F-47F2-974F-E949492E4637}"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HAPTER 8, EXPERIMENTS</a:t>
            </a:r>
            <a:endParaRPr b="0" lang="en-US" sz="44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63E9-D2C3-4403-943E-0D833249BEE4}"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wthorne Effect</a:t>
            </a:r>
            <a:endParaRPr b="0" lang="en-US" sz="2900" spc="-1" strike="noStrike">
              <a:solidFill>
                <a:srgbClr val="000000"/>
              </a:solidFill>
              <a:latin typeface="Verdana"/>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00E8-BA95-4AEC-9055-C1CBECA13BC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The Double-Blind Experiment </a:t>
            </a:r>
            <a:r>
              <a:rPr b="0" lang="en-US" sz="2900" spc="-1" strike="noStrike">
                <a:solidFill>
                  <a:srgbClr val="000000"/>
                </a:solidFill>
                <a:latin typeface="Verdana"/>
              </a:rPr>
              <a:t>– An experimental design in which neither the subjects nor the experimenters know which is the experimental and which is the control group.</a:t>
            </a:r>
            <a:endParaRPr b="0" lang="en-US" sz="2900" spc="-1" strike="noStrike">
              <a:solidFill>
                <a:srgbClr val="000000"/>
              </a:solidFill>
              <a:latin typeface="Verdana"/>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6C00-A2F2-4886-A35C-DBC15AEED75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electing Subjects</a:t>
            </a: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ole of college studen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eneralizability?</a:t>
            </a:r>
            <a:endParaRPr b="0" lang="en-US" sz="2900" spc="-1" strike="noStrike">
              <a:solidFill>
                <a:srgbClr val="000000"/>
              </a:solidFill>
              <a:latin typeface="Verdana"/>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B97F-BAA9-470E-B1B7-E563A664FAD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obability Sampling</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Randomization</a:t>
            </a:r>
            <a:r>
              <a:rPr b="0" lang="en-US" sz="2700" spc="-1" strike="noStrike">
                <a:solidFill>
                  <a:srgbClr val="000000"/>
                </a:solidFill>
                <a:latin typeface="Verdana"/>
              </a:rPr>
              <a:t> – A technique for assigning experimental subjects to experimental and control groups.</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Matching</a:t>
            </a:r>
            <a:r>
              <a:rPr b="0" lang="en-US" sz="2700" spc="-1" strike="noStrike">
                <a:solidFill>
                  <a:srgbClr val="000000"/>
                </a:solidFill>
                <a:latin typeface="Verdana"/>
              </a:rPr>
              <a:t> – The procedure whereby pairs of subjects are matched on the basis of their similarities on one or more variables, and one member of the pair is assigned to the experimental group and the other to the control group.</a:t>
            </a:r>
            <a:endParaRPr b="0" lang="en-US" sz="2700" spc="-1" strike="noStrike">
              <a:solidFill>
                <a:srgbClr val="000000"/>
              </a:solidFill>
              <a:latin typeface="Verdana"/>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B581-4CC7-4B7F-915C-E20349A9F56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2</a:t>
            </a: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9" name="Picture 2" descr=""/>
          <p:cNvPicPr/>
          <p:nvPr/>
        </p:nvPicPr>
        <p:blipFill>
          <a:blip r:embed="rId1"/>
          <a:stretch/>
        </p:blipFill>
        <p:spPr>
          <a:xfrm>
            <a:off x="533520" y="1600200"/>
            <a:ext cx="8267760" cy="4049640"/>
          </a:xfrm>
          <a:prstGeom prst="rect">
            <a:avLst/>
          </a:prstGeom>
          <a:ln w="0">
            <a:noFill/>
          </a:ln>
        </p:spPr>
      </p:pic>
      <p:sp>
        <p:nvSpPr>
          <p:cNvPr id="40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5230-5009-4811-93CC-FCB5D436AF4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Variations on Experimental Design</a:t>
            </a:r>
            <a:endParaRPr b="0" lang="en-US" sz="40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e-experimental Research Designs</a:t>
            </a: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shot case study </a:t>
            </a:r>
            <a:r>
              <a:rPr b="0" lang="en-US" sz="2400" spc="-1" strike="noStrike">
                <a:solidFill>
                  <a:srgbClr val="000000"/>
                </a:solidFill>
                <a:latin typeface="Verdana"/>
              </a:rPr>
              <a:t>– A single group of subjects is measured on a dependent variable following an experimental stimulus.</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group pre-test post-test design </a:t>
            </a:r>
            <a:r>
              <a:rPr b="0" lang="en-US" sz="2400" spc="-1" strike="noStrike">
                <a:solidFill>
                  <a:srgbClr val="000000"/>
                </a:solidFill>
                <a:latin typeface="Verdana"/>
              </a:rPr>
              <a:t>– A pre-test is added for the experimental group but lacks a control group.</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c-group comparison </a:t>
            </a:r>
            <a:r>
              <a:rPr b="0" lang="en-US" sz="2400" spc="-1" strike="noStrike">
                <a:solidFill>
                  <a:srgbClr val="000000"/>
                </a:solidFill>
                <a:latin typeface="Verdana"/>
              </a:rPr>
              <a:t>– Includes experimental and control groups, but no pre-test.</a:t>
            </a:r>
            <a:endParaRPr b="0" lang="en-US" sz="2400" spc="-1" strike="noStrike">
              <a:solidFill>
                <a:srgbClr val="000000"/>
              </a:solidFill>
              <a:latin typeface="Verdana"/>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3F35-96C4-466B-B33E-24E59ED26D5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3</a:t>
            </a: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6" name="Picture 2" descr=""/>
          <p:cNvPicPr/>
          <p:nvPr/>
        </p:nvPicPr>
        <p:blipFill>
          <a:blip r:embed="rId1"/>
          <a:stretch/>
        </p:blipFill>
        <p:spPr>
          <a:xfrm>
            <a:off x="2514600" y="1238400"/>
            <a:ext cx="6400800" cy="5391000"/>
          </a:xfrm>
          <a:prstGeom prst="rect">
            <a:avLst/>
          </a:prstGeom>
          <a:ln w="0">
            <a:noFill/>
          </a:ln>
        </p:spPr>
      </p:pic>
      <p:sp>
        <p:nvSpPr>
          <p:cNvPr id="4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04E7-F797-49C6-B44F-C4266D193C0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360" y="1600200"/>
            <a:ext cx="8226360" cy="510552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lidity Issues in Experimental Research</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nternal Validity </a:t>
            </a:r>
            <a:r>
              <a:rPr b="0" lang="en-US" sz="2200" spc="-1" strike="noStrike">
                <a:solidFill>
                  <a:srgbClr val="000000"/>
                </a:solidFill>
                <a:latin typeface="Verdana"/>
              </a:rPr>
              <a:t>– The possibility that the conclusions drawn from experimental results may not accurately reflect what went on in the experiment itself.</a:t>
            </a:r>
            <a:endParaRPr b="0" lang="en-US" sz="22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history (during exp, events happen outside that may confound the results),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uration (subjects change over tim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dministering the test changes them),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ation (changes in the survey for instanc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regression (extreme scores necessarily level out over time even w/out IV),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 bias (comparisons have no meaning unless the groups are comparable at the beginning of exp),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mental mortality (some participants drop out),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ralization (deprivation in the control group may lead to dropping out)</a:t>
            </a:r>
            <a:endParaRPr b="0" lang="en-US" sz="2000" spc="-1" strike="noStrike">
              <a:solidFill>
                <a:srgbClr val="000000"/>
              </a:solidFill>
              <a:latin typeface="Verdana"/>
            </a:endParaRPr>
          </a:p>
        </p:txBody>
      </p:sp>
      <p:sp>
        <p:nvSpPr>
          <p:cNvPr id="41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E38F-1642-4DBA-97BB-043E702B3FF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lvl="1"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xternal Validity </a:t>
            </a:r>
            <a:r>
              <a:rPr b="0" lang="en-US" sz="2600" spc="-1" strike="noStrike">
                <a:solidFill>
                  <a:srgbClr val="000000"/>
                </a:solidFill>
                <a:latin typeface="Verdana"/>
              </a:rPr>
              <a:t>– The possibility that conclusions drawn from experimental results may not be generalizable to the “real” world</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CC0E-289A-4D2F-A4B8-BFC581E2078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Figure 8.4 – The Classical Experiment</a:t>
            </a:r>
            <a:endParaRPr b="0" lang="en-US" sz="40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6" name="Picture 2" descr=""/>
          <p:cNvPicPr/>
          <p:nvPr/>
        </p:nvPicPr>
        <p:blipFill>
          <a:blip r:embed="rId1"/>
          <a:stretch/>
        </p:blipFill>
        <p:spPr>
          <a:xfrm>
            <a:off x="609480" y="1581120"/>
            <a:ext cx="8169480" cy="4133880"/>
          </a:xfrm>
          <a:prstGeom prst="rect">
            <a:avLst/>
          </a:prstGeom>
          <a:ln w="0">
            <a:noFill/>
          </a:ln>
        </p:spPr>
      </p:pic>
      <p:sp>
        <p:nvSpPr>
          <p:cNvPr id="41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1FD2-4FE6-4AE3-99BC-F687760A8EA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pics Appropriate to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lassical Experiment</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lecting Subjec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riations on Experimental Desig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 Illustration of Experimentatio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b-Base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Natural”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s and Weaknesses of the Experimental Method</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thics an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ick Quiz</a:t>
            </a:r>
            <a:endParaRPr b="0" lang="en-US" sz="2500" spc="-1" strike="noStrike">
              <a:solidFill>
                <a:srgbClr val="000000"/>
              </a:solidFill>
              <a:latin typeface="Verdana"/>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5CD5-4F90-4DAA-B9BF-722E81463E6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5</a:t>
            </a: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0" name="Picture 2" descr=""/>
          <p:cNvPicPr/>
          <p:nvPr/>
        </p:nvPicPr>
        <p:blipFill>
          <a:blip r:embed="rId1"/>
          <a:stretch/>
        </p:blipFill>
        <p:spPr>
          <a:xfrm>
            <a:off x="4114800" y="295200"/>
            <a:ext cx="4800600" cy="6323040"/>
          </a:xfrm>
          <a:prstGeom prst="rect">
            <a:avLst/>
          </a:prstGeom>
          <a:ln w="0">
            <a:noFill/>
          </a:ln>
        </p:spPr>
      </p:pic>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318D-04C9-490C-AFE7-66F93C199B1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An Illustration of Experimentation</a:t>
            </a:r>
            <a:endParaRPr b="0" lang="en-US" sz="40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Field Experiments </a:t>
            </a:r>
            <a:r>
              <a:rPr b="0" lang="en-US" sz="2900" spc="-1" strike="noStrike">
                <a:solidFill>
                  <a:srgbClr val="000000"/>
                </a:solidFill>
                <a:latin typeface="Verdana"/>
              </a:rPr>
              <a:t>– formal experiment, conducted outside the laboratory, in a natural set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Tests of “spurters” in the classroom</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Resumes with different names, or criminal records</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6895-D4B2-4D8E-B81D-BFBF87777EF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Web-Based Experiments</a:t>
            </a: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presentative samples are </a:t>
            </a:r>
            <a:r>
              <a:rPr b="0" i="1" lang="en-US" sz="2900" spc="-1" strike="noStrike">
                <a:solidFill>
                  <a:srgbClr val="000000"/>
                </a:solidFill>
                <a:latin typeface="Verdana"/>
              </a:rPr>
              <a:t>not</a:t>
            </a:r>
            <a:r>
              <a:rPr b="0" lang="en-US" sz="2900" spc="-1" strike="noStrike">
                <a:solidFill>
                  <a:srgbClr val="000000"/>
                </a:solidFill>
                <a:latin typeface="Verdana"/>
              </a:rPr>
              <a:t> essential…therefore, volunteers may be used.</a:t>
            </a:r>
            <a:endParaRPr b="0" lang="en-US" sz="2900" spc="-1" strike="noStrike">
              <a:solidFill>
                <a:srgbClr val="000000"/>
              </a:solidFill>
              <a:latin typeface="Verdana"/>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D5E0-C1C5-4F74-BE8D-DC4EE4125EE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a:t>
            </a:r>
            <a:r>
              <a:rPr b="0" lang="en-US" sz="4400" spc="-1" strike="noStrike">
                <a:solidFill>
                  <a:srgbClr val="5a6378"/>
                </a:solidFill>
                <a:latin typeface="Verdana"/>
              </a:rPr>
              <a:t>Natural” Experiments</a:t>
            </a: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that occur outside controlled setting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 Superstorm “Sandy” or Hurricane Katrina</a:t>
            </a:r>
            <a:endParaRPr b="0" lang="en-US" sz="2900" spc="-1" strike="noStrike">
              <a:solidFill>
                <a:srgbClr val="000000"/>
              </a:solidFill>
              <a:latin typeface="Verdana"/>
            </a:endParaRPr>
          </a:p>
        </p:txBody>
      </p:sp>
      <p:sp>
        <p:nvSpPr>
          <p:cNvPr id="43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75DF-1F62-4E9D-98BB-0375E05805F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trengths and Weaknesses of the Experimental Method</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ength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olation of experimental variable’s impact over tim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lication</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aknesse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tificiality of laboratory settings</a:t>
            </a:r>
            <a:endParaRPr b="0" lang="en-US" sz="2600" spc="-1" strike="noStrike">
              <a:solidFill>
                <a:srgbClr val="000000"/>
              </a:solidFill>
              <a:latin typeface="Verdana"/>
            </a:endParaRPr>
          </a:p>
        </p:txBody>
      </p:sp>
      <p:sp>
        <p:nvSpPr>
          <p:cNvPr id="4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DCFF-2DCB-4AD1-A46C-0FEEADDCF91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Placebo Effect</a:t>
            </a:r>
            <a:endParaRPr b="0" lang="en-US" sz="4400" spc="-1" strike="noStrike">
              <a:solidFill>
                <a:srgbClr val="5a6378"/>
              </a:solidFill>
              <a:latin typeface="Verdana"/>
            </a:endParaRPr>
          </a:p>
        </p:txBody>
      </p:sp>
      <p:sp>
        <p:nvSpPr>
          <p:cNvPr id="4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AA09-B5D1-41EE-B28D-3C93B2B2192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graphicFrame>
        <p:nvGraphicFramePr>
          <p:cNvPr id="437" name="ShockwaveFlash1"/>
          <p:cNvGraphicFramePr/>
          <p:nvPr/>
        </p:nvGraphicFramePr>
        <p:xfrm>
          <a:off x="533520" y="1600200"/>
          <a:ext cx="8305560" cy="4572000"/>
        </p:xfrm>
        <a:graphic>
          <a:graphicData uri="http://schemas.openxmlformats.org/presentationml/2006/ole">
            <p:oleObj r:id="rId1" spid="">
              <p:embed/>
              <p:pic>
                <p:nvPicPr>
                  <p:cNvPr id="438" name="ShockwaveFlash1" descr=""/>
                  <p:cNvPicPr/>
                  <p:nvPr/>
                </p:nvPicPr>
                <p:blipFill>
                  <a:blip r:embed="rId2"/>
                  <a:stretch/>
                </p:blipFill>
                <p:spPr>
                  <a:xfrm>
                    <a:off x="533520" y="1600200"/>
                    <a:ext cx="83055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1"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3696-BA12-4775-BA47-A275ACFDAA8B}"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In the simplest experimental design, subjects are measured in terms of a/n _____ variable exposed to a/n _____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 post-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t-test, pre-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dependent; depend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ependent; independent</a:t>
            </a:r>
            <a:endParaRPr b="0" lang="en-US" sz="2900" spc="-1" strike="noStrike">
              <a:solidFill>
                <a:srgbClr val="000000"/>
              </a:solidFill>
              <a:latin typeface="Verdana"/>
            </a:endParaRPr>
          </a:p>
        </p:txBody>
      </p:sp>
      <p:sp>
        <p:nvSpPr>
          <p:cNvPr id="44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2C90-0B6F-4C17-A85A-24AE0D2F091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the simplest experimental design, subjects are measured in terms of a dependent variable exposed to an independent variable.</a:t>
            </a:r>
            <a:endParaRPr b="0" lang="en-US" sz="2900" spc="-1" strike="noStrike">
              <a:solidFill>
                <a:srgbClr val="000000"/>
              </a:solidFill>
              <a:latin typeface="Verdana"/>
            </a:endParaRPr>
          </a:p>
        </p:txBody>
      </p:sp>
      <p:sp>
        <p:nvSpPr>
          <p:cNvPr id="4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5255-976A-4FC2-907A-12E5CA2045D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groups are groups of subjects to whom an experimental stimulus is administere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urposiv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a:t>
            </a:r>
            <a:endParaRPr b="0" lang="en-US" sz="2900" spc="-1" strike="noStrike">
              <a:solidFill>
                <a:srgbClr val="000000"/>
              </a:solidFill>
              <a:latin typeface="Verdana"/>
            </a:endParaRPr>
          </a:p>
        </p:txBody>
      </p:sp>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B2CB-0139-4535-890E-A91F2913195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involve:</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ing acti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rving consequences of that action</a:t>
            </a:r>
            <a:endParaRPr b="0" lang="en-US" sz="2600" spc="-1" strike="noStrike">
              <a:solidFill>
                <a:srgbClr val="000000"/>
              </a:solidFill>
              <a:latin typeface="Verdana"/>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86E2-517C-4D4B-AAF5-61D816D8FC2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l groups are groups of subjects to whom an experimental stimulus is administered.</a:t>
            </a:r>
            <a:endParaRPr b="0" lang="en-US" sz="2900" spc="-1" strike="noStrike">
              <a:solidFill>
                <a:srgbClr val="000000"/>
              </a:solidFill>
              <a:latin typeface="Verdana"/>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BFDF-21D4-4308-BB06-501BF41FC8C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_____ is a technique for assigning experimental subjects to experimental and control groups randoml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probability analys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tch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andomiz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ling</a:t>
            </a:r>
            <a:endParaRPr b="0" lang="en-US" sz="2900" spc="-1" strike="noStrike">
              <a:solidFill>
                <a:srgbClr val="000000"/>
              </a:solidFill>
              <a:latin typeface="Verdana"/>
            </a:endParaRPr>
          </a:p>
        </p:txBody>
      </p:sp>
      <p:sp>
        <p:nvSpPr>
          <p:cNvPr id="45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D2F2-C61C-4106-8D9F-19CF1C7B685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ndomization is a technique for assigning experimental subjects to experimental and control groups randomly.</a:t>
            </a:r>
            <a:endParaRPr b="0" lang="en-US" sz="2900" spc="-1" strike="noStrike">
              <a:solidFill>
                <a:srgbClr val="000000"/>
              </a:solidFill>
              <a:latin typeface="Verdana"/>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A662-32F7-4E8E-BAFD-2798C92D1F9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Experiments are especially well-suited for research projects involv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limit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ell-defin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ypothesis tes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 choices</a:t>
            </a:r>
            <a:endParaRPr b="0" lang="en-US" sz="2900" spc="-1" strike="noStrike">
              <a:solidFill>
                <a:srgbClr val="000000"/>
              </a:solidFill>
              <a:latin typeface="Verdana"/>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B043-B9E7-43E8-A3A2-D4AFD7DD62C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are especially well-suited for research projects involving limited concepts, well-defined concepts, and hypothesis testing.</a:t>
            </a:r>
            <a:endParaRPr b="0" lang="en-US" sz="2900" spc="-1" strike="noStrike">
              <a:solidFill>
                <a:srgbClr val="000000"/>
              </a:solidFill>
              <a:latin typeface="Verdana"/>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DAA3-C1D9-4756-BB10-834450C7DCB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_____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lus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presentativeness</a:t>
            </a:r>
            <a:endParaRPr b="0" lang="en-US" sz="2900" spc="-1" strike="noStrike">
              <a:solidFill>
                <a:srgbClr val="000000"/>
              </a:solidFill>
              <a:latin typeface="Verdana"/>
            </a:endParaRPr>
          </a:p>
        </p:txBody>
      </p:sp>
      <p:sp>
        <p:nvSpPr>
          <p:cNvPr id="4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14D4-69AF-4E4E-A217-B1619BB904A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0"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l validity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p:txBody>
      </p:sp>
      <p:sp>
        <p:nvSpPr>
          <p:cNvPr id="4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5786-506A-48CF-BD10-333BBB28D57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Which of the following is the chief advantage of a controlled experim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tim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mone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are artific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experimental variable is isolated.</a:t>
            </a:r>
            <a:endParaRPr b="0" lang="en-US" sz="2900" spc="-1" strike="noStrike">
              <a:solidFill>
                <a:srgbClr val="000000"/>
              </a:solidFill>
              <a:latin typeface="Verdana"/>
            </a:endParaRPr>
          </a:p>
        </p:txBody>
      </p:sp>
      <p:sp>
        <p:nvSpPr>
          <p:cNvPr id="4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349E-61D7-4626-A783-C82185BF0D0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6"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solation of the experimental variable is the chief advantage of a controlled experiment.</a:t>
            </a:r>
            <a:endParaRPr b="0" lang="en-US" sz="2900" spc="-1" strike="noStrike">
              <a:solidFill>
                <a:srgbClr val="000000"/>
              </a:solidFill>
              <a:latin typeface="Verdana"/>
            </a:endParaRPr>
          </a:p>
        </p:txBody>
      </p:sp>
      <p:sp>
        <p:nvSpPr>
          <p:cNvPr id="4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26C3-F42D-4865-86F4-0BFCCF2FB3A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opics Appropriate to Experiment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ll-suited for projects involving limited and well-defined concepts and proposi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othesis testing</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ter suited for explanatory than descrip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mall group interaction</a:t>
            </a:r>
            <a:endParaRPr b="0" lang="en-US" sz="2600" spc="-1" strike="noStrike">
              <a:solidFill>
                <a:srgbClr val="000000"/>
              </a:solidFill>
              <a:latin typeface="Verdana"/>
            </a:endParaRPr>
          </a:p>
        </p:txBody>
      </p:sp>
      <p:sp>
        <p:nvSpPr>
          <p:cNvPr id="3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83CE-0997-4250-B69E-CB6B6D006F3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Classical Experiment</a:t>
            </a: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jor Component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and Dependent Variabl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testing and Post-tes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erimental and Control Groups</a:t>
            </a:r>
            <a:endParaRPr b="0" lang="en-US" sz="2600" spc="-1" strike="noStrike">
              <a:solidFill>
                <a:srgbClr val="000000"/>
              </a:solidFill>
              <a:latin typeface="Verdana"/>
            </a:endParaRPr>
          </a:p>
        </p:txBody>
      </p:sp>
      <p:sp>
        <p:nvSpPr>
          <p:cNvPr id="3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58C2-E219-4C4B-8D9D-5B36ED3AA97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ependent and Dependent Variab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dependent</a:t>
            </a:r>
            <a:r>
              <a:rPr b="0" lang="en-US" sz="2600" spc="-1" strike="noStrike">
                <a:solidFill>
                  <a:srgbClr val="000000"/>
                </a:solidFill>
                <a:latin typeface="Verdana"/>
              </a:rPr>
              <a:t> – Takes the form of a stimulus (present or absent), cau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pendent</a:t>
            </a:r>
            <a:r>
              <a:rPr b="0" lang="en-US" sz="2600" spc="-1" strike="noStrike">
                <a:solidFill>
                  <a:srgbClr val="000000"/>
                </a:solidFill>
                <a:latin typeface="Verdana"/>
              </a:rPr>
              <a:t> - Effect</a:t>
            </a:r>
            <a:endParaRPr b="0" lang="en-US" sz="2600" spc="-1" strike="noStrike">
              <a:solidFill>
                <a:srgbClr val="000000"/>
              </a:solidFill>
              <a:latin typeface="Verdana"/>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611B-8DC4-44EE-BDBD-EDD4753EC04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re-testing</a:t>
            </a:r>
            <a:r>
              <a:rPr b="0" lang="en-US" sz="2900" spc="-1" strike="noStrike">
                <a:solidFill>
                  <a:srgbClr val="000000"/>
                </a:solidFill>
                <a:latin typeface="Verdana"/>
              </a:rPr>
              <a:t> – The measurement of a dependent variable along subjec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ost-testing</a:t>
            </a:r>
            <a:r>
              <a:rPr b="0" lang="en-US" sz="2900" spc="-1" strike="noStrike">
                <a:solidFill>
                  <a:srgbClr val="000000"/>
                </a:solidFill>
                <a:latin typeface="Verdana"/>
              </a:rPr>
              <a:t> – The measurement of a dependent variable among subjects after they have been exposed to an independent variable.</a:t>
            </a:r>
            <a:endParaRPr b="0" lang="en-US" sz="2900" spc="-1" strike="noStrike">
              <a:solidFill>
                <a:srgbClr val="000000"/>
              </a:solidFill>
              <a:latin typeface="Verdana"/>
            </a:endParaRPr>
          </a:p>
        </p:txBody>
      </p:sp>
      <p:sp>
        <p:nvSpPr>
          <p:cNvPr id="3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0BC8-8485-408D-B445-715D06CF5DA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erimental Group </a:t>
            </a:r>
            <a:r>
              <a:rPr b="0" lang="en-US" sz="2900" spc="-1" strike="noStrike">
                <a:solidFill>
                  <a:srgbClr val="000000"/>
                </a:solidFill>
                <a:latin typeface="Verdana"/>
              </a:rPr>
              <a:t>– A group of subjects to whom an experimental stimulus is administer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ontrol Group </a:t>
            </a:r>
            <a:r>
              <a:rPr b="0" lang="en-US" sz="2900" spc="-1" strike="noStrike">
                <a:solidFill>
                  <a:srgbClr val="000000"/>
                </a:solidFill>
                <a:latin typeface="Verdana"/>
              </a:rPr>
              <a:t>– A group of subjects to whom no experimental stimulus is administered and who should resemble the experimental group in all other respects.</a:t>
            </a:r>
            <a:endParaRPr b="0" lang="en-US" sz="2900" spc="-1" strike="noStrike">
              <a:solidFill>
                <a:srgbClr val="000000"/>
              </a:solidFill>
              <a:latin typeface="Verdana"/>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4A70-ABB2-44AF-8E70-3587B3284BF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1</a:t>
            </a: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3" name="Picture 2" descr=""/>
          <p:cNvPicPr/>
          <p:nvPr/>
        </p:nvPicPr>
        <p:blipFill>
          <a:blip r:embed="rId1"/>
          <a:stretch/>
        </p:blipFill>
        <p:spPr>
          <a:xfrm>
            <a:off x="2133720" y="1676520"/>
            <a:ext cx="4895640" cy="4476600"/>
          </a:xfrm>
          <a:prstGeom prst="rect">
            <a:avLst/>
          </a:prstGeom>
          <a:ln w="0">
            <a:noFill/>
          </a:ln>
        </p:spPr>
      </p:pic>
      <p:sp>
        <p:nvSpPr>
          <p:cNvPr id="38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40B9-0F62-428D-B96A-998FD1F63F3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6:39Z</dcterms:modified>
  <cp:revision>21</cp:revision>
  <dc:subject/>
  <dc:title>Slide 1</dc:title>
</cp:coreProperties>
</file>