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1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185C-4A15-41C2-A687-C23AEA420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F4DB-F1DF-4E67-88DE-D886550E5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0C3D-E794-4169-9F39-927AB6127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4813-D886-4629-AA03-C55EA59DD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27F-094F-4710-958E-A8D4BFE7F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F236-D344-48C5-A49F-06D25685F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993E-9A6F-446D-A3C1-54C6347EF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AE78-A879-45F5-A270-378BC15C3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FFAA-B32C-4FCC-AA6C-8A3B610B6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B9BC-925E-41B4-BC5F-9F10419F7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0136-EC7D-4FDD-8607-BA79B89A1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9DDF-E5F3-4DB6-91DD-2085F498A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B43A-AE01-4C08-9CC0-9AEBF3AD7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5D55-85E6-4D6E-B53A-0F2CE1C37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9FF7-53F7-4A13-B66A-F0F8388D5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6ACE-8CCC-44C2-8ADB-DC44EACF8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FA3-DF34-4CE8-886E-46C80D92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3BE-DF6F-4014-9178-8691297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6B1-5554-451B-AF7B-23612617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A2F-159B-4C1E-8170-C3DA8716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53B8-AE51-4D09-B634-965F941A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764E-2AB1-47A2-90E4-CB922CA7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0C09-122D-4969-9D1A-9F7209E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C5F2-45F1-4AD4-9E65-6BA189F7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5468-05FC-495F-BD41-623128B3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C4EA-548C-4C3F-93F1-E9332C76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9440-FD1A-4848-865B-62719FD7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7E2-1C94-49D0-B01C-41C3A9CB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8A76-67FD-4F29-B3DB-9951272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8089-6250-447E-890C-07B0A1F5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22E5-B282-4192-9519-9F3C8222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F1B3-0930-4144-A106-05C8E06C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74F8-F14A-40C3-9532-E8633016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4A3B4-3A18-4276-A176-3FDB66F9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10FE6-C1F4-420A-B2F1-DA76B745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56020-CCF3-4928-B0ED-80D4B9B3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AAABE-4A21-4327-9B08-CCC4D24C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7164E-DC79-4B70-A9E1-C2F94FD4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16E-BB0E-4FAF-97A9-358F9A1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D67C7-243C-417A-B2CC-B67AF68B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BA040-CFF5-4AFA-A5FE-141A3BF5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A71A4-0330-4923-8696-E5B52B1A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E7622-BDF0-44CC-B2D5-139E06B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EF273-6041-4E23-8B52-21A7FD62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B2F27-39FB-45A2-B272-CA747B5A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3AA15-4D17-4D27-A92D-40CF16C2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E442E-789E-4B12-8EEF-F8F4F95A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DA9823-A729-4235-A0D6-8B83B1ED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39172-4022-4DF2-BBE8-5FF5B84E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47F-3A28-4DB0-9BE9-F306B71A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391B5-4AE6-44FA-A521-76BCF15C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DFEC6-322E-4674-ACBC-53BE2151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76C1F-8E00-4E44-A5FD-FAB683B0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0C635-CF16-4A92-88CE-709CB5C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BEF88-49F6-4436-9C4E-B6A314CC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39B9C-BB9F-4838-86FC-6D940EB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B26AF-005E-4B6C-82E9-937708D8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87E38-B702-4784-B042-04662A14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2BE65-D7B8-4185-BC30-DD1B8BA0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AC398-A734-4C1C-A029-17CCA044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7DA-1336-4926-B1A3-FA7C2D69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EE2CB-F2C0-4FC1-B1B2-A8EFBD7A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11C46-435D-44A0-B3C1-4BD7EB72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F4026-14B3-4CCF-9D30-DFBAD48C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FC868-8372-442A-B414-26EB8715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11960-9AA2-4A83-940C-CB298B64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9E02F-E4DE-4210-B201-2E6DAA4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81E2D-BE28-4388-B38C-68A87471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6CEC5-1961-40C0-9AA8-1283E579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EDF48-251E-4429-8AFD-9AC8FA45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DB95A-FC8E-4E6B-85BB-89E1E8A3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4DD-E58C-4480-83B5-437F15E1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82D8F-5AE9-4559-8E41-E74C4ACD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6BEC-4E53-4E3B-94AD-FB94F329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8168F-79B8-4014-A09F-5ABEB156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934D-08C6-448C-AA07-B699369A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3D6E8-5C00-423A-A592-1773ECC0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0894E-4B1C-4D42-A08D-C9AB1191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B13A-54C3-4E4E-9A7D-47AD4D27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56BD-F4E3-4697-A33A-E8FA69A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B7A43-0582-44AC-8875-22A79F4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55B10-EBEC-4FBC-B320-79897AB0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D48-199F-46D5-B111-53B39CC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C4CB1-6784-4F72-8B3B-9EF351AB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94B83-D0D8-4922-995E-ECCE027E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58FD-43D7-4B5A-B810-D4D88CFE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C9837-7083-4BBA-B54F-350FD8A1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AFCFA-A359-4D39-BAD1-061F22E3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CC7C4-7A48-4168-A42B-4CB33F74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144ED-B6B1-4A29-B6BC-24737E82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99DDE-01AD-4689-99EB-F387685B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57FA7-C879-46DC-83DB-DA56F01A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52463-D534-439D-869D-B2A04D1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277-00E8-4B17-B55E-C591717D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DBD8C-3B79-49C2-853D-46021008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880CD-705A-4CC0-9D81-40F9D3D1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9579B7-4A44-4BCF-B387-EA0362C3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CF6E5-FF34-476E-856A-49E39B2D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D5EC2A-52C8-4A28-B2F3-44A0B303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43059-1A88-4F9E-95AB-5907755D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96C25-C79A-4A2E-8197-D3A766C7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1C96E-F56B-48C0-A488-E288826C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C26B4-E98C-4AA5-99BA-EBB95E0A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9D54B-E315-4AF2-87E8-96298BA5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695-E228-4513-AE63-55D8F2D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11559-7C65-455F-899E-11C023EC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E375D-CF87-4CBE-A2E7-34F3AFC2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63E69-8361-4916-A5B2-D83B9BF2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119CA-456E-41BD-A8C8-BC0E188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10E0D-E8E7-4C05-B5E0-03E874EB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3E31B-A8CC-4697-8269-53F8902B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2F6EF-5B7C-494E-B6C0-10ADC556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ADCB-9041-4CF0-A36B-DBF121F3CAD9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4d4d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C8FD-5525-4BDB-821F-C79FF90BCDC3}" type="slidenum">
              <a:rPr b="1" lang="en-US" sz="1400" spc="-1" strike="noStrike">
                <a:solidFill>
                  <a:srgbClr val="d4d4d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D15D-53BE-45FF-9EE9-6DA348F12E90}" type="slidenum">
              <a:rPr b="1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67C8-D831-4480-9A16-7B458E07D038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E7D2-7C5F-4AC0-9A75-D6C78FB144F7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E47-7394-4241-9894-425E6DCC954A}" type="slidenum">
              <a:rPr b="1" lang="en-US" sz="1400" spc="-1" strike="noStrike">
                <a:solidFill>
                  <a:srgbClr val="5a6378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BA48-82FF-4D87-9DBB-C4DAFECE28FB}" type="slidenum">
              <a:rPr b="1" lang="en-US" sz="2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70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700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228600">
              <a:spcBef>
                <a:spcPts val="700"/>
              </a:spcBef>
              <a:buClr>
                <a:srgbClr val="e66c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228600">
              <a:spcBef>
                <a:spcPts val="700"/>
              </a:spcBef>
              <a:buClr>
                <a:srgbClr val="6bb7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F1DE-746F-4B52-8603-78FC96904A7E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d6"/>
                </a:solidFill>
                <a:latin typeface="Verdana"/>
              </a:rPr>
              <a:t>CHAPTER 9, SURVEY RESEARCH</a:t>
            </a:r>
            <a:endParaRPr b="0" lang="en-US" sz="4400" spc="-1" strike="noStrike">
              <a:solidFill>
                <a:srgbClr val="d4d4d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ingency Question – A survey question intended for only some respondents, determined by their responses to some other qu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2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7214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3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09480" y="1558800"/>
            <a:ext cx="54626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4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622440" y="1620720"/>
            <a:ext cx="8035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5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rix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617400" y="2233440"/>
            <a:ext cx="82425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dering Items in a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-Ended or Closed-Ended Fir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domized Ord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sitivity to the Prob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ographic questions should go at the e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naire 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roductory comments and clear instru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-testing the Questionnai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6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362268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elf-Administered Questionnaire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s in which respondents are asked to complete the questionnaire by themsel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hapter Outline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ics Appropriate for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elines for Asking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stionnaire Co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ison of the Different Survey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 and Weaknesses of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ary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ics and Survey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 Qu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il Distribution and Retu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do people not return questionnai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itoring Retur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-Up Mail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 – The number of people participating in a survey divided by the number selected in the samp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al = higher than 7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is a low response rate ba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can be done to improve respon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Interview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view – A data-collection encounter in which one person (interviewer) asks questions of another (responden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ole of the Survey Intervie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olicit higher response rates (80-85%) than mail survey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s minimized “don’t know” and “no answer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serve as a guard against confu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viewers can observe respondents while completing the questionnai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Guidelines for Survey Intervie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ess appropria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familiar with questionnai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llow question working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rd responses exact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e when necess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be – a technique employed interviewing to solicit a more complete answer to a questio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ordination and Contr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neral guideli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ow to handle difficult situ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actice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l” interview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Telepho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95.5% of households have a telepho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me and mon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rsonal safe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ogus survey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listed phone numb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l ph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swering machines/voicemail/caller I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ndom-Digit Dialing (RDD) – A sampling technique in which random numbers are selected from within the ranges of numbers assigned to active telephon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uter-Assisted Telephone Interviewing (CATI) – A data-collection technique in which a telephone-survey questionnaire is stored in a computer, permitting the interviewer to read the questions from the monitor and enter the answers on the computer key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Topics Appropriate for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ptive, exploratory, and explan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s of analysis = respon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pondents – A person who provides data for analysis by responding to a survey questionnai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samples, original data, measuring attitudes and ori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se Rates in Interview Survey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Online Survey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at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consistent word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use simple langu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force excessive scro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offer to share select result with respond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plan time and day of initial mai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be aware of technical limi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test incentives, rewards, and priz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limit studies to less than 15 minu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Comparison of the Different Survey Method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f-Administered Questionnai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faster than face-to-face interview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ational is the same cost as local mailing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es small staf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willingness to answer controversial ite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view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ewer incomplete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re effective for complicated questionnai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ce-to-face is more intim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epho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eaper and more time effici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ine Surve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ailable software and web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Strengths and Weaknesses of Survey Research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ful in describing large popula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ke large samples poss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urveys are 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andardized questio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akn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ound pegs in square h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ldom deal with context of social lif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flex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rtifi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eak on validity (but strong on reliability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Secondary Analysis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ary Analysis – A form of research in which the data collected and processed by one researcher are reanalyzed by an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: General Social Surve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vantages: cheaper and faster than primary data coll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advantages: valid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ick Quiz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When is survey research the best method availabl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collecting original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describing a population too large to observe direct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measuring attitu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rvey research the best method available when collecting original data, when describing a population too large to observe directly, and when measuring attitu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 _____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t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rimen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378"/>
                </a:solidFill>
                <a:latin typeface="Verdana"/>
              </a:rPr>
              <a:t>Guidelines for Asking Questions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naire – A document containing questions and other types of items designed to solicit information appropriate for ana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osed-ended questions have a respondent select an answer from among a list provid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. As a general rule, a questionnaire should b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read 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s a general rule, a questionnaire should be spread out, uncluttered, and releva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. Which of these are among the many advantages that underlie the growing popularity of telephone survey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ven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l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e of the above cho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, time, and convenience are among the many advantages that underlie the growing popularity of telephone survey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. Which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reli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generalizabi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flexibility in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d validity is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 advantage of survey resear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6. The major problem with secondary analysis pertains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or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pothes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mpl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0b5cc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mpirical generaliz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NSWER: 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major problem with secondary analysis pertains to valid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hoose Appropriate Question Form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 and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-Ended and Closed-Ended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en-Ended Questions – Questions for which the respondent is asked to provide his/her own answer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losed-Ended Questions – Survey questions in which the respondent is asked to select an answer from among a list provided by the research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Items Cle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Double-Barreled Ques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Competent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pondents Must Be Willing to Ans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uestions Should Be Releva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ort Items are B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Negative It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oid Biased Items and Te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Questionnaire Construction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Questionnair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clutte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e question per l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buClr>
                <a:srgbClr val="f0ad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istent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Figure 9.1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60b5c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ats for Respond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887400" y="2286000"/>
            <a:ext cx="4979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7:02:08Z</dcterms:created>
  <dc:creator>AKO</dc:creator>
  <dc:description/>
  <dc:language>en-US</dc:language>
  <cp:lastModifiedBy>carrie tucek</cp:lastModifiedBy>
  <dcterms:modified xsi:type="dcterms:W3CDTF">2016-01-20T05:17:20Z</dcterms:modified>
  <cp:revision>14</cp:revision>
  <dc:subject/>
  <dc:title>Slide 1</dc:title>
</cp:coreProperties>
</file>