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E959-BAC7-462F-85A0-6D2192AD6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8BD3-076E-40EC-B6B4-3C73CE0A2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D01-55B8-4C2A-91E9-7D316902E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BB93-D55A-4C04-B3DB-FBFB6C65D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3289-D691-4237-B6BF-0DAD6E3D9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2C2-198D-43F1-8EA4-3813C36B3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BDD6-4EC9-434A-8CAE-4D54136BF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5E8-C9D3-4CD4-BF4E-CF2E936F9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4C76-59D8-4D3A-A781-7A2766A18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A25A-BD19-4F5F-898D-7E0BA0F72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12C0-F8DF-4B52-B839-A75AA40AF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F377-03FE-4F39-A751-AB29CD17D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0197-9726-4F09-9CC1-E91E1C6AA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950-51EE-4692-8495-2D5BBC5DF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5F40-B741-4CAE-9AF0-F66103CFF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476C-2780-4920-86E6-524486141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C29-F8F6-41E1-99A8-E8CEBB26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6E3-ADE1-416E-944B-48A28CDD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872-CF51-4A2C-B3B5-DCB14C77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3B5-9CFB-4FD8-956E-82B94B31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4AA1-A7C6-401F-8B81-F7B6757D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0168-EEF3-4F6F-BE24-1177BB89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B367-BF41-433D-B3B2-A4C587A1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1E6D-7EB2-47AE-BB67-B6322729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1192-3CBD-4388-B0DF-962D535B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DC94-DE80-4895-8008-F2E3B335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CB2-8DC2-4ED6-A2BC-31688BAA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8F0-4B58-448A-99DE-EF355680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0E52-020F-4558-A57C-669C67A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6447-096F-4056-A855-B5E0471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51AC-DB08-4ED1-9411-F9F3686A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29D6-035D-4500-A480-7992090D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688B-6BD5-4E72-8322-9903A72B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31046-A349-4A68-A06E-DC9FFD52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BF119-CFF3-41DE-A3E1-F8134E53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E9E78-EAE9-4363-83F7-2B6E8CC5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0CB50-024C-48A9-8D92-C3E346BE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CDD26-BF99-48CC-991F-BE90D9D4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D98-3B92-458E-AB81-056E1CF8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01FC5-58C9-4249-B488-AE7784B5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7FC81-2CE5-4023-8579-E68E00D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8FD01-AD58-43EC-B8F9-3848925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81F51-C1A3-479B-83D8-E10D560C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2C41B-AF08-42D0-B2B9-917B5061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7535D-6E34-4D3C-AE58-E5F83007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B95ED-8F17-43FF-9D1E-DCD70BAE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CB288-7F6C-454F-B722-4B72A95C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7144C-AA1C-449A-BFF4-E5F31682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1EE86-A2A1-4C04-B083-7AAAADF7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378-7DC3-4585-BBBA-13C2CA33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3A63A-A57A-45F9-9F1F-727E8022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102FC-0665-4924-80EE-60278E56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06B8B-8D86-4E12-98BA-FA7DC386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33AA4-D02D-41AA-B2EA-6008D77D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70982-E77B-47A5-8E97-D3436EBB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B1AE0-0ADA-4914-BA43-DAED31E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51BA9-AD0C-4167-868A-99E727FD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C1A93-2A68-48A2-A9E3-26FDDDF4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C77EA-2341-419F-8455-70BAF41A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190A5-A8A3-480A-8CF1-85CB46C2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B51-CAF8-4DFE-A28F-BC78A8A5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F6A0B-6ECF-4442-8CCC-35EFC592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6F37A-79D8-46F2-97B5-67E7AA58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3EA90-9D50-4D0D-9B6F-184B9023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90B1E-9CA2-4E37-95B2-6B6923F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ED25F-E5FE-4EB3-9EF0-9D81A5D2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6704D-E455-4B41-82D1-75A108AB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98A60-0B90-4C3B-A0FB-D2A5C104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DC76F-EDF4-4A15-8747-CD900C6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9ABED-C470-45A9-816D-3D6888DF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81AF3-E958-4BC9-96C0-BDE2D92C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D45-84B5-434F-B032-BC72BCED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5C5EE-1734-4837-A2AF-09278E5C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E0805-4934-4E5F-AD07-81A6D983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4DF6C-CEFB-4F3F-945E-4906723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DF3DE-0576-4CC0-B2F2-80A57A8B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345E4-185C-43F2-97AA-B2FDB9BC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B9A3-F66C-413B-9FF4-FDB2E7FE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76594-91B1-45E6-8234-078BD7B1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AD845-6F43-42B3-BBD5-499D787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51D45-4D45-40CD-8759-B642F662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C2538-50A9-4D65-BCC6-657F30C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302-AC9E-4906-8225-5B6B9952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CAA7-E382-4D04-8C49-76541C8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2760D-D9B7-4ABA-BDD2-778077BA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10D4F-071F-42A8-9047-FF74C1B5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62A7B-C273-42EB-B66A-2465B10D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57CE3-CBEB-4121-A13C-47DFFCFB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763E4-8331-4DF9-A4BB-77505F53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A9E7B-3B0E-4491-A2A2-60A37567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8F65B-13FD-4C1A-AA41-27497ADD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CF3552-FB33-4CFE-BA64-3F51C012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37DD0-BB76-4574-941D-AC8015D9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618-C49C-4A61-8441-188DA02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6587F-7D7D-46D9-88A7-991489F9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6D52A-8513-4D12-AEB7-F013ECF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49644-4CB0-4901-8206-13D8298F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079E4-E4B4-4121-A9C2-AA80D064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CD4BD-86FF-40D2-B643-56F81958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6596-F5D2-45E2-911D-16A7CE08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B185F-D000-4591-8294-3BD84AAD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27B7D-FD98-41C9-9B45-45E16C6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0E8F8-BEF5-4877-BDC9-C56979A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791CB-CD81-43B2-8AB6-A4D14CCE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668-A543-4773-8000-8881FA2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EF438-CEDA-4615-8F1C-47C959E3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C39E-5EB0-4A5C-84B8-5FD03C41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C5F55-6EC7-4D9B-8217-60B8E5B5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E917C-3089-4A49-893A-6520C8E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88E25-E2A0-4BC7-BADC-4CEA04C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C4F0C-2117-4070-9DDD-15313EC9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A099-A98C-48DA-92FC-4BB4030E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C0A0-0870-44DE-8357-3AB03E215F5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CB2D-D870-42F6-819D-AAB821F24F86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2EEB-F89F-43EA-AB4A-16512CA2F1CE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4CDE-DE8C-4794-AD1D-51AB9798A9E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367-F78E-4938-ACFC-A6D9CE3FF6F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D5DC-4275-4BEC-9662-351F72EC5534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4E7E-E3A2-4F98-92CB-939636C18BC3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1D36-6B2C-475D-A874-5A2E6FA69A7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9, SURVEY RESEARCH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ingency Question – A survey question intended for only some respondents, determined by their responses to some other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7214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09480" y="1558800"/>
            <a:ext cx="54626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22440" y="1620720"/>
            <a:ext cx="8035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rix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17400" y="2233440"/>
            <a:ext cx="8242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ering Items in a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-Ended or Closed-Ended Fir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domized Ord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sitivity to the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questions should go at the 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naire 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roductory comments and clear instru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-testing the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2268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elf-Administered Questionnair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s in which respondents are asked to complete the questionnaire by themsel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ics Appropriate for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Asking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naire Co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ison of the Different Survey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 and Weaknesses of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ics and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il Distribution and Retu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people not return questionnai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Retur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-Up Mail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 – The number of people participating in a survey divided by the number select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al = higher than 7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is a low response rate ba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can be done to improve respon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terview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view – A data-collection encounter in which one person (interviewer) asks questions of another (responde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ole of the Survey Intervie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olicit higher response rates (80-85%) than mail survey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s minimized “don’t know” and “no answer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erve as a guard against confu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can observe respondents while completing the questionnai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 for Survey 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ess appropria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questionnai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low question working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responses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e when necess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e – a technique employed interviewing to solicit a more complete answer to a ques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ordination and Contr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ow to handle difficult situ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actice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l”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elepho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95.5% of households have a teleph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me and mon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sonal safe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gus survey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listed phone numb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l ph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swering machines/voicemail/caller 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dom-Digit Dialing (RDD) – A sampling technique in which random numbers are selected from within the ranges of numbers assigned to active teleph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uter-Assisted Telephone Interviewing (CATI) – A data-collection technique in which a telephone-survey questionnaire is stored in a computer, permitting the interviewer to read the questions from the monitor and enter the answers on the computer key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ptive, exploratory, and explan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of analysis = respon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dents – A person who provides data for analysis by responding to a survey questionnai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samples, original data, measuring attitudes and ori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s in Interview Survey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nli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consistent word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simple langu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force excessive scro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offer to share select result with respond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plan time and day of initial mai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be aware of technical limi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test incentives, rewards, and priz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limit studies to less than 15 minu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ison of the Different Survey Method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faster than face-to-face intervi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ational is the same cost as local mailing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es small staf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willingness to answer controversial ite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ewer incomplete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effective for complicated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ce-to-face is more intim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more time effici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ailable software and web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ful in describing large popul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arge samples poss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rveys are 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ized ques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akn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ound pegs in square h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ldom deal with context of social lif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rtifi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ak on validity (but strong on reliability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econdary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Analysis – A form of research in which the data collected and processed by one researcher are reanalyzed by an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General Social Surv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vantages: cheaper and faster than primary data coll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advantages: valid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is survey research the best method availabl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collecting origin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describing a population too large to observe 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measuring attitu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 the best method available when collecting original data, when describing a population too large to observe directly, and when measuring attitu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t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Guidelines for Asking Question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 – A document containing questions and other types of items designed to solicit information appropriate for ana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s a general rule, a questionnaire should b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read 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a general rule, a questionnaire should be spread out, uncluttered, and releva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se are among the many advantages that underlie the growing popularity of telephone survey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ven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, time, and convenience are among the many advantages that underlie the growing popularity of telephone survey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generaliz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flexibility i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The major problem with secondary analysis pertains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mpirical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ajor problem with secondary analysis pertains to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hoose Appropriate Question For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 and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-Ended and Closed-Ended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-Ended Questions – Questions for which the respondent is asked to provide his/her own answer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losed-Ended Questions – Survey questions in which the respondent is asked to select an answer from among a list provided by the 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Items Cle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Double-Barreled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Competent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Willing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 Should Be 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ort Items are B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Negativ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Biased Items and Te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Questionnair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Questionnair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e question per 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isten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ats for Respond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887400" y="2286000"/>
            <a:ext cx="4979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7:20Z</dcterms:modified>
  <cp:revision>14</cp:revision>
  <dc:subject/>
  <dc:title>Slide 1</dc:title>
</cp:coreProperties>
</file>