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1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8921-B914-487C-9F3D-269B4A0E4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A312-26FD-4995-976C-1FA3542C9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9F05-720C-461A-82AB-E98F8DE15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670C-F1CE-4A1B-9167-8DEFAB479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BBA8-9690-4316-A96B-BA7AA9D12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94EE-CE35-4666-9CF8-89C62AC80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BC67-0871-4B0C-B15A-09686F71F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A0E1-F067-49CB-B410-C34E98E29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8363-7D3E-4EA5-B43E-C2AC5EDDA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20FA-856B-45B4-8754-C83648506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346B-6C82-4270-A546-ED71C3D71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A17D-3FA1-45C7-BEF0-A7653CC67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74CB-D351-4FCC-81A5-4B853D536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49D1-8237-4249-8D56-7FCAF3BBF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59C5-3F5B-431D-B78F-D5D20E39B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9514-9D21-4271-984E-4AE95EC07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EFB-A357-4AA5-A6F3-A4E40F8D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267-D709-44AD-B78E-5008676B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A00-8BC0-4354-ADA4-7ABE42CA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FEB-862D-4673-B8C1-980B9A26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9D90-0382-4033-A3E8-7186E927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A4A5-647E-45C5-8A14-ADF5AFA9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CA3A-4EF3-4730-B04A-010813C9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4414-8C50-42AC-80B5-50E251EC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09B4-50C8-4BDA-969C-71AA1DE9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BCB1-A16E-4C70-911D-9428BCBE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011D-C024-43B5-A17F-9DFB47F0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46A-AE2C-42AF-A63B-BB3F2273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4CEA-A117-40A5-AE27-1050D029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51D2-1D15-42E3-B07E-4E32821E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0B26-EDDB-4A05-B404-9C3A67DE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43FD-CD72-4F21-B419-D18D039F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BF28-F7F3-4649-BAD3-25DC9335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26F02-75D9-4702-98A7-A4EFB4C0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225C8-18C1-43CE-AF60-9CE5C417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B6900-E779-4A71-8222-067FEFC7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76369-3EAD-4CB5-A2A4-F4F5231A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45E07-BA3F-4122-ACAE-3510DA07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337-5129-4C3B-BF9D-CADEA08C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DBCC1-2108-4598-9683-976A4D57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54A60-1C2F-46EA-A72C-BE335984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D7F73-32ED-413C-A808-4E3195BA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AC995-F5D1-4A2D-920C-43460367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1D703-99CF-4E78-A553-C0400D64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88267-660D-4CA2-AC11-45379BC4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B6370-3C93-442E-8B8A-CA6B3D6C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C10E0-187B-47B6-929D-F53350FD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7873F-FF7E-4228-BC53-22C3E2BE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35B15B-3A59-454E-9670-7990A239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BC7-E07B-4891-80AA-C0D26216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9B3B18-C974-4109-ACA7-01DFB629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E3ED5-C1C1-4930-88B9-E48953DE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5A46C-878A-4C19-A175-DAB6FE81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227C9-A106-4885-9F83-2D8EB808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08044-83A8-4414-9963-335B8D86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9B6CD-D179-4FB5-97A9-D9A4CFEB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7A6D47-86CD-48F1-96BE-82B3F553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AEF96-9CA7-4833-9DEF-4854BB39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896A0-4D23-44AF-81E2-6A427196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D7C9A-87A2-4063-9C7F-E8B51A36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69E-2D4B-414B-AD59-CA5B5E24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B6205-71F5-44DA-9EBE-278B5E17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CAAE1-BCCC-4712-988B-1F86368F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39884-25EE-453D-90F1-8F5A6B15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994AC-6D40-44D7-8F6B-59A62002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FC283-D494-4243-A1DD-663D4C56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AB902-6F3A-4D8D-8409-346F1BBE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CB8A7-3D74-49F1-AC64-28495BEF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8E7F5-7D03-413C-8A50-E4F7AA80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57ECC-8791-484E-A269-A6724C15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E1275-36C7-447C-8258-7E82068B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6F5-3209-49F3-8BB6-F14BBCEA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CA394-F50A-46E2-A22A-3E70B049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592CF-7700-4AE8-B324-D22A642E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90454-F001-4BE7-B68C-10B74AF3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6324B-56D6-433F-A4D7-826337EC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07709-32C0-4817-AC03-E4B553BC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31293-EE87-4E73-9DD8-84B33889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6547A-931B-4641-ADF1-1E35D1AF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0BAB6-7BF8-44BF-ACA8-9728A347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C367E-95BD-437A-9373-85773022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1AC8C-43A6-4B50-9973-62827E8D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BAC-F987-4190-9B62-2E0CE932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2E732-95C8-4B6E-9E15-89F38920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C8E42-FE88-455E-96C7-BE75FE28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A516D-8657-4CAE-BA38-6AFFD1D4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9045C9-6E82-42EE-A4E2-9770137E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208E10-2E0F-443B-8173-0B1EB2DA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6966E-7800-4017-8770-D744F36B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2A493-AA9E-420D-9E66-C24FF128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A0EAB-3A8F-4AF4-AEE1-9AB851E0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0A748B-F215-4B8B-A992-3D110309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26EA2D-F9C0-4A37-8590-1AC301FE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2CF-DDBD-4E5D-B9A8-FAB426C2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83FC6-0C1D-4FF1-83BA-5913AA4D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5B394-D8C5-4487-A0AB-1F641632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BF60A9-6182-40D8-B858-E2CC5904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8CD61-8207-4A4D-AE1D-99105EBF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D81A8-84CE-4BCF-8A4B-3B65A902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B8ACE-8FED-4356-873D-1FC26F80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1494B-144A-43A8-8C4A-2AE0FDED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0D742-67AE-44BD-AAB7-3BAC07F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1735D-EA5B-427E-95F4-DEE73B5B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57972-F222-483C-9832-BFEED799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E13-B11F-40E9-9B60-706A8EF9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8A1E1-D929-4CF1-A045-53647E96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84EF3-2578-4341-9EF2-A8DAD0D7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6CDDA-F177-4596-9EBA-2D92F5F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450CE-13CB-458F-A9EE-76A7C059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B9295-EB4D-4E6C-B285-6E9854A0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57558-44C8-4CAF-A3DC-C4122CD2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F9F35-2957-4A22-BFED-6E823CD9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A09F-12CC-4F2A-A460-41D8D8DEB7B3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29B5-7832-4B5E-8D03-83E148A873EC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2708-B6A5-4E17-96B1-139DB9E176D1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DA54-040B-4A47-8045-25B3C18A5F00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92DA-F711-4FB2-B032-C81B11E7358A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A70B-EC35-498A-A14A-549A9F0AD886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2857-BCA8-4742-8212-27F11400DD2F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55A1-1C38-485A-8D44-72F7ED6BC69D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9, SURVEY RESEARCH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ingency Question – A survey question intended for only some respondents, determined by their responses to some other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7214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09480" y="1558800"/>
            <a:ext cx="546264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22440" y="1620720"/>
            <a:ext cx="8035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rix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617400" y="2233440"/>
            <a:ext cx="82425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ering Items in a Questionna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ear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n-Ended or Closed-Ended Fir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domized Orde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nsitivity to the Prob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ographic questions should go at the e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naire Instru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roductory comments and clear instru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-testing the Questionna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6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62268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elf-Administered Questionnair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s in which respondents are asked to complete the questionnaire by themselv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ics Appropriate for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elines for Asking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naire Co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Administered Question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view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ephone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ine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ison of the Different Survey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ngths and Weaknesses of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ary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ics and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il Distribution and Retu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do people not return questionnai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Retur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llow-Up Mail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Rate – The number of people participating in a survey divided by the number selected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al = higher than 7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is a low response rate bad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can be done to improve respon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terview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view – A data-collection encounter in which one person (interviewer) asks questions of another (responde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ole of the Survey Intervie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solicit higher response rates (80-85%) than mail survey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s minimized “don’t know” and “no answer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serve as a guard against confus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can observe respondents while completing the questionnai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Guidelines for Survey Interview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ess appropriat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familiar with questionnai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llow question working exact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responses exact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e when necess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e – a technique employed interviewing to solicit a more complete answer to a ques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ordination and Contr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eneral guideli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ow to handle difficult situ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actice interview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l” interview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elephone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95.5% of households have a telepho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me and mone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sonal safe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ogus survey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listed phone numb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ll ph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swering machines/voicemail/caller 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ndom-Digit Dialing (RDD) – A sampling technique in which random numbers are selected from within the ranges of numbers assigned to active telephon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uter-Assisted Telephone Interviewing (CATI) – A data-collection technique in which a telephone-survey questionnaire is stored in a computer, permitting the interviewer to read the questions from the monitor and enter the answers on the computer keyboa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Survey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ptive, exploratory, and explan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s of analysis = respon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pondents – A person who provides data for analysis by responding to a survey questionnai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samples, original data, measuring attitudes and ori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Rates in Interview Survey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Online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use consistent word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use simple langu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force excessive scrol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offer to share select result with respond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plan time and day of initial mai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be aware of technical limi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test incentives, rewards, and priz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limit studies to less than 15 minu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mparison of the Different Survey Method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Administered Questionnai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aper and faster than face-to-face interview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ational is the same cost as local mailing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es small staf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re willingness to answer controversial ite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ewer incomplete questionn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re effective for complicated questionn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ace-to-face is more intim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phone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aper and more time effici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ine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ailable software and websit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trengths and Weaknesses of Survey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ength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eful in describing large popul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ke large samples poss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rveys are flex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ndardized ques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akne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ound pegs in square ho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ldom deal with context of social lif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flex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rtifici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ak on validity (but strong on reliability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econdary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ary Analysis – A form of research in which the data collected and processed by one researcher are reanalyzed by an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General Social Surve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vantages: cheaper and faster than primary data colle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advantages: valid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en is survey research the best method availabl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collecting origin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describing a population too large to observe direct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measuring attitud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ey research the best method available when collecting original data, when describing a population too large to observe directly, and when measuring attitu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questions have a respondent select an answer from among a list provid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n-En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t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d-En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Guidelines for Asking Question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 – A document containing questions and other types of items designed to solicit information appropriate for ana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d-ended questions have a respondent select an answer from among a list provid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As a general rule, a questionnaire should b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read 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clutte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ev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a general rule, a questionnaire should be spread out, uncluttered, and releva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se are among the many advantages that underlie the growing popularity of telephone survey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ven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, time, and convenience are among the many advantages that underlie the growing popularity of telephone survey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i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 advantage of survey resear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generaliz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flexibility in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validity i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 advantage of survey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The major problem with secondary analysis pertains 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mpirical 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ajor problem with secondary analysis pertains to 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hoose Appropriate Question Form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 and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-Ended and Closed-Ended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n-Ended Questions – Questions for which the respondent is asked to provide his/her own answer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losed-Ended Questions – Survey questions in which the respondent is asked to select an answer from among a list provided by the researc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e Items Clea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Double-Barreled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dents Must Be Competent to Ans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dents Must Be Willing to Ans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s Should Be Relev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ort Items are B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Negative I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Biased Items and Te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Questionnaire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Questionnair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clutte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ne question per li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isten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ats for Respond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887400" y="2286000"/>
            <a:ext cx="4979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7:20Z</dcterms:modified>
  <cp:revision>14</cp:revision>
  <dc:subject/>
  <dc:title>Slide 1</dc:title>
</cp:coreProperties>
</file>