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C1E5-B5D1-4F17-BB48-134EA0AFB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ing Unit – That element of set of elements considered for selection in some stage of samp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3AE0-BB20-46B2-BFF7-5CBD83388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5C0A-5CCD-4C3E-807B-D1BB66652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10C4-DFBA-4F0E-AC41-4DE7696B2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0453-D657-4EF6-A1A8-C6D406841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434-38F6-4E04-9E07-50947A67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C14-0D5A-4B30-B117-7EBB0D3F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F19-E305-4D60-BC85-C19DC847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B45-1E9C-44D0-A8B3-5DD32D2F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FF7F-D9BC-4E3F-97C4-AE0A6CCC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4587-EF35-4F90-BC73-B1645645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315C-FDC3-4F2C-B81C-60DAAFC9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81D8-7BC4-4E1A-96F0-859CD56B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87C6-6846-4735-9DA9-ABB130E2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70FE-13C4-46B2-96EE-1E964912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1B37-628E-437E-B161-5A782F3B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A83-55B2-45F2-9B23-00F7E39F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1020-9F9C-4DDD-85F8-125B84F6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08B1-8365-40E8-987C-68A86336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A369-E8EF-42E3-A68F-A4B26455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8B32-0255-45F2-90CF-8C8BB294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BC8B-86F3-4C2F-91B3-4BFD550D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779F2-BE24-4447-80FA-F139C746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268DB-8BC6-4732-88CF-5B3CE116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E87C6-24EA-46A8-B56F-23671FCE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C2333-294D-4D8C-AA64-90CF1CEE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C913E-722C-4AA3-9526-C51F8278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9476-1109-422D-A26A-B3A50481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AA0C6-AA9A-4B27-B4F3-AD242F86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203E4-A8F7-46E1-9A8D-CB012B79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D5431-C10A-4749-B239-861FA180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41944-C146-455F-BDB8-D49456D0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B46AD-96DA-4D94-B829-97B1E25F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B54AB-2D07-434A-A64C-3A936760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AF41C-7830-430D-AA75-9599D11B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05795-B987-4D25-99FA-DD65A842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3B2001-4676-47DA-87B2-B8D85067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5DE72-EBE5-4886-8E2F-0F7DC9D6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E58-6543-486C-B7A4-3937075E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0B2D9-0268-4E39-A8FA-AA4F4968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A91EF-FAF5-4A78-B42B-D558448E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841FC-3C36-4E87-99A9-25455010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9097BF-6904-4272-9E78-EB019DDC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F8CEE-1097-49C5-8105-D66C0CD1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9EF358-FAC1-4BB5-9229-3EF8A212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2734F-720F-43F9-BF36-D30D3D24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254245-78E0-4BC2-9DEB-BE763D9A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6BAD1-9171-46C5-8722-4B72A2FF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CE0E7-7BA6-48F1-9529-A2150BD2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B35-7EFE-4815-8564-84E5A10D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53B34-20FF-4563-A43F-0C84B7B8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10B84-497D-4395-B076-62F445B7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6DFA7-3924-4313-ABA5-37861464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B8BFE-7AAD-44DA-BD2E-F9BC65D2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E7FAF8-437C-4080-A2C1-B1104252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3109AF-EB2B-4B21-8813-5C24A60C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4E7CD-CAA5-4ADD-BDA3-62467DE7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0F25C8-0FF1-4415-8145-B0993343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BD3A8-97E6-4243-A7A2-A040CE32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EBC46C-AC5A-46B8-9DB9-BFD754E2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074-FFDC-4520-B3B9-2A307CA9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9DA32-A7EC-4598-8ACE-D8C4AEAF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528F1-C2A7-482F-B49E-4AB57B66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7B7DD-D38D-40BF-88E5-DEDE59C7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68115-FCBE-4676-8DD9-862AD0C8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67FFF-003C-4FFF-BF3A-9E32506D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D08E0-C65D-405E-8620-F9382C48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687E3-6A59-4455-9EBF-7B737B75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4BDEF-036B-425C-9475-5BA49297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ADDEF-F8E4-41F0-8621-7ED561FD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FD176-802A-4855-84B3-AD192C41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98C-91CE-46CE-BA8A-07E12F68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70FCF-4483-4726-8014-285CBF5B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ED790-88D7-448F-B98F-1DA3DCED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6E263-5AFC-4B81-B8D0-E9E614AD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23992F-A029-4E4E-A604-CBB53B54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5353B-49B6-47D3-A8BA-B87A6FAC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8EEAFF-96E6-4BB9-AB19-5D5916DC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1E3CAF-7B1B-45C4-A2DA-3FC54B66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67294B-9B62-4808-A878-6846A816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FABF46-D6A9-4602-B308-4E099F67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6A8DEE-F896-40A4-9305-CE136D21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41F-17F8-4DB5-B31F-64C1593A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55F0AE-C2C6-4203-B2C1-B5928B55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8EE81-82F6-4EA8-B7C3-C9C6A9C1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78F101-CB80-41D8-9F9B-EE60FBDA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6FDC5-4EA8-4699-A1F8-95F0E440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4BEDB-D972-4481-952E-FAE75DDD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A5919-6EA1-48DF-BB19-88CBF27C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C00AC-1EFF-4793-94C4-A7CCD141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241D7-FCB8-42CF-876D-3AC96410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E652E-AE6C-401C-96B5-D9552740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CCE52-8065-4397-B5F1-697F7801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838-E030-4D52-B38C-176935AD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38F12-14D0-4228-8B97-0B864C83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79ED0-B181-48EA-91A1-8F938ABB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57648-705B-47F9-A2EC-C8CC40B3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E937A-000D-4FEF-A466-6676EE7C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21A8E-A993-4A73-BCC2-025DD594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3085B-90D6-4709-A917-877DB024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E9554-D4F6-402D-AA1E-7E8E1E89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8E43-E9D5-43A6-A547-E67347389026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7C1E-BB2F-4B68-A75C-20750B9A6AED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F3E1-7B53-4758-B2D9-40E6B63A7DC5}" type="datetime">
              <a:rPr b="0" lang="en-US" sz="20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445D-BAF9-4FBB-BF56-1501D1558A48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9A9A-CD92-46C8-A0CC-4DEA689E5071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586F-075F-45A0-8058-40E69F8D506A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3850-543C-4F1F-B8B5-26D6479EC495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A4C5-DA68-40DF-ABA8-6ECAE59B6150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CBB2-6B36-4420-8093-161DC2DEF9FE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445F-7F0C-45DF-9ED3-651BF0379DA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665A-82E8-4D8F-AC03-62B412C5A7F1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B9A0-A121-4938-8348-9F67C0CAF3D5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CAEA-3B33-4206-A17A-334B6549946C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D22C-92B8-4960-A842-DEED264C8888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A292-64FC-429E-9870-5C05167F9C92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B685-4EC6-427A-BE2A-C9BAAD4B6CF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7, THE LOGIC OF SAMPLING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A812-3EB6-46E6-8D5D-96FD72A4C58F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ecting Informa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forman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Someone who is well versed in the social phenomenon that you wish to study and who is willing to tell you what s/he knows about i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93BA-825F-46C2-A64E-0980157D9DE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Theory and Logic of Probability Sampling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Probability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The general term for samples selected in accord with probability theory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ten used for large-scale surve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ll members of a population were identical in all respects there would be no need for careful sampling procedures. However, this is rarely the s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ample of individuals from a population must contain the same variations that exist in the popu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4DDA-FAB1-4C31-9114-5EAE3571FBF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2 – A population of 100 Folk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5694480" cy="459108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DF80-8420-4422-BDE3-3B553F8AC5D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cious and Unconscious Sampling B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ia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ose selected are not typical nor representative of the larger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2148-56D9-46DF-B2DA-F6C6CDE85DC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Perfect Probability Sampl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98" name="Content Placeholder 6" descr=""/>
          <p:cNvPicPr/>
          <p:nvPr/>
        </p:nvPicPr>
        <p:blipFill>
          <a:blip r:embed="rId1"/>
          <a:stretch/>
        </p:blipFill>
        <p:spPr>
          <a:xfrm>
            <a:off x="682560" y="1589040"/>
            <a:ext cx="3740040" cy="4570560"/>
          </a:xfrm>
          <a:prstGeom prst="rect">
            <a:avLst/>
          </a:prstGeom>
          <a:ln w="0">
            <a:noFill/>
          </a:ln>
        </p:spPr>
      </p:pic>
      <p:pic>
        <p:nvPicPr>
          <p:cNvPr id="399" name="Content Placeholder 7" descr=""/>
          <p:cNvPicPr/>
          <p:nvPr/>
        </p:nvPicPr>
        <p:blipFill>
          <a:blip r:embed="rId2"/>
          <a:stretch/>
        </p:blipFill>
        <p:spPr>
          <a:xfrm>
            <a:off x="4917960" y="1589040"/>
            <a:ext cx="3740400" cy="4570560"/>
          </a:xfrm>
          <a:prstGeom prst="rect">
            <a:avLst/>
          </a:prstGeom>
          <a:ln w="0">
            <a:noFill/>
          </a:ln>
        </p:spPr>
      </p:pic>
      <p:sp>
        <p:nvSpPr>
          <p:cNvPr id="40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878B-3298-4E85-BA2B-D6A4FC59C88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Less-Than-Perfect Probability Sample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402" name="Content Placeholder 6" descr=""/>
          <p:cNvPicPr/>
          <p:nvPr/>
        </p:nvPicPr>
        <p:blipFill>
          <a:blip r:embed="rId1"/>
          <a:stretch/>
        </p:blipFill>
        <p:spPr>
          <a:xfrm>
            <a:off x="682560" y="1589040"/>
            <a:ext cx="3740040" cy="4570560"/>
          </a:xfrm>
          <a:prstGeom prst="rect">
            <a:avLst/>
          </a:prstGeom>
          <a:ln w="0">
            <a:noFill/>
          </a:ln>
        </p:spPr>
      </p:pic>
      <p:pic>
        <p:nvPicPr>
          <p:cNvPr id="403" name="Content Placeholder 7" descr=""/>
          <p:cNvPicPr/>
          <p:nvPr/>
        </p:nvPicPr>
        <p:blipFill>
          <a:blip r:embed="rId2"/>
          <a:stretch/>
        </p:blipFill>
        <p:spPr>
          <a:xfrm>
            <a:off x="4917960" y="1589040"/>
            <a:ext cx="3740400" cy="4570560"/>
          </a:xfrm>
          <a:prstGeom prst="rect">
            <a:avLst/>
          </a:prstGeom>
          <a:ln w="0">
            <a:noFill/>
          </a:ln>
        </p:spPr>
      </p:pic>
      <p:sp>
        <p:nvSpPr>
          <p:cNvPr id="40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BC1E-1F1B-4937-9AC1-B0ED5E952B1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a6378"/>
                </a:solidFill>
                <a:latin typeface="Verdana"/>
              </a:rPr>
              <a:t>Figure 7.3 – Convenience Sample, easy but not representative</a:t>
            </a:r>
            <a:endParaRPr b="0" lang="en-US" sz="3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78960" cy="4419720"/>
          </a:xfrm>
          <a:prstGeom prst="rect">
            <a:avLst/>
          </a:prstGeom>
          <a:ln w="0">
            <a:noFill/>
          </a:ln>
        </p:spPr>
      </p:pic>
      <p:sp>
        <p:nvSpPr>
          <p:cNvPr id="408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9C74-8909-40B7-82AE-A466EEC0B6D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 and Probability of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presentativenes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quality of a sample of having the same distribution of characteristics as the population from which it was selec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mples need not be representative in all respects, only those relevant to the researc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CF69-7A31-4595-8BF5-F2411183964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ample will be representative of the population from which it is selected if all members of the population have an equal chance of being selected in the samp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PSE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Equal Probability of Selection Metho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0509-A815-4CA4-816D-72D5A0C2E1B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vantages of Probability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ability samples are typically more representative than other types of samples because biases are avoided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ability theory permits researchers to estimate the accuracy or representativeness of the samp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735B-B103-4C2B-8771-3DF7DFE4CD2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Brief History of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probability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Theory and Logic of Probability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opulations and Sampling Fram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ypes of Sampling Design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ultistage Cluster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obability Sampling in Review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Ethics of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8BEF-028F-47F9-BADE-C252105EC6B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at unit of which a population is composed and which is selected in a samp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opul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theoretically specified aggregation of the elements in a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ud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opul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sampling method in which each element has an equal chance of selection independent of any other event in the selection proc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0A07-D2E7-44E2-85CE-61079774416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andom Selection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Each element has an equal change of selection independent of any other event in the selection proces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8A4E-F25C-4339-8AD1-B79C9F10791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Theory, Sampling Distributions, and Estimates of Sampling Err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summary description of a given variable in a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: the mean income of all families in a ci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: age distribution of a city’s popula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444C-76BC-4522-8C93-230F65C2277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a6378"/>
                </a:solidFill>
                <a:latin typeface="Verdana"/>
              </a:rPr>
              <a:t>Figure 7.4 – A population of 10 People with $0-$9</a:t>
            </a:r>
            <a:endParaRPr b="0" lang="en-US" sz="42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ampling Distribution of Ten Ca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762120" y="2228760"/>
            <a:ext cx="8285040" cy="401976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EE93-0970-4769-B71B-C61277F55BB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Figures 7.5 &amp; 7.6; Sampling Distribution of Samples of 1, 2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033800" cy="3645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227480" cy="335268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2490-A7BA-414F-BDFF-DA5ED54944E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533520" y="5334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how increasing from a sample size of 1 to 2 provides somewhat better estimates of the mean (we couldn’t get $0 or $9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7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360" y="1600200"/>
            <a:ext cx="3273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 we increase the sample size, the possible sample cluster ever more tightly around the true value of the mea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5257800" cy="5715000"/>
          </a:xfrm>
          <a:prstGeom prst="rect">
            <a:avLst/>
          </a:prstGeom>
          <a:ln w="0">
            <a:noFill/>
          </a:ln>
        </p:spPr>
      </p:pic>
      <p:sp>
        <p:nvSpPr>
          <p:cNvPr id="44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0DE1-DFA5-4E0A-AACD-72391F95257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atistic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summary description of a variable in a sample, used to estimate a population parame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3523-26C1-4AA9-9250-4FE63F848DB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8 – Range of Possible Sample Study Results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407440" cy="207648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02FB-72E7-43F3-B550-BB1F59E6C8B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9 – Results produced by Three Hypothetical Studies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571680" y="1638360"/>
            <a:ext cx="8407080" cy="4152960"/>
          </a:xfrm>
          <a:prstGeom prst="rect">
            <a:avLst/>
          </a:prstGeom>
          <a:ln w="0">
            <a:noFill/>
          </a:ln>
        </p:spPr>
      </p:pic>
      <p:sp>
        <p:nvSpPr>
          <p:cNvPr id="451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A02C-12D1-4F56-A1ED-D9BEDCEFFA9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10 – The Sampling Distribu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647640" y="1676520"/>
            <a:ext cx="8224920" cy="3886200"/>
          </a:xfrm>
          <a:prstGeom prst="rect">
            <a:avLst/>
          </a:prstGeom>
          <a:ln w="0">
            <a:noFill/>
          </a:ln>
        </p:spPr>
      </p:pic>
      <p:sp>
        <p:nvSpPr>
          <p:cNvPr id="45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BD96-1021-4403-9B54-460DFDC8CFE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– The process of selecting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8F2D-3AF9-4D91-9FD9-8AEF483C0D4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degree of error to be expected of a given sample desig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B062-9EEF-4EE8-AED5-2A7E19A1653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Levels and Confidence Interv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fidence Lev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estimated probability that a population parameter lies within a given confidence interv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fiden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terva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range of values within which a population parameter is estimated to li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1DAA-D28C-4C96-B268-4E7DCE4257E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Populations and Sampling Fram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Fram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list of units composing a population from which a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sample is to be representative of the population, it is essential that the sampling frame include all members of the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E0E8-BC0A-4D94-A2FF-6D96A8B9A0F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Guidelines for Populations and Sampling Fram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ings based on a sample represent only the aggregation of elements that compose the sampling fr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ing frames do not include all the elements their names might imply. Omissions are inevit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be generalized, all elements must have equal representation in the fr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68FF-A7CA-42B5-918E-E4754176AA3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ypes of Sampling Design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mple Random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stematic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atified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it Stratification in Systematic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6B86-07D7-4CBF-8BFF-12D7D4695A6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impl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ando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ype of probability sampling in which the units composing a population are assigned numbers. A set of random numbers is generated and the units having those numbers are included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necessarily the most accurate sampling meth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E7F8-EFD3-4545-91D9-30D20A30C46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5a6378"/>
                </a:solidFill>
                <a:latin typeface="Verdana"/>
              </a:rPr>
              <a:t>Figure 7.11 – A Simple Random Sample</a:t>
            </a:r>
            <a:endParaRPr b="0" lang="en-US" sz="37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2514600" y="1238400"/>
            <a:ext cx="6400800" cy="5391000"/>
          </a:xfrm>
          <a:prstGeom prst="rect">
            <a:avLst/>
          </a:prstGeom>
          <a:ln w="0">
            <a:noFill/>
          </a:ln>
        </p:spPr>
      </p:pic>
      <p:sp>
        <p:nvSpPr>
          <p:cNvPr id="47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EE3D-906C-49B2-9536-F45981DC0A0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ystematic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ype of probability sampling in which every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unit in a list is selected for inclusion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sampling interval (which is calculated by: population size / sample siz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ightly more accurate than simple random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0AFB-1D4A-4357-93A4-7D2E2538944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tratifi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ratific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grouping of the units composing a population into homogenous groups (strata) before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ightly more accurate than simple random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atification is a modification to simple random and systematic sample metho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D72C-2C62-4A39-B1BC-EED9F208D0D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12 – A Stratified, Systematic Sample with a Random Start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7238520" y="1600200"/>
            <a:ext cx="1676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tified by Gender, every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 person is selected into the sample (in this case every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609480" y="1619280"/>
            <a:ext cx="6721560" cy="4781520"/>
          </a:xfrm>
          <a:prstGeom prst="rect">
            <a:avLst/>
          </a:prstGeom>
          <a:ln w="0">
            <a:noFill/>
          </a:ln>
        </p:spPr>
      </p:pic>
      <p:sp>
        <p:nvSpPr>
          <p:cNvPr id="48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A120-284F-452D-8797-6E67051EB98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A Brief History of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esident” Alf Land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ry Digest poll, 193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million ballots mailed to people listed in telephone dir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esident” Thomas E. Dewey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llup’s quota samp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CA75-C6BF-4621-BDB8-4704A1CF656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it Stratification in Systematic Sampling occurs when a list is already ordered into strata or groups.  Class (i.e. freshman, sophomore, etc) is a implicitly stratified list of stud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F564-D9C1-4340-841D-D0437E5284D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Multistage Cluster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Cluster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– A multistage sampling in which natural groups are sampled initially with the members of each selected group being sub-sampled afterwar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Used when it is not practical or possible to create a list of all elements that compose the target popu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ighly efficient, but less accurat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B77F-8A7F-4ED9-B47A-98B60A7B575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13 – Multistage Cluster Sampling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12360" y="1600200"/>
            <a:ext cx="2739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gin by selecting a sample of the clusters (in this case, city blocks), then make a list of elements (in this case, households) and select a sample of elements (persons) from each of the selected clus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3486240" y="1066680"/>
            <a:ext cx="5657760" cy="5334120"/>
          </a:xfrm>
          <a:prstGeom prst="rect">
            <a:avLst/>
          </a:prstGeom>
          <a:ln w="0">
            <a:noFill/>
          </a:ln>
        </p:spPr>
      </p:pic>
      <p:sp>
        <p:nvSpPr>
          <p:cNvPr id="49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E838-E7BA-42DE-8A5D-91DDDFD08CE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robability Proportionate to Size (PPS)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 type of multistage cluster sample in which clusters are selected not with equal probabilities but with probabilities proportionate to their sizes—as measured by the number of units to be sub-sampl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ore sophisticated form of cluster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85B7-1CF4-4F86-8FE2-06EE4F4A7B7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Disproportionate Sampling and Weigh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eight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ssigning different weights to cases that were selected into a sample with different probabilities of selec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ten used when you didn’t sample enough of some c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D01C-1F76-4233-ABDE-6B60D0A4E36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0" y="175248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371B-5111-485B-BF70-239F5F7EAEAF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One of the most visible uses of survey sampling lies in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pol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e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755F-5D18-4793-9DB7-5BBA44BA79C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of the most visible uses of survey sampling lies in political poll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0F9D-232A-441A-8C94-4E190E39115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sampling occurs when units are selected on the basis of pre-specified 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nowba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o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A9EA-0D00-41AE-8F73-E6DE0D23695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ota sampling occurs when the units are selected on the basis of pre-specified 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C66A-AC9B-4C80-B1E4-8A550143BAF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Nonprobability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Nonprobability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ny technique in which samples are selected in some way not suggested by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le subjec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posive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nowball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ota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C9C8-132A-41C8-A752-1F687B7DD0C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describes a sample whose aggregate characteristics closely approximate the aggregate characteristics of the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clu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S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87D6-C227-45C6-A372-3A98B69ED1D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 describes a sample whose aggregate characteristics closely approximate the aggregate characteristics of the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4560-4560-4238-A124-EDE3D8D96FA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A _____ is the list of elements from which a probability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fra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stematic samp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8EDD-1488-41AD-8694-E1566DEEF5B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ampling frame is the list of elements from which a probability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0688-AE2D-42D4-9F12-C2944D9A206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_____ is the general term for samples selected in accord with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probability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D24F-2DD5-492F-93C6-B50EABDF427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 is the general term for samples selected in accord with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0398-8CBA-4008-96EE-F28A8F590B2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A _____ population is that aggregation of elements from which a sample if actually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etic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ma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r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1AFC-2C7F-4157-BF11-F321EB444AE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tudy population is that aggregation of elements from which a sample if actually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9840-EAF7-46FE-B5F5-80E45EFB11B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Cluster sampling may be used when it is impossible to compile an exhaustive list of the elements composing the target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AA4A-2869-4572-AFD0-04023543504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uster sampling may be used when it is impossible to compile an exhaustive list of the elements composing the target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404E-F840-4EE4-BE33-D55604A0745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nce on Available Sub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venience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es not allow for control over representativen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justified if less risky methods are unavail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earchers must be very cautious about generalizing when this method is us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D0F1-E650-4099-A6DF-694C69472F3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Purposive or Judgmental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A type of nonprobability sampling in which the units to be observed are selected on the basis of the researcher’s judgment about which ones will be the most useful or representativ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subsets of a pop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-group compari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iant c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9D3B-8611-4307-8AB2-3107ECB10D8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nowball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 nonprobability sampling method whereby each person interviewed may be asked to suggest additional people for intervie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ten used in field research, special popul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3E8C-DECF-4666-BE12-4AC1D9345C9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Quota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A type of nonprobability sampling in which units are selected into a sample on the basis of pre-specified characteristics, so that the total sample will have the same distribution of characteristics assumed to exist in the population being studie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probability sampling, but has problems: quota frame must be accurate, selection of sample elements may be bi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91F1-A6F5-4BEE-9D84-835B0C4DA3B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6:02Z</dcterms:modified>
  <cp:revision>27</cp:revision>
  <dc:subject/>
  <dc:title>Slide 1</dc:title>
</cp:coreProperties>
</file>