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DD9D-F7E6-43D2-87F0-3689CF05B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ing Unit – That element of set of elements considered for selection in some stage of sampl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AE9C-7197-44EA-B5D9-29329EDA5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3975-B689-4789-9FFD-BFF60C9BB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7725-7C50-4400-9494-2C19C147E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4E39-B857-45DF-ABB8-1470CA87F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9D18-A1B8-4948-8586-6D7DCA3F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E31-F3CE-4A58-ACC7-DE3B785C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94A-45ED-4DE6-917F-3EB1B8B5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395-5609-4F65-9181-41C8B9C9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E173-1448-45AC-9FC7-EBCAC9AB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303D-640E-42E3-A644-4BA1CD43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50D9-B3B5-4E19-88E9-2C115E96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3D9C-50B7-4635-9E0C-EA663C14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E8D8-9033-49D4-9854-94D3A5E6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57F1-967A-43B2-AF92-BB497342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93A1-5C9C-4609-A0F2-34FD96A6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7E5-85AF-4740-9061-CE286A9A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2518-AF7B-458C-B173-3EEAB66A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322C-177F-47DB-9B48-452B7071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2206-1C1E-487C-AF96-FC82E6E2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B005-4F63-4BF1-ACA1-6B206D22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7AF9-49DF-454E-A70B-D80DC1DB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1780C-AA4F-4D31-839A-6EB4DA64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38C2D-BBE5-4BA9-B9FC-DAA07523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04E8A-8038-4DB5-B684-F3BC2650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13EFB0-F4B1-49A8-BFFF-BABFA9E6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11F12-74D3-423D-AD41-2455B430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9D13-CA81-425B-9CF9-31AC4D87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BD921-1A34-4CA2-803F-77E06386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55C04-94C9-4725-BB25-C1B34E06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51C52-BDFF-43BA-A566-6F55F779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8E82D-CC9C-4850-9435-7849F7BE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E2021-E80C-41AF-BACE-D360D316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D204B-E09C-41EE-B1FB-F6E13CBC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3E97A-E808-4F90-A129-07A6FCC6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D3D4F-D8AB-47B2-A258-3D6C1103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9D22F9-E1AE-45D8-8B16-B211F9F8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C8F2B-7BE9-490F-938F-19C2465C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B39-335A-4A1C-86B0-B84FFD73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7102B4-9DB4-46F6-BF25-45ADA6A9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A357EE-9F01-4979-9D09-325CD759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0AFD12-7735-4E98-A349-0A5A3F19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C4882-CBD2-4163-A9E2-7A503A79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44CA31-68BC-4FDC-878F-116AE334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A543F8-4C9B-499C-AEA9-D2EEFD5E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79E9EE-2327-4A02-8254-6BC75260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44AF0B-E212-438E-9551-A0594062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D916F3-055F-4D4E-A248-4C7C2AA5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32FA0-D388-4AE9-BE77-DE06B43B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9884-1990-4DB8-8525-DF4AAFBA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83393E-FC20-47B2-9331-31900A9F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656C3-967B-46D0-932D-A3016986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E4FAA-80A6-4DD1-AF99-FA384400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F4157-E183-4548-96D4-024E1AF9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43437-BE55-42E0-BBA6-1A104953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5EFEB6-03FD-4F41-B282-01F6B877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4169C3-E325-4DBC-8FCF-749E7A65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ED4C1B-F0DD-4588-A939-3BF95937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791DE-C05F-4113-B10A-D92CC6D1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EBD431-CD1F-41A8-B624-220D5DAC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76B-3487-4F42-A668-A275EEBC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6E4BF-F6C8-4B95-A14E-CB828E3B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5FBCD-785C-417B-89F9-980E86A5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9535A-D087-4F26-BA4A-1B501DD5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BE4E3-387B-47EF-A171-81138BF2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BB2B3-5CD7-4833-80EF-A76788DE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2DB13-1A09-4066-9C71-66DBDBE8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664C3-2331-4D13-ABFE-D8609FF2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9C3FD-4B56-4956-97E7-FBA82665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DAB0F-8223-47B4-9C37-95E44775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9702B-5D8F-4AE1-9999-4BC1F900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7052-ABF6-4E20-AE90-58499682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97381-01A3-4BDD-8689-8187893C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14AEB-0D42-45AA-AE54-1C072BA0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62B2F-A292-4100-B010-5E114AE1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6E92D3-7D37-49A1-9664-1292C5DA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6F4FA-AE6A-4FEF-9F33-72591408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BE9F1E-490B-4BBB-831C-6275E2F1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3049EF-CEE4-40F4-9535-8959716B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074B7C-E0D7-4769-921F-10128872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14F112-FCA9-4672-8523-130B7C0E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888F30-AE77-4D43-A255-F8C11BFA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3A54-5469-442D-8FAD-8AF2A026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9B226B-0334-4271-9441-B3407987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796E93-EA38-415B-A29A-B190DB28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31CC0F-DEF6-4652-AFDB-544A0682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1B85F9-AD45-4AF2-8D5A-083EAD62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98465B-9AB8-43A1-9677-0D595760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D8CC5-2B77-492C-B82F-9A154343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46E4F-838C-4408-A81D-D3A52F4D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18898-5A60-4A55-BDFC-A4D9C20E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86A53-78F0-4B2E-9E6A-A6E524E3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BFF11-CC1D-4736-8FAF-AF105DB3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B45-E4C7-445A-AD62-81721955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A4E58-6C37-4BD5-9389-7DC81547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7D98A-568F-4B9E-A19B-460A12A0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565F6-751F-4D45-9436-C1FE8C59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530D7-1213-4793-AF88-91A63DBF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D9B95-4CA6-4FC8-9D68-FDBC9D8C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72923-C555-4EF3-B364-9FCCF13B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1196F-1DC5-486F-B1E8-EB9DE093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9C73-A75D-4FD8-BA1F-6FEEFC1F7007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D35C-5B12-456D-84A2-BE934207B8C5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28F4-552F-49F5-89B9-2244155FCBEA}" type="datetime">
              <a:rPr b="0" lang="en-US" sz="2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B636-81FE-4AD6-BEAB-6E2F0DC4C4DD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F9DB-257F-4F2C-AC91-7DBCEEE295E9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D1B9-C471-4E65-8541-8EC237367388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F6D9-DADE-4F58-8E27-DCA950D461B2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9432-E2B1-4293-89BD-F22FE5C8DAC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2FA4-144E-49B5-9F6D-23F38B59F78A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7FB5-ED2D-4B1C-82DE-B7D2393B0AF0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CBB5-F0E5-4791-9A8A-058756DB615B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11F8-8EAB-4E58-8D63-097C6D5EED76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66CC-E2D6-48FD-87AE-793FE241EE90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D41B-7CF0-442F-88CE-1FCFD9ABC194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B85A-1549-4FE2-9EA8-AED07EE5E2C9}" type="datetime">
              <a:rPr b="0" lang="en-US" sz="1400" spc="-1" strike="noStrike">
                <a:solidFill>
                  <a:srgbClr val="5a6378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E36E-7F8C-40AA-BE0E-52E640F23ED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HAPTER 7, THE LOGIC OF SAMPLING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0782-E14E-417F-B526-54353F78005D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ecting Informa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forman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Someone who is well versed in the social phenomenon that you wish to study and who is willing to tell you what s/he knows about i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8751-3196-4656-81A2-F77A8362945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Theory and Logic of Probability Sampling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Probability Sampling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The general term for samples selected in accord with probability theory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ten used for large-scale surve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ll members of a population were identical in all respects there would be no need for careful sampling procedures. However, this is rarely the s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ample of individuals from a population must contain the same variations that exist in the popu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829E-9C23-4BA6-9C13-4586CF18144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7.2 – A population of 100 Folk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5694480" cy="459108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ECEC-F217-4DE8-91CD-ED5A3D2CB0E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cious and Unconscious Sampling B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ia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ose selected are not typical nor representative of the larger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C3F8-2CE3-4BBF-B2CD-0405A196C44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Perfect Probability Sampl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398" name="Content Placeholder 6" descr=""/>
          <p:cNvPicPr/>
          <p:nvPr/>
        </p:nvPicPr>
        <p:blipFill>
          <a:blip r:embed="rId1"/>
          <a:stretch/>
        </p:blipFill>
        <p:spPr>
          <a:xfrm>
            <a:off x="682560" y="1589040"/>
            <a:ext cx="3740040" cy="4570560"/>
          </a:xfrm>
          <a:prstGeom prst="rect">
            <a:avLst/>
          </a:prstGeom>
          <a:ln w="0">
            <a:noFill/>
          </a:ln>
        </p:spPr>
      </p:pic>
      <p:pic>
        <p:nvPicPr>
          <p:cNvPr id="399" name="Content Placeholder 7" descr=""/>
          <p:cNvPicPr/>
          <p:nvPr/>
        </p:nvPicPr>
        <p:blipFill>
          <a:blip r:embed="rId2"/>
          <a:stretch/>
        </p:blipFill>
        <p:spPr>
          <a:xfrm>
            <a:off x="4917960" y="1589040"/>
            <a:ext cx="3740400" cy="4570560"/>
          </a:xfrm>
          <a:prstGeom prst="rect">
            <a:avLst/>
          </a:prstGeom>
          <a:ln w="0">
            <a:noFill/>
          </a:ln>
        </p:spPr>
      </p:pic>
      <p:sp>
        <p:nvSpPr>
          <p:cNvPr id="40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5B15-01BB-450F-8740-AFACBC860FA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Less-Than-Perfect Probability Sample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402" name="Content Placeholder 6" descr=""/>
          <p:cNvPicPr/>
          <p:nvPr/>
        </p:nvPicPr>
        <p:blipFill>
          <a:blip r:embed="rId1"/>
          <a:stretch/>
        </p:blipFill>
        <p:spPr>
          <a:xfrm>
            <a:off x="682560" y="1589040"/>
            <a:ext cx="3740040" cy="4570560"/>
          </a:xfrm>
          <a:prstGeom prst="rect">
            <a:avLst/>
          </a:prstGeom>
          <a:ln w="0">
            <a:noFill/>
          </a:ln>
        </p:spPr>
      </p:pic>
      <p:pic>
        <p:nvPicPr>
          <p:cNvPr id="403" name="Content Placeholder 7" descr=""/>
          <p:cNvPicPr/>
          <p:nvPr/>
        </p:nvPicPr>
        <p:blipFill>
          <a:blip r:embed="rId2"/>
          <a:stretch/>
        </p:blipFill>
        <p:spPr>
          <a:xfrm>
            <a:off x="4917960" y="1589040"/>
            <a:ext cx="3740400" cy="4570560"/>
          </a:xfrm>
          <a:prstGeom prst="rect">
            <a:avLst/>
          </a:prstGeom>
          <a:ln w="0">
            <a:noFill/>
          </a:ln>
        </p:spPr>
      </p:pic>
      <p:sp>
        <p:nvSpPr>
          <p:cNvPr id="40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6E43-8D54-4C1A-B26A-0C4FF9001E5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a6378"/>
                </a:solidFill>
                <a:latin typeface="Verdana"/>
              </a:rPr>
              <a:t>Figure 7.3 – Convenience Sample, easy but not representative</a:t>
            </a:r>
            <a:endParaRPr b="0" lang="en-US" sz="3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78960" cy="4419720"/>
          </a:xfrm>
          <a:prstGeom prst="rect">
            <a:avLst/>
          </a:prstGeom>
          <a:ln w="0">
            <a:noFill/>
          </a:ln>
        </p:spPr>
      </p:pic>
      <p:sp>
        <p:nvSpPr>
          <p:cNvPr id="408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0180-A91E-4D65-8289-82EFD721706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ness and Probability of Sel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presentativenes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quality of a sample of having the same distribution of characteristics as the population from which it was selec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mples need not be representative in all respects, only those relevant to the researc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8F48-4751-4B1A-B2A6-CD635F9D879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ample will be representative of the population from which it is selected if all members of the population have an equal chance of being selected in the samp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PSEM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Equal Probability of Selection Metho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AE8F-659F-4F7E-BCB4-3FDC9915405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vantages of Probability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bability samples are typically more representative than other types of samples because biases are avoided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bability theory permits researchers to estimate the accuracy or representativeness of the sampl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2B9C-B056-440A-BA70-68C7B42F117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Brief History of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probability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Theory and Logic of Probability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opulations and Sampling Fram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ypes of Sampling Design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ultistage Cluster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obability Sampling in Review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Ethics of Sampl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6D98-0F4E-47AA-9DE5-47B7C2355E2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at unit of which a population is composed and which is selected in a samp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opul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theoretically specified aggregation of the elements in a stud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ud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opul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sampling method in which each element has an equal chance of selection independent of any other event in the selection proc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B038-9731-4F76-A4B8-D1DD19FE33A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andom Selection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Each element has an equal change of selection independent of any other event in the selection proces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CE6E-B6E1-4FB7-87C2-D719CA74AD6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Theory, Sampling Distributions, and Estimates of Sampling Err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summary description of a given variable in a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: the mean income of all families in a ci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: age distribution of a city’s popula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FBFF-6BFD-44D7-8CF2-74892C7BE24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a6378"/>
                </a:solidFill>
                <a:latin typeface="Verdana"/>
              </a:rPr>
              <a:t>Figure 7.4 – A population of 10 People with $0-$9</a:t>
            </a:r>
            <a:endParaRPr b="0" lang="en-US" sz="42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ampling Distribution of Ten Ca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762120" y="2228760"/>
            <a:ext cx="8285040" cy="401976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A93F-08F3-4D10-AD30-F4AD12FA217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Figures 7.5 &amp; 7.6; Sampling Distribution of Samples of 1, 2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033800" cy="3645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227480" cy="335268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3E36-FCB7-4F72-AC85-77CFCC01826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6"/>
          <p:cNvSpPr/>
          <p:nvPr/>
        </p:nvSpPr>
        <p:spPr>
          <a:xfrm>
            <a:off x="533520" y="5334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how increasing from a sample size of 1 to 2 provides somewhat better estimates of the mean (we couldn’t get $0 or $9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7.7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360" y="1600200"/>
            <a:ext cx="3273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 we increase the sample size, the possible sample cluster ever more tightly around the true value of the mea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5257800" cy="5715000"/>
          </a:xfrm>
          <a:prstGeom prst="rect">
            <a:avLst/>
          </a:prstGeom>
          <a:ln w="0">
            <a:noFill/>
          </a:ln>
        </p:spPr>
      </p:pic>
      <p:sp>
        <p:nvSpPr>
          <p:cNvPr id="440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904E-E8B2-4046-91B8-C31CBFA3C5D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atistic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summary description of a variable in a sample, used to estimate a population parame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E77F-17CA-48DB-B953-AC9123DB43D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8 – Range of Possible Sample Study Results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407440" cy="207648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D196-67DE-4AAB-A517-9E4FB3A1D5E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9 – Results produced by Three Hypothetical Studies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571680" y="1638360"/>
            <a:ext cx="8407080" cy="4152960"/>
          </a:xfrm>
          <a:prstGeom prst="rect">
            <a:avLst/>
          </a:prstGeom>
          <a:ln w="0">
            <a:noFill/>
          </a:ln>
        </p:spPr>
      </p:pic>
      <p:sp>
        <p:nvSpPr>
          <p:cNvPr id="451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B290-923C-4E4A-B059-F4B4AC6A6C6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7.10 – The Sampling Distribu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647640" y="1676520"/>
            <a:ext cx="8224920" cy="3886200"/>
          </a:xfrm>
          <a:prstGeom prst="rect">
            <a:avLst/>
          </a:prstGeom>
          <a:ln w="0">
            <a:noFill/>
          </a:ln>
        </p:spPr>
      </p:pic>
      <p:sp>
        <p:nvSpPr>
          <p:cNvPr id="45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7090-14A4-47ED-97A9-8A20B5CB714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 – The process of selecting observa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5FBB-8374-422E-9748-28073D1DF7C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degree of error to be expected of a given sample desig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5351-0DA4-484E-BE79-94F288637F6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idence Levels and Confidence Interv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fidence Leve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estimated probability that a population parameter lies within a given confidence interv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fiden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terva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range of values within which a population parameter is estimated to li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7E8E-1519-4BEA-B05D-7FAFCA6BC7D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Populations and Sampling Fram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Fram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list of units composing a population from which a sample is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sample is to be representative of the population, it is essential that the sampling frame include all members of the pop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3062-39E2-41BB-8A5D-9600EB5ACD7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Guidelines for Populations and Sampling Fram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ings based on a sample represent only the aggregation of elements that compose the sampling fr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ing frames do not include all the elements their names might imply. Omissions are inevit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be generalized, all elements must have equal representation in the fr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03CD-FF1D-4682-B1F0-DB9B2CC35A1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ypes of Sampling Design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mple Random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stematic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atified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licit Stratification in Systematic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5307-6665-4A67-8824-F866E99E686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impl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ando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type of probability sampling in which the units composing a population are assigned numbers. A set of random numbers is generated and the units having those numbers are included in the sam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necessarily the most accurate sampling meth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F6EC-3601-4481-9AB9-C8F10D22C96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5a6378"/>
                </a:solidFill>
                <a:latin typeface="Verdana"/>
              </a:rPr>
              <a:t>Figure 7.11 – A Simple Random Sample</a:t>
            </a:r>
            <a:endParaRPr b="0" lang="en-US" sz="37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2514600" y="1238400"/>
            <a:ext cx="6400800" cy="5391000"/>
          </a:xfrm>
          <a:prstGeom prst="rect">
            <a:avLst/>
          </a:prstGeom>
          <a:ln w="0">
            <a:noFill/>
          </a:ln>
        </p:spPr>
      </p:pic>
      <p:sp>
        <p:nvSpPr>
          <p:cNvPr id="47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99B1-7E32-4596-BAFF-B7E1D0ACD9C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ystematic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– A type of probability sampling in which every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unit in a list is selected for inclusion in the sam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sampling interval (which is calculated by: population size / sample siz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ightly more accurate than simple random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1910-0AFE-400F-ADEF-042001083BB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tratifie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amplin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ratific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The grouping of the units composing a population into homogenous groups (strata) before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ightly more accurate than simple random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atification is a modification to simple random and systematic sample metho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EB58-0E72-43EF-A72D-0BC23E9EC2D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12 – A Stratified, Systematic Sample with a Random Start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7238520" y="1600200"/>
            <a:ext cx="1676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atified by Gender, every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 person is selected into the sample (in this case every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609480" y="1619280"/>
            <a:ext cx="6721560" cy="4781520"/>
          </a:xfrm>
          <a:prstGeom prst="rect">
            <a:avLst/>
          </a:prstGeom>
          <a:ln w="0">
            <a:noFill/>
          </a:ln>
        </p:spPr>
      </p:pic>
      <p:sp>
        <p:nvSpPr>
          <p:cNvPr id="48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6C85-81DF-428C-8B02-9A7E5D08E65B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A Brief History of Sampling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esident” Alf Land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ry Digest poll, 193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million ballots mailed to people listed in telephone dir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resident” Thomas E. Dewey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llup’s quota samp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87E3-6436-4468-BFDB-C56A923E218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licit Stratification in Systematic Sampling occurs when a list is already ordered into strata or groups.  Class (i.e. freshman, sophomore, etc) is a implicitly stratified list of stud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62FD-FE85-439F-A60F-53AF2C5623C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Multistage Cluster Sampling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Cluster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– A multistage sampling in which natural groups are sampled initially with the members of each selected group being sub-sampled afterwar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Used when it is not practical or possible to create a list of all elements that compose the target popula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Highly efficient, but less accurat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979A-19BB-40C0-96CC-5128253AFFD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Verdana"/>
              </a:rPr>
              <a:t>Figure 7.13 – Multistage Cluster Sampling</a:t>
            </a:r>
            <a:endParaRPr b="0" lang="en-US" sz="3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12360" y="1600200"/>
            <a:ext cx="2739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gin by selecting a sample of the clusters (in this case, city blocks), then make a list of elements (in this case, households) and select a sample of elements (persons) from each of the selected clus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3486240" y="1066680"/>
            <a:ext cx="5657760" cy="5334120"/>
          </a:xfrm>
          <a:prstGeom prst="rect">
            <a:avLst/>
          </a:prstGeom>
          <a:ln w="0">
            <a:noFill/>
          </a:ln>
        </p:spPr>
      </p:pic>
      <p:sp>
        <p:nvSpPr>
          <p:cNvPr id="497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8CE0-2239-425F-9FDD-272F941043F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robability Proportionate to Size (PPS) Sampl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A type of multistage cluster sample in which clusters are selected not with equal probabilities but with probabilities proportionate to their sizes—as measured by the number of units to be sub-sampl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ore sophisticated form of cluster samp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42D0-27FF-47E0-9A9D-61D79AE13A9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Disproportionate Sampling and Weigh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Weightin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ssigning different weights to cases that were selected into a sample with different probabilities of selec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ten used when you didn’t sample enough of some c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1DD2-B983-4E07-B8B5-FF883BCCEF6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0" y="1752480"/>
            <a:ext cx="129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CB10-F9C1-4C2D-BF22-DF2EF359BB1F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One of the most visible uses of survey sampling lies in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itical pol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e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640A-800B-48B5-908A-254BFB7CD31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of the most visible uses of survey sampling lies in political poll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1E0B-43B0-4BF6-8735-C63EA0BD4479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sampling occurs when units are selected on the basis of pre-specified characteristic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nowba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o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pos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106C-21A4-4DBB-A1E2-1ADFCD6D3FC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ota sampling occurs when the units are selected on the basis of pre-specified characteristic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DD33-594E-47D4-92D9-421506934741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Nonprobability Sampling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Nonprobability Sampl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Any technique in which samples are selected in some way not suggested by probability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le subjec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posive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nowball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ota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7137-D470-4EC1-9784-D3CED99031A4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_____ describes a sample whose aggregate characteristics closely approximate the aggregate characteristics of the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clu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PS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2708-47D2-417A-AF3B-7F29FB2B90C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ness describes a sample whose aggregate characteristics closely approximate the aggregate characteristics of the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353A-267F-4820-BDE4-9B9CB531EFD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A _____ is the list of elements from which a probability sample is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idenc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fidence interv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 fra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stematic samp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205A-6761-484A-8B78-561561D214D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ampling frame is the list of elements from which a probability sample is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3764-C266-4923-9C81-C76F32487F67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_____ is the general term for samples selected in accord with probability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probability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5FF2-1C16-40B4-A44E-1966AE6D6053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ability sampling is the general term for samples selected in accord with probability 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D431-4BBB-4794-9A8B-444D4128798A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A _____ population is that aggregation of elements from which a sample if actually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etic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ma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r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FEB2-A820-4B50-9BE5-08BE7DE4E86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tudy population is that aggregation of elements from which a sample if actually selec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EC2F-9AEE-491F-AD02-DE1AD782154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Cluster sampling may be used when it is impossible to compile an exhaustive list of the elements composing the target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816B-C158-48EB-A7A4-817E7B3B0B5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uster sampling may be used when it is impossible to compile an exhaustive list of the elements composing the target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B6AA-7DEE-44F5-9FFA-30BC3D21CB7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nce on Available Subj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venience samp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es not allow for control over representativen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justified if less risky methods are unavail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earchers must be very cautious about generalizing when this method is us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6174-46A7-448A-AD60-FA61BD1538D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Purposive or Judgmental Sampling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A type of nonprobability sampling in which the units to be observed are selected on the basis of the researcher’s judgment about which ones will be the most useful or representativ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subsets of a pop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-group compari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iant c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8EAD-D8A7-47C3-B966-23E7F3A73AB6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nowball Sampl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– A nonprobability sampling method whereby each person interviewed may be asked to suggest additional people for interview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ften used in field research, special popul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BBC7-8683-4162-B8D0-07E6EA4642B0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Quota Sampling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– A type of nonprobability sampling in which units are selected into a sample on the basis of pre-specified characteristics, so that the total sample will have the same distribution of characteristics assumed to exist in the population being studied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probability sampling, but has problems: quota frame must be accurate, selection of sample elements may be bi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might this method be appropria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CB74-EEDF-49CC-8955-0659DD0D806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6:02Z</dcterms:modified>
  <cp:revision>27</cp:revision>
  <dc:subject/>
  <dc:title>Slide 1</dc:title>
</cp:coreProperties>
</file>