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2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3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4.png" ContentType="image/png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  <p:sldId id="310" r:id="rId65"/>
    <p:sldId id="311" r:id="rId66"/>
    <p:sldId id="312" r:id="rId67"/>
    <p:sldId id="313" r:id="rId68"/>
    <p:sldId id="314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slide" Target="slides/slide55.xml"/><Relationship Id="rId66" Type="http://schemas.openxmlformats.org/officeDocument/2006/relationships/slide" Target="slides/slide56.xml"/><Relationship Id="rId67" Type="http://schemas.openxmlformats.org/officeDocument/2006/relationships/slide" Target="slides/slide57.xml"/><Relationship Id="rId68" Type="http://schemas.openxmlformats.org/officeDocument/2006/relationships/slide" Target="slides/slide58.xml"/><Relationship Id="rId69" Type="http://schemas.openxmlformats.org/officeDocument/2006/relationships/slide" Target="slides/slide59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291B3-1B45-4FAC-BC2A-D1DE9B3924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ing Unit – That element of set of elements considered for selection in some stage of sampl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C63F9-A109-4DE1-A988-4C05BD1B63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05571-A43A-4BB2-A1D7-B851F1AD11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3A138-4330-4D6D-9B60-483C565B7F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173B5-8FF2-4A5A-9D04-6E4A312B75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9499-1DBC-4652-9967-16ED0AB62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D26F-7447-47A1-BA4E-5DB58F159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47DB-1374-4B15-8C81-6C19B4260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3F7D-B412-4D95-BCF0-4AFFB3C56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089E1-96BE-41CC-A61A-367720930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75131-35A6-4DCD-B6A5-EC8D0A3C9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DA7D8-38E9-467B-90F2-76A6C49A3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AB919-D3E0-4F39-B7D2-6F3C2DC58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59DC5-6A37-421A-A3ED-A3F48463B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1E942-F214-4097-AE09-4352FAA50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B5437-9E0A-4195-83B4-FECABA65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A276-53F8-438D-8986-2B97C9DE7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22FF5-1A67-483D-B736-81AC5159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AE884-FC32-4A7D-B93C-EC4C8DCE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F4BB5-13F9-4383-8928-D708B0903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92DDC-69DC-4C06-8525-D7D336B7C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21330-1B51-4B77-BB11-E286D7191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AB6D0D-3035-41DD-96DB-6FA336155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ADB62A-5C19-4AD6-9E74-9AC2AA77D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4D2F05-BF51-46C7-8A2C-4EB7DF3EC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757423-4C63-48DE-9890-743DB2753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885197-C22E-4B6B-8FCB-84BF538CF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A4FC-3DE6-496B-B678-37836FF45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D458AB-A5A2-47ED-8610-A2ACFB32F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96BABE-2A8B-445E-9196-DE524E0B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E911F3-F39A-405F-8529-149C54C7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1ACAA4-1884-4083-BBD6-9854A58B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0A0E3E-3F22-4F5B-848D-CDF4B6A8A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FC19EF-C5EF-4A8F-BA90-2E4F117A4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6D5750-CF69-4125-934A-CA5EF4B91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D5BA3D-174F-4399-81EA-8589D8428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45B1BB-953E-40F1-86CD-C2A38C6F6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583DDD-27F8-4B31-8482-EFC6F3143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FBC3-973A-47F4-9E3C-273814390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3A78BA-C8DC-4D13-B7B7-81D6060C9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BE0C5F-0324-4E7D-9CFF-3D82A71C1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3FDE14-C577-401F-BC12-1B11D760D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E0A3D4-DEC9-4830-B41D-0FE7AF28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F2E42B-5761-41B9-9187-57EC8D93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AC69DA-B3EF-484A-9F1E-DBA7DF77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A66409-1711-4F95-92EB-5AADB20F9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DDE9A6-4F21-4A97-893E-9C7B0F8D2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F4E42B-5227-4E20-BDCE-215B1EBB1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51AFBB-DA7B-4AAF-A959-C71B22937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7849-FEE5-4C46-9895-8A14FD6AF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5266B8-D467-4125-B64D-E996B9B02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3F242E-30C5-4F90-A123-09114D34B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AFFC51-DBDC-48A6-9494-3A5E38B49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9FD8D1-EA5D-49B9-8574-35A8CEDDC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2D02C1-52B6-41E2-83BF-050C9D8CC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776EE3-17BF-4D73-AEA2-7CBD7BE8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D8DCE6-EBEA-415D-A61A-3EBEC4D2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14B2CB-BD09-4979-9661-D58B9C39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3C378F-6328-4146-B136-B91561397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0DA793-9E71-4AA0-85A6-29407EF88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E8CE-A4CF-4A0D-9111-C5E4EA098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15EDEA-0134-4441-92E8-718E02573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52AD88-78AE-4358-B9AD-C74063A65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839F8-DF1C-413C-A7DF-5C06ADA27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354EE-80D7-40C9-9B5C-86D8087C1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DBD7FD-1AD0-4FBB-AF79-9EA5855C2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09B03D-661B-4ADD-A196-F7E7A3882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B28874-7A6C-41B8-B978-26B798F41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CA8A15-2B65-440E-A553-95B0ACC95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EDD68-A1AE-4CD8-AD75-7D9CEEA5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C143D0-7665-4618-9443-4DC2E5B8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0549-8060-426E-8D7E-BB0DD80B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B351F-B381-4DCB-9B69-4F1DAFB86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247D1-D929-435B-9F0A-B9584C0DA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561726-DF6A-4BA8-ADEA-5FC0A6457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094FCD-2C8B-498A-BDDD-1C6E3E6AC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994749-31DA-43A0-B995-51B6742F7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FD3B7A-92B4-4771-8D1F-094BA9008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E42C1A-F56E-480A-B263-24F33AFF0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33C829-35E5-4548-AD50-61C94807D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837E7C-54C2-4C0C-9F96-DCD354FA2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DC6F5B-F30B-4633-93CF-7CB5DBC5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0B6D-96AA-4D3D-8DC8-F1A1772A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9CC524-9D9D-43AD-A446-5FC5EA0D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945C2B-4DFB-49A5-8323-C2A9FD29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E4EDEE-BC5A-48AB-AC96-AC86E2184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B848D1-6831-492D-97C1-D52A6D3A0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D73C15-E2FA-4F2F-9F8A-518744DD6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15914C-16E3-4E2A-8928-05486A323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17C8E0-E8D9-4BF5-8FD5-FEBC12370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6CA989-9312-404D-9B8E-A923B0507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A44ED5-FDEA-45BC-A904-2DA17B7A4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3D803E-1482-4E67-89FF-D92198316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9A67-EB0F-4178-BCF3-179EA0D8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C908BF-01E1-4E75-899B-674B8DB39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9357E9-A62A-4BFC-AC0B-79989676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13A902-FB59-4AD3-9ABE-46E5CFB5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581FA8-B29A-4ECD-B444-3D5509F7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695CFF-E626-4F8F-9426-5A057053B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A2AAAD-7535-47AE-ACEA-78B14F478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4DDB00-3F90-4843-91E5-1F9727D04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A5C18-9EC4-41D9-8E8E-CA19C353C9F0}" type="datetime">
              <a:rPr b="0" lang="en-US" sz="1400" spc="-1" strike="noStrike">
                <a:solidFill>
                  <a:srgbClr val="5a6378"/>
                </a:solidFill>
                <a:latin typeface="Verdan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C0657-3CFF-4456-86AF-2EEC9831FC79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0B70E-B7BF-42A8-B6C4-01D9A2F01BA6}" type="datetime">
              <a:rPr b="0" lang="en-US" sz="2000" spc="-1" strike="noStrike">
                <a:solidFill>
                  <a:srgbClr val="ffffff"/>
                </a:solidFill>
                <a:latin typeface="Verdana"/>
              </a:rPr>
              <a:t>07/29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d4d4d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F73E5-33C1-47EB-8B73-6B603905D047}" type="slidenum">
              <a:rPr b="1" lang="en-US" sz="1400" spc="-1" strike="noStrike">
                <a:solidFill>
                  <a:srgbClr val="d4d4d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85BF7-8232-46E9-B35C-75C8FAB400E6}" type="datetime">
              <a:rPr b="0" lang="en-US" sz="1400" spc="-1" strike="noStrike">
                <a:solidFill>
                  <a:srgbClr val="5a6378"/>
                </a:solidFill>
                <a:latin typeface="Verdan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4C3A5-A22B-4010-BEA2-9A9EBF8ACD54}" type="slidenum">
              <a:rPr b="1" lang="en-US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200FF-4DF2-4B4B-BF07-360FD193616F}" type="datetime">
              <a:rPr b="0" lang="en-US" sz="1400" spc="-1" strike="noStrike">
                <a:solidFill>
                  <a:srgbClr val="5a6378"/>
                </a:solidFill>
                <a:latin typeface="Verdan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E7204-47A7-4A2D-9470-733E68D2E7BE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BC394-4656-43C2-8A82-86042BBA44D7}" type="datetime">
              <a:rPr b="0" lang="en-US" sz="1400" spc="-1" strike="noStrike">
                <a:solidFill>
                  <a:srgbClr val="5a6378"/>
                </a:solidFill>
                <a:latin typeface="Verdan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25EDF-48D4-42A7-B85A-6DB124F8EAF2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146F6-DD7A-44C6-94CD-EDCB4767B729}" type="datetime">
              <a:rPr b="0" lang="en-US" sz="1400" spc="-1" strike="noStrike">
                <a:solidFill>
                  <a:srgbClr val="5a6378"/>
                </a:solidFill>
                <a:latin typeface="Verdan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B1579-801A-47D3-A842-54158746D298}" type="slidenum">
              <a:rPr b="1" lang="en-US" sz="1400" spc="-1" strike="noStrike">
                <a:solidFill>
                  <a:srgbClr val="5a6378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DACFC-B00C-4F80-8CCD-41569E90D66F}" type="datetime">
              <a:rPr b="0" lang="en-US" sz="1400" spc="-1" strike="noStrike">
                <a:solidFill>
                  <a:srgbClr val="5a6378"/>
                </a:solidFill>
                <a:latin typeface="Verdan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274DF-F57E-4D28-94DE-A51210FE93A3}" type="slidenum">
              <a:rPr b="1" lang="en-US" sz="2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795C4-26AB-452D-A9A9-7F12E8A0AA5D}" type="datetime">
              <a:rPr b="0" lang="en-US" sz="1400" spc="-1" strike="noStrike">
                <a:solidFill>
                  <a:srgbClr val="5a6378"/>
                </a:solidFill>
                <a:latin typeface="Verdan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14C8B-216C-4ADC-97B6-C5267224B82D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HAPTER 7, THE LOGIC OF SAMPLING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91AE3-43D7-42B3-BB29-3DB4754E8026}" type="slidenum">
              <a:rPr b="1" lang="en-US" sz="1400" spc="-1" strike="noStrike">
                <a:solidFill>
                  <a:srgbClr val="d4d4d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lecting Informan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Informant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Someone who is well versed in the social phenomenon that you wish to study and who is willing to tell you what s/he knows about i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84741-A5E8-4C3F-AADE-AE92B8C062B7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The Theory and Logic of Probability Sampling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Verdana"/>
              </a:rPr>
              <a:t>Probability Sampling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– The general term for samples selected in accord with probability theory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ten used for large-scale survey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all members of a population were identical in all respects there would be no need for careful sampling procedures. However, this is rarely the sam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ample of individuals from a population must contain the same variations that exist in the popula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58AF9-C0CF-43BD-8968-2CDA2C91AC69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7.2 – A population of 100 Folks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2" name="Picture 2" descr=""/>
          <p:cNvPicPr/>
          <p:nvPr/>
        </p:nvPicPr>
        <p:blipFill>
          <a:blip r:embed="rId1"/>
          <a:stretch/>
        </p:blipFill>
        <p:spPr>
          <a:xfrm>
            <a:off x="685800" y="1657440"/>
            <a:ext cx="5694480" cy="4591080"/>
          </a:xfrm>
          <a:prstGeom prst="rect">
            <a:avLst/>
          </a:prstGeom>
          <a:ln w="0">
            <a:noFill/>
          </a:ln>
        </p:spPr>
      </p:pic>
      <p:sp>
        <p:nvSpPr>
          <p:cNvPr id="393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4A209-60E7-42D9-ABB7-5C4544786CEE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scious and Unconscious Sampling Bia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Bia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Those selected are not typical nor representative of the larger popul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940F1-3543-4824-BF23-1196BD70B2F6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Perfect Probability Sample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pic>
        <p:nvPicPr>
          <p:cNvPr id="398" name="Content Placeholder 6" descr=""/>
          <p:cNvPicPr/>
          <p:nvPr/>
        </p:nvPicPr>
        <p:blipFill>
          <a:blip r:embed="rId1"/>
          <a:stretch/>
        </p:blipFill>
        <p:spPr>
          <a:xfrm>
            <a:off x="682560" y="1589040"/>
            <a:ext cx="3740040" cy="4570560"/>
          </a:xfrm>
          <a:prstGeom prst="rect">
            <a:avLst/>
          </a:prstGeom>
          <a:ln w="0">
            <a:noFill/>
          </a:ln>
        </p:spPr>
      </p:pic>
      <p:pic>
        <p:nvPicPr>
          <p:cNvPr id="399" name="Content Placeholder 7" descr=""/>
          <p:cNvPicPr/>
          <p:nvPr/>
        </p:nvPicPr>
        <p:blipFill>
          <a:blip r:embed="rId2"/>
          <a:stretch/>
        </p:blipFill>
        <p:spPr>
          <a:xfrm>
            <a:off x="4917960" y="1589040"/>
            <a:ext cx="3740400" cy="4570560"/>
          </a:xfrm>
          <a:prstGeom prst="rect">
            <a:avLst/>
          </a:prstGeom>
          <a:ln w="0">
            <a:noFill/>
          </a:ln>
        </p:spPr>
      </p:pic>
      <p:sp>
        <p:nvSpPr>
          <p:cNvPr id="400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DF9E0-8F9D-4B14-B827-8D53151CAB63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Less-Than-Perfect Probability Sample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pic>
        <p:nvPicPr>
          <p:cNvPr id="402" name="Content Placeholder 6" descr=""/>
          <p:cNvPicPr/>
          <p:nvPr/>
        </p:nvPicPr>
        <p:blipFill>
          <a:blip r:embed="rId1"/>
          <a:stretch/>
        </p:blipFill>
        <p:spPr>
          <a:xfrm>
            <a:off x="682560" y="1589040"/>
            <a:ext cx="3740040" cy="4570560"/>
          </a:xfrm>
          <a:prstGeom prst="rect">
            <a:avLst/>
          </a:prstGeom>
          <a:ln w="0">
            <a:noFill/>
          </a:ln>
        </p:spPr>
      </p:pic>
      <p:pic>
        <p:nvPicPr>
          <p:cNvPr id="403" name="Content Placeholder 7" descr=""/>
          <p:cNvPicPr/>
          <p:nvPr/>
        </p:nvPicPr>
        <p:blipFill>
          <a:blip r:embed="rId2"/>
          <a:stretch/>
        </p:blipFill>
        <p:spPr>
          <a:xfrm>
            <a:off x="4917960" y="1589040"/>
            <a:ext cx="3740400" cy="4570560"/>
          </a:xfrm>
          <a:prstGeom prst="rect">
            <a:avLst/>
          </a:prstGeom>
          <a:ln w="0">
            <a:noFill/>
          </a:ln>
        </p:spPr>
      </p:pic>
      <p:sp>
        <p:nvSpPr>
          <p:cNvPr id="404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47B98-72FF-4E07-9219-CDE1BC567FAF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a6378"/>
                </a:solidFill>
                <a:latin typeface="Verdana"/>
              </a:rPr>
              <a:t>Figure 7.3 – Convenience Sample, easy but not representative</a:t>
            </a:r>
            <a:endParaRPr b="0" lang="en-US" sz="3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7" name="Picture 2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7878960" cy="4419720"/>
          </a:xfrm>
          <a:prstGeom prst="rect">
            <a:avLst/>
          </a:prstGeom>
          <a:ln w="0">
            <a:noFill/>
          </a:ln>
        </p:spPr>
      </p:pic>
      <p:sp>
        <p:nvSpPr>
          <p:cNvPr id="408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0E53F-AEC0-4333-A94A-028A6BB88341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presentativeness and Probability of Selec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Representativenes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The quality of a sample of having the same distribution of characteristics as the population from which it was select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amples need not be representative in all respects, only those relevant to the research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98D19-D610-4172-AAF0-878BF42728BD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sample will be representative of the population from which it is selected if all members of the population have an equal chance of being selected in the sampl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EPSEM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(Equal Probability of Selection Method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6684C-1829-42F8-8BAA-8816AAC177E0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vantages of Probability Sampl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50840" indent="-457200">
              <a:spcBef>
                <a:spcPts val="499"/>
              </a:spcBef>
              <a:buClr>
                <a:srgbClr val="60b5cc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robability samples are typically more representative than other types of samples because biases are avoided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050840" indent="-457200">
              <a:spcBef>
                <a:spcPts val="499"/>
              </a:spcBef>
              <a:buClr>
                <a:srgbClr val="60b5cc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robability theory permits researchers to estimate the accuracy or representativeness of the sample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8578E-75D5-4A84-8B00-CA787B597793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hapter Outline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A Brief History of Sampling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Nonprobability Sampling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The Theory and Logic of Probability Sampling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Populations and Sampling Frame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Types of Sampling Design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Multistage Cluster Sampling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Probability Sampling in Review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The Ethics of Sampling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Quick Quiz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487F3-FE40-43E4-8203-FA082E6FD8F2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Element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That unit of which a population is composed and which is selected in a sampl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Population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The theoretically specified aggregation of the elements in a stud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Study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Population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A sampling method in which each element has an equal chance of selection independent of any other event in the selection proces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A9C83-AE1B-4B38-AC46-7F3A3C5C6F94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Random Selection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– Each element has an equal change of selection independent of any other event in the selection proces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625C7-B35D-4D07-8510-D16287EC87A7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bability Theory, Sampling Distributions, and Estimates of Sampling Erro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Paramete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A summary description of a given variable in a popul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x: the mean income of all families in a city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x: age distribution of a city’s populati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41719-C70D-4243-93AA-C69FA9E51D2F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a6378"/>
                </a:solidFill>
                <a:latin typeface="Verdana"/>
              </a:rPr>
              <a:t>Figure 7.4 – A population of 10 People with $0-$9</a:t>
            </a:r>
            <a:endParaRPr b="0" lang="en-US" sz="42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Sampling Distribution of Ten Cas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9" name="Picture 2" descr=""/>
          <p:cNvPicPr/>
          <p:nvPr/>
        </p:nvPicPr>
        <p:blipFill>
          <a:blip r:embed="rId1"/>
          <a:stretch/>
        </p:blipFill>
        <p:spPr>
          <a:xfrm>
            <a:off x="762120" y="2228760"/>
            <a:ext cx="8285040" cy="4019760"/>
          </a:xfrm>
          <a:prstGeom prst="rect">
            <a:avLst/>
          </a:prstGeom>
          <a:ln w="0">
            <a:noFill/>
          </a:ln>
        </p:spPr>
      </p:pic>
      <p:sp>
        <p:nvSpPr>
          <p:cNvPr id="430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8EE8D-E79B-480B-BA23-75C67A3D393E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Figures 7.5 &amp; 7.6; Sampling Distribution of Samples of 1, 2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3" name="Picture 2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4033800" cy="36450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3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227480" cy="3352680"/>
          </a:xfrm>
          <a:prstGeom prst="rect">
            <a:avLst/>
          </a:prstGeom>
          <a:ln w="0">
            <a:noFill/>
          </a:ln>
        </p:spPr>
      </p:pic>
      <p:sp>
        <p:nvSpPr>
          <p:cNvPr id="435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36AFF-04A7-485C-AE98-CD53DCB708E6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6"/>
          <p:cNvSpPr/>
          <p:nvPr/>
        </p:nvSpPr>
        <p:spPr>
          <a:xfrm>
            <a:off x="533520" y="53341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 how increasing from a sample size of 1 to 2 provides somewhat better estimates of the mean (we couldn’t get $0 or $9 for examp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7.7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612360" y="1600200"/>
            <a:ext cx="3273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s we increase the sample size, the possible sample cluster ever more tightly around the true value of the mea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9" name="Picture 2" descr=""/>
          <p:cNvPicPr/>
          <p:nvPr/>
        </p:nvPicPr>
        <p:blipFill>
          <a:blip r:embed="rId1"/>
          <a:stretch/>
        </p:blipFill>
        <p:spPr>
          <a:xfrm>
            <a:off x="3733920" y="228600"/>
            <a:ext cx="5257800" cy="5715000"/>
          </a:xfrm>
          <a:prstGeom prst="rect">
            <a:avLst/>
          </a:prstGeom>
          <a:ln w="0">
            <a:noFill/>
          </a:ln>
        </p:spPr>
      </p:pic>
      <p:sp>
        <p:nvSpPr>
          <p:cNvPr id="440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84038-004D-4EB1-8D6F-5A0EE572C69F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Statistic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the summary description of a variable in a sample, used to estimate a population paramete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88E09-6DD1-45E8-983E-A982F8D9132E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a6378"/>
                </a:solidFill>
                <a:latin typeface="Verdana"/>
              </a:rPr>
              <a:t>Figure 7.8 – Range of Possible Sample Study Results</a:t>
            </a:r>
            <a:endParaRPr b="0" lang="en-US" sz="3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6" name="Picture 2" descr=""/>
          <p:cNvPicPr/>
          <p:nvPr/>
        </p:nvPicPr>
        <p:blipFill>
          <a:blip r:embed="rId1"/>
          <a:stretch/>
        </p:blipFill>
        <p:spPr>
          <a:xfrm>
            <a:off x="457200" y="2438280"/>
            <a:ext cx="8407440" cy="2076480"/>
          </a:xfrm>
          <a:prstGeom prst="rect">
            <a:avLst/>
          </a:prstGeom>
          <a:ln w="0">
            <a:noFill/>
          </a:ln>
        </p:spPr>
      </p:pic>
      <p:sp>
        <p:nvSpPr>
          <p:cNvPr id="447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A7085-6940-4318-8E9B-EA4CE085A482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a6378"/>
                </a:solidFill>
                <a:latin typeface="Verdana"/>
              </a:rPr>
              <a:t>Figure 7.9 – Results produced by Three Hypothetical Studies</a:t>
            </a:r>
            <a:endParaRPr b="0" lang="en-US" sz="3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0" name="Picture 2" descr=""/>
          <p:cNvPicPr/>
          <p:nvPr/>
        </p:nvPicPr>
        <p:blipFill>
          <a:blip r:embed="rId1"/>
          <a:stretch/>
        </p:blipFill>
        <p:spPr>
          <a:xfrm>
            <a:off x="571680" y="1638360"/>
            <a:ext cx="8407080" cy="4152960"/>
          </a:xfrm>
          <a:prstGeom prst="rect">
            <a:avLst/>
          </a:prstGeom>
          <a:ln w="0">
            <a:noFill/>
          </a:ln>
        </p:spPr>
      </p:pic>
      <p:sp>
        <p:nvSpPr>
          <p:cNvPr id="451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9B6AB-3B7E-4BAA-9BCF-81B46E2637FC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7.10 – The Sampling Distribution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4" name="Picture 2" descr=""/>
          <p:cNvPicPr/>
          <p:nvPr/>
        </p:nvPicPr>
        <p:blipFill>
          <a:blip r:embed="rId1"/>
          <a:stretch/>
        </p:blipFill>
        <p:spPr>
          <a:xfrm>
            <a:off x="647640" y="1676520"/>
            <a:ext cx="8224920" cy="3886200"/>
          </a:xfrm>
          <a:prstGeom prst="rect">
            <a:avLst/>
          </a:prstGeom>
          <a:ln w="0">
            <a:noFill/>
          </a:ln>
        </p:spPr>
      </p:pic>
      <p:sp>
        <p:nvSpPr>
          <p:cNvPr id="455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0AD5C-1CFD-4363-BDB6-1ECD6F73E3F7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ampling – The process of selecting observation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44855-6E6D-46D6-B585-9A4377D5A88B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Sampling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Erro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The degree of error to be expected of a given sample desig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C3D75-4286-41FC-A4C1-3F38ACFFBEB4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fidence Levels and Confidence Interval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Confidence Leve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The estimated probability that a population parameter lies within a given confidence interv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Confidenc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Interva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The range of values within which a population parameter is estimated to li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91472-0C92-4A48-821C-3719E27DED1A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Populations and Sampling Frames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Sampling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Frame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– A list of units composing a population from which a sample is selecte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the sample is to be representative of the population, it is essential that the sampling frame include all members of the popul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812A7-0EFD-432C-A582-C20554720468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Guidelines for Populations and Sampling Frame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dings based on a sample represent only the aggregation of elements that compose the sampling fram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ing frames do not include all the elements their names might imply. Omissions are inevitab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be generalized, all elements must have equal representation in the fram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7E02F-F30B-4BF9-993C-C9B7DD617052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Types of Sampling Designs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mple Random Samp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ystematic Samp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ratified Samp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mplicit Stratification in Systematic Samp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1324C-18E2-46F9-A72F-88A1C331E64F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Simple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Random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Sampling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– A type of probability sampling in which the units composing a population are assigned numbers. A set of random numbers is generated and the units having those numbers are included in the sampl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necessarily the most accurate sampling metho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4FA75-912D-4B13-950C-8E07843D1DE6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5a6378"/>
                </a:solidFill>
                <a:latin typeface="Verdana"/>
              </a:rPr>
              <a:t>Figure 7.11 – A Simple Random Sample</a:t>
            </a:r>
            <a:endParaRPr b="0" lang="en-US" sz="37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6" name="Picture 2" descr=""/>
          <p:cNvPicPr/>
          <p:nvPr/>
        </p:nvPicPr>
        <p:blipFill>
          <a:blip r:embed="rId1"/>
          <a:stretch/>
        </p:blipFill>
        <p:spPr>
          <a:xfrm>
            <a:off x="2514600" y="1238400"/>
            <a:ext cx="6400800" cy="5391000"/>
          </a:xfrm>
          <a:prstGeom prst="rect">
            <a:avLst/>
          </a:prstGeom>
          <a:ln w="0">
            <a:noFill/>
          </a:ln>
        </p:spPr>
      </p:pic>
      <p:sp>
        <p:nvSpPr>
          <p:cNvPr id="477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64D68-3ABB-436E-A4F2-5471B05AC978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Systematic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Sampling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– A type of probability sampling in which every </a:t>
            </a:r>
            <a:r>
              <a:rPr b="0" i="1" lang="en-US" sz="29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i="1" lang="en-US" sz="29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unit in a list is selected for inclusion in the sampl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K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= sampling interval (which is calculated by: population size / sample siz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lightly more accurate than simple random sampl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0B2FC-41C2-48F1-94BA-B8B14781E934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Stratified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Sampling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Stratification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The grouping of the units composing a population into homogenous groups (strata) before sampl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lightly more accurate than simple random sampl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ratification is a modification to simple random and systematic sample method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1533B-E4A1-41E3-88D3-0C942168B745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a6378"/>
                </a:solidFill>
                <a:latin typeface="Verdana"/>
              </a:rPr>
              <a:t>Figure 7.12 – A Stratified, Systematic Sample with a Random Start</a:t>
            </a:r>
            <a:endParaRPr b="0" lang="en-US" sz="3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7238520" y="1600200"/>
            <a:ext cx="1676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ratified by Gender, every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 person is selected into the sample (in this case every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6" name="Picture 2" descr=""/>
          <p:cNvPicPr/>
          <p:nvPr/>
        </p:nvPicPr>
        <p:blipFill>
          <a:blip r:embed="rId1"/>
          <a:stretch/>
        </p:blipFill>
        <p:spPr>
          <a:xfrm>
            <a:off x="609480" y="1619280"/>
            <a:ext cx="6721560" cy="4781520"/>
          </a:xfrm>
          <a:prstGeom prst="rect">
            <a:avLst/>
          </a:prstGeom>
          <a:ln w="0">
            <a:noFill/>
          </a:ln>
        </p:spPr>
      </p:pic>
      <p:sp>
        <p:nvSpPr>
          <p:cNvPr id="487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D1925-BC1A-443C-BCEE-40BB8D25B11B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A Brief History of Sampling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President” Alf Landon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terary Digest poll, 193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wo million ballots mailed to people listed in telephone direc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blem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President” Thomas E. Dewey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allup’s quota sampl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blem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DB3AA-97E1-4C9E-A444-92F90BF2A85E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mplicit Stratification in Systematic Sampling occurs when a list is already ordered into strata or groups.  Class (i.e. freshman, sophomore, etc) is a implicitly stratified list of student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C5CE-EB44-4213-9447-3FC76AEC8A82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Multistage Cluster Sampling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Verdana"/>
              </a:rPr>
              <a:t>Cluster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Verdana"/>
              </a:rPr>
              <a:t>Sampling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– A multistage sampling in which natural groups are sampled initially with the members of each selected group being sub-sampled afterward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Used when it is not practical or possible to create a list of all elements that compose the target population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Highly efficient, but less accurate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15C52-819C-4CAE-B64D-6FD27952FF4E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a6378"/>
                </a:solidFill>
                <a:latin typeface="Verdana"/>
              </a:rPr>
              <a:t>Figure 7.13 – Multistage Cluster Sampling</a:t>
            </a:r>
            <a:endParaRPr b="0" lang="en-US" sz="3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612360" y="1600200"/>
            <a:ext cx="2739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gin by selecting a sample of the clusters (in this case, city blocks), then make a list of elements (in this case, households) and select a sample of elements (persons) from each of the selected cluster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6" name="Picture 2" descr=""/>
          <p:cNvPicPr/>
          <p:nvPr/>
        </p:nvPicPr>
        <p:blipFill>
          <a:blip r:embed="rId1"/>
          <a:stretch/>
        </p:blipFill>
        <p:spPr>
          <a:xfrm>
            <a:off x="3486240" y="1066680"/>
            <a:ext cx="5657760" cy="5334120"/>
          </a:xfrm>
          <a:prstGeom prst="rect">
            <a:avLst/>
          </a:prstGeom>
          <a:ln w="0">
            <a:noFill/>
          </a:ln>
        </p:spPr>
      </p:pic>
      <p:sp>
        <p:nvSpPr>
          <p:cNvPr id="497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7DF0F-3753-455A-A6AF-73D999126CF8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Probability Proportionate to Size (PPS) Sampling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– A type of multistage cluster sample in which clusters are selected not with equal probabilities but with probabilities proportionate to their sizes—as measured by the number of units to be sub-sample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more sophisticated form of cluster sampl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1BBB7-391C-4317-A760-873BB6152ACD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Disproportionate Sampling and Weight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Weighting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Assigning different weights to cases that were selected into a sample with different probabilities of selec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ften used when you didn’t sample enough of some ca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9CE06-35F4-4732-890A-DF3F2D7FBDCB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Quick Quiz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0" y="1752480"/>
            <a:ext cx="1295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F0A17-5F73-4EA9-897A-2FC1A832AA89}" type="slidenum">
              <a:rPr b="1" lang="en-US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. One of the most visible uses of survey sampling lies in _____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olitical pol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bability samp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re samp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nprobability samp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B7504-467A-4A5D-B46B-F5ED9C8BC915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ne of the most visible uses of survey sampling lies in political pollin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BCF34-56D7-4709-8942-DCE642F89B9A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. _____ sampling occurs when units are selected on the basis of pre-specified characteristic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nowbal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o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urposi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babil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119A4-D5F9-4F14-B0A4-D4819FEBF556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B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ota sampling occurs when the units are selected on the basis of pre-specified characteristic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364B8-1073-4E15-9755-617E3422F366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Nonprobability Sampling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Nonprobability Sampling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– Any technique in which samples are selected in some way not suggested by probability theor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vailable subjec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urposive sampl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nowball sampl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ota sampl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EE8B4-2A3B-4BD5-B081-4D875BD93BAE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3. _____ describes a sample whose aggregate characteristics closely approximate the aggregate characteristics of the popul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clus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bability samp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PSE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presentativenes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FFEEA-0B2A-4367-B4B2-6977CD8034FB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presentativeness describes a sample whose aggregate characteristics closely approximate the aggregate characteristics of the popul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5B15A-1DFE-4AFE-8F04-4555ECF41CA4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4. A _____ is the list of elements from which a probability sample is selecte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fidenc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fidence interv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ampling fram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ystematic samp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70781-50A6-451A-9A93-51301ED0A867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sampling frame is the list of elements from which a probability sample is selecte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77C04-3506-4928-B408-C64648EAE264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5. _____ is the general term for samples selected in accord with probability theor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nprobability analys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rrel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bability samp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C156A-7396-4EAD-8D80-C5389AF4B804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bability sampling is the general term for samples selected in accord with probability theor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57822-43D8-4A36-8942-6F72F014BB0C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6. A _____ population is that aggregation of elements from which a sample if actually selecte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oretic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mal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arg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cep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ud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1E7C4-4771-4671-B037-66A84052E24D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study population is that aggregation of elements from which a sample if actually selecte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EAD3B-6907-404D-A91A-D97F3FC39F10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7. Cluster sampling may be used when it is impossible to compile an exhaustive list of the elements composing the target popul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ru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als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504FE-03A5-4495-BD19-24D7C3A88E3A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uster sampling may be used when it is impossible to compile an exhaustive list of the elements composing the target popul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CFC78-1F49-4355-976A-D1764CDA0180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liance on Available Subjec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venience sampl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oes not allow for control over representativenes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ly justified if less risky methods are unavailabl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earchers must be very cautious about generalizing when this method is us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might this method be appropriat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E9AF9-8A15-497C-9060-1C102BCBC280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Verdana"/>
              </a:rPr>
              <a:t>Purposive or Judgmental Sampling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– A type of nonprobability sampling in which the units to be observed are selected on the basis of the researcher’s judgment about which ones will be the most useful or representative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mall subsets of a popul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wo-group comparis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iant ca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might this method be appropriat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A975C-96F7-46A1-9057-0E33DB23E7E5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Snowball Sampling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– A nonprobability sampling method whereby each person interviewed may be asked to suggest additional people for interviewin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ften used in field research, special popul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might this method be appropriat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1A4E7-7620-45E3-B01B-5FE582108273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Verdana"/>
              </a:rPr>
              <a:t>Quota Sampling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– A type of nonprobability sampling in which units are selected into a sample on the basis of pre-specified characteristics, so that the total sample will have the same distribution of characteristics assumed to exist in the population being studied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7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probability sampling, but has problems: quota frame must be accurate, selection of sample elements may be bia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7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might this method be appropriat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37A84-9BBB-43F0-96CF-3E83D9207461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6T17:02:08Z</dcterms:created>
  <dc:creator>AKO</dc:creator>
  <dc:description/>
  <dc:language>en-US</dc:language>
  <cp:lastModifiedBy>carrie tucek</cp:lastModifiedBy>
  <dcterms:modified xsi:type="dcterms:W3CDTF">2016-01-20T05:16:02Z</dcterms:modified>
  <cp:revision>27</cp:revision>
  <dc:subject/>
  <dc:title>Slide 1</dc:title>
</cp:coreProperties>
</file>