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9AB8-920E-4639-BCCF-E9730F3E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96B6-52AB-43FC-BAFC-4F55F869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4A7-C5B9-4CCF-B217-03E60B93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737-B887-4B2E-9AEF-D2C5CEA6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F2B1-3793-40F6-88EF-A0FCA822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F157-CB2C-4B9E-8431-94BFBF83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99CC-3C48-4371-B4DD-B170595F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FCA1-166D-4FBE-A3C9-83DEE5EC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3AC8-E5E5-4B2C-90B3-A93E7A60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E577-A304-480B-B3AF-15BFF50C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4424-6769-49F2-868D-9D7CEF77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A7F-F6C5-4E52-B9CE-AE0FC1C2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2AC0-1568-4895-8B74-0AD9E444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B07D-D2BB-4495-8419-102B1515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77ED-5A6C-461C-9C20-330E33B3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1FFD-BE76-4B2B-A506-C3612610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9F49-47E5-4985-B423-8E1D77DA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99EC5-EC19-4006-8141-6075CC5D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6BDA7-8DDC-4429-B17B-645D377D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4A866-8766-4489-A142-89C1848A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EF511-DF2E-4493-B34B-C733A86B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F7128-EAA5-4524-B423-753006FD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2D0-AEAB-4493-A8C2-7ED37B30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7C1A3-D7A6-45C3-913C-5AC7FEA7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70683-FCC4-459E-B911-11825F1A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9033D-1F65-43E5-BBA1-BA29AA38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A496C-6CDE-4977-9A6A-9E5FF827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F0293-954C-4316-AB97-45DC4031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9B27C-FDA2-4A94-9C57-A096D3A0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C1E7A-C55A-447A-BAAC-A40C3C25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83768-D607-418A-8EE2-FB6D85CE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27F376-CF58-4DD0-8A51-23C17E79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136584-50A3-4EDA-9799-2AF1D965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8330-D9FC-4F96-8827-D94FB02A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18F0A9-7ACB-4599-BDBA-8AF3274E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F5EE82-2CAD-477D-BB9F-BF96C448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90832E-C87B-4D2A-A5C9-10A2A24B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DB137A-0DD8-45CE-B45C-0B3B7560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C7C844-9614-4142-811C-F09A528A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BD69AC-E0F3-44FB-A635-31064757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C51FAB-95C9-46AC-8E4C-0BBDD168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B08740-86FB-4097-8670-6B0200DB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13C3A0-A088-4A4D-8E29-3E6FEB07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EC564F-E743-4060-9475-9E091DA9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9E5-94A4-4E6C-A1FD-89819C3A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B11F0-D984-4CC9-B7DB-8D88C0D7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04E4CD-47A8-4508-AEF3-12F6B3BD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619386-3295-4A1F-91CA-DEBD7494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40703-9A92-4358-BE71-A649F65D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5426BF-D7AF-4D6E-9CA6-3B1C5557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91EC7-AB76-44BB-8590-40BC2F7C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8CA2B-BC57-4129-9574-52E26D5B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D9377-AD1B-4A3B-BF39-47A1C6DA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244CFA-E981-4800-B824-6A8C8D24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0CE02-BCB9-49D1-B6E8-4B537BAB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4C6-3BDB-4A23-B0D4-983A201B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BBA5C0-D95C-43AA-9DBB-5FEB18E5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D855B-638B-47D5-BF79-21612985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EDAC2-70AF-430A-A4FB-4A43DA6F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49858-A727-4D57-A00A-F3A5E1B8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A385A-D6D0-4622-86FD-5584EEB1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D30C6-771F-48A3-9C8B-02C7A98B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0284B-61A2-4888-8222-31CA50EA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F3178-3C17-4CBD-ABD1-FE284C67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B324C-A973-438D-BA9D-44098599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AF108-B077-4790-AB1A-16B1997B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0B05-A773-4D3F-9005-67C2E5DB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35D32-3E05-47D4-95DD-86D26C9E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14021-FD0B-444C-B05B-DA6B3505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3042D-63E9-4A26-9735-D34EA164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920DE4-42E4-4FB6-9B66-01E86FA0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22DB9F-74EC-49C9-B26E-35997C71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B020AF-F64F-460D-8998-65C81526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C1D74B-1085-4EAA-997D-0BE01FDB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512A71-8BEA-419E-81B9-5350826E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BDA523-614C-4BD6-BAAA-98C253F1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EC4E58-EBD2-4C68-AC44-EFE7057C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B5E-59F6-43EA-B43E-D8DCCFD6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96D49F-C6BC-40B2-AB32-5EED7623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80972A-3C5E-448A-A02D-3028C16A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BE7B7C-6082-499E-A55B-E49B6BB8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68B323-59DC-4E73-85D9-C92B0C0E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E531DC-D8A3-4247-89D6-9C25EECE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06858-2E98-4597-9B38-91B035FC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53D20-5D6B-4A38-97DE-944CBF9C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BCAF1-C5C1-4D55-B49A-ABAA9A73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A5F7B-487C-4900-B2B0-61D06DB9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8C84D-443A-46D2-B484-9F833524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DFB-EB83-4107-8CB0-626FA7E1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7AFD5-E613-47AC-8419-C7315FC9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CE954-AE61-47CB-9F88-9C59628C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1A354-90FD-48E2-8C7F-01985ED0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9D89C-3C6D-4F5B-8FB3-3FAD3393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DAA83-BA64-4ECB-A33F-FB7CAD8D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BF1D1-3DBD-45F5-ADF1-CAF789B2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1AD95-A621-4361-848C-46564953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510F-E603-4CEB-8B4C-4E0BDE17B7C7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E75A-A9E1-4EB6-9255-B94CFB972418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B71C-9C89-4549-BFB8-FB5B9C0228CE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2111-8C4F-4A66-9435-618B4382450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9879-A2CD-43CE-A2AD-C2A394295EF9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9B9C-1A09-40CF-B99D-3515293FB254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45F9-1268-45C7-92BD-89CC0BD787E6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3431-A70F-40CC-B0BF-E2DD3B9B57E1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6, INDEXES, SCALES, AND TYPOLOGIES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Index Construc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em Sel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ation of Empirical 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Scor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ndling Missing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Valid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em Sel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ce Valid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dimension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l or Spec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ation of Empirical 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empirical relationship is established when respondents’ answers to one question help us predict how they will answer othe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variate Relationships – A relationship between two vari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ltivariate Relationships – A relationship between more than two vari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05756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s 6.3 &amp; 6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4521240" cy="2514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297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Scor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mine the desirable range of the index scor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licting desire for a range of measurement in the index and an adequate number of cases at each point in the index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mine whether to give each item in the index equal or different weigh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andard: items should be weighted equally unless there are compelling reasons for differential weighting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Handling Missing Dat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re are few cases with missing data, you may decide to exclude them from the construction of the index and analy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 missing data as one of the available respon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the missing data to interpret their mean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issing data the middle value, or the mean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values to the proportion of variables sco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ndex Validati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em Analysis – An assessment of whether each of the items included in a composite measure makes an independent contribution or merely duplicates the contribution of other items in the meas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rnal Validation – The process of testing the validity of a measure, such as an index or score, by examining its relationship to other, presumed indicators of the same vari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d Index versus Bad Validato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Scale Construc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gardus Social Distance Scale – A measurement technique for determining the willingness of people to participate in social relations – of varying degrees of closeness – with other kinds of peo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urstone Scales – A type of composite measure constructed in accord with the weights assigned by “judges” to various indicators of some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es versus Sc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Constr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ale Constr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olog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Likert Scaling – A type of composite measure, designed to improve the levels of measurement in social research through the use of standardized response categories to determine the relative intensity of different item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emantic Differential – A questionnaire format in which the respondent is asked to rate something in terms of two, opposite adjectiv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609480" y="1638360"/>
            <a:ext cx="82742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uttman Scaling – A type of composite measure used to summarize several discrete observations and to represent some more-general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ypologie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ology – The classification of observations in terms of their attributes on two or more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In order to achieve broad coverage of various dimensions of a concept, researchers need to mak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ngle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ltiple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order to achieve broad coverage of various dimensions of a concept, researchers need to make multiple observa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Which of the following are common characteristics shared by both indexes and scal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are ordinal meas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rank-order units in terms of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fic vari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are composite meas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llowing are common characteristics shared by both indexes and scales:  both are ordinal measure, both rank-order units in terms of specific variables, and both are composite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Which of the following represent steps in the construction of an index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lecting possible ite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ing empirical 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oring the inde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s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 do quantitative researchers use composite measur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clear, unambiguous single indica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ordinal mea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ficient for data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llowing represent steps in the construction of an index: selecting possible items, examining empirical relationships and scoring the index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An empirical relationship is established when respondents’ answers to one question help u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serve a statistical correlation between the two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termine their current level of toleranc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ain away the observed corre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dict how they will answer other ques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 empirical relationship is established when respondents’ answers to one question help us predict how they will answer other ques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of these represents a questionnaire format in which the respondent is asked to rate something in terms of two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oss-sectio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kert sc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mantic differenti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mantic differential represents a questionnaire format in which the respondent is asked to rate something in terms of tw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We construct a/n _____ simply by accumulating scores assigned to individual attribut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a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 construct an index simply by accumulating scores assigned to individual attribut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_____ is the process of testing the validity of a measure by examining its relationship to other indicators of the sam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etical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nal valid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ernal valid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ernal validation is the process of testing the validity of a measure by examining its relationship to other indicators of the sam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Index versus Scal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monal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th scales and indexes are ordinal measures of vari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th scales and indexes are composite measures of variables – measurements based on more than one data it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fferen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ex – A type of composite measure that summarizes and rank-orders several specific observations and represents some more general dimen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ale – A type of composite measure composed of several items that have a logical or empirical structure among th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rcRect l="0" t="0" r="0" b="64836"/>
          <a:stretch/>
        </p:blipFill>
        <p:spPr>
          <a:xfrm>
            <a:off x="304920" y="2362320"/>
            <a:ext cx="8499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rcRect l="0" t="38098" r="0" b="0"/>
          <a:stretch/>
        </p:blipFill>
        <p:spPr>
          <a:xfrm>
            <a:off x="592200" y="1600200"/>
            <a:ext cx="8367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ales are generally superior to indexes, because scales take into consideration the intensity with which different items reflects that variable being measur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sconcep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ther the combination of several data items results in a scale almost always depends on the particular sample of observations under stud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use of specific scaling techniques does not ensure the creation of a sca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5:06Z</dcterms:modified>
  <cp:revision>11</cp:revision>
  <dc:subject/>
  <dc:title>Slide 1</dc:title>
</cp:coreProperties>
</file>