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1623-680A-44FE-AF39-3CA75FEF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F0B9-EB55-483F-A655-AF5F0D1F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F32-5CD9-4863-BAE7-36AC742E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B03A-4FD8-4A79-B585-BFAA838A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8F95-ACEA-4625-8EF6-C674BD0E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F664-2D45-4C61-9B25-D9BC412A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B1D9-4AE5-4116-A7DA-F155A72B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A78A-71D3-43A4-A916-54342F5C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2B98-26E2-4CBC-A3DD-66087CFA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42B3-5FF7-4E66-892A-C7BE445C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FEBC-4C1B-439E-92F9-16ED0B7B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675-9053-4609-9DA4-2749B188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C961-F2B2-4121-A82E-07EA49D0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C7B6-F92D-46FE-86D2-E950743A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5805-2274-4A55-AE77-DBE886BC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B91E-20D9-4535-B453-3DA223DA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EBEC-8E61-4F5D-9097-75375905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FDE83-050F-4531-94D1-F7EAC1D4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A818A-A605-4BD1-B3C3-8927654D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68929-4C0C-45C5-8045-39F42DCC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03D8D-F479-4AAD-8D3D-AA3ADCC1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5EAFF-6091-4A7A-98E3-ACBE7DBA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BA7E-4EE0-47A4-BEA2-F93551B8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83FF77-4BE1-4680-994D-1581F676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5BB8F-DC40-4322-A544-61BB3FFC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97C92-04D0-4C1A-9A6B-5C7984F2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A3030-EE32-4DE5-BBC5-C805B889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D7147-D4F6-4A9F-97B3-2999410C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EEB5C-F416-4FE9-8CFA-DF674793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5BA0E-D047-4CA5-943A-B017339A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C9C0E5-B223-46B5-B8C4-8DEE493F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65C0C3-CCB3-4EBD-B54C-C9C66C30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DE1EE1-2D74-455A-8DB0-0BEC5DCC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41E5-3D18-4508-8B08-3AF93F79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72AA1C-E901-4E6F-BEB2-E894B89F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423178-EF55-4118-BF30-467CBD49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FF35D0-D059-40A4-B622-9AE9B5F2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44C33C-9B21-4AF4-9BB5-4A7E2EAA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5C9462-60C9-424A-B0EE-1CE48F9C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6C08BA-0D74-4F83-B1E4-2A8FF6DB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DF9A5A-C63E-4816-BDA6-63D7A885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F25907-376B-4B36-AABD-05E507D0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55C090-5535-4A47-9126-B4CFF1DD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43CAC-74C7-429E-B56A-CF4653CE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283-F524-4C1B-B351-CA0CD90D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FEDCC7-E08D-41F1-A421-B38ADDBA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C02A79-B5D1-450A-B975-4C26E167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0B7049-366B-4BF9-81C0-BB761AF8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93634-CA8D-4842-8783-F1BC4C33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04C372-50AF-48A3-96B7-9CF99CE4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FEB3B-7557-4D5D-B9F3-10715FA0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64BB2E-1B30-4821-966C-DD578807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554FD4-4B18-4636-8DCE-FB8683AB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9B49F9-64DF-416B-9A73-1E900B23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726842-C52F-4292-B080-5923A71B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7A45-CA44-46B6-B5FC-CE843685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A0F74-5670-4D5A-B2BB-6D340F6B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50B4D-5717-45E0-B5D9-D9DCAAF7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F01A6-073E-4FA3-BC61-D18E710E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3FF33-EEBF-4F0F-B795-5B7CA603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EEFE3-6CBD-426C-9583-CE2814BF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0B964-AE54-4ACD-86AD-76E29F4C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035EB-9CC7-4771-81B2-25BC4986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C9C84-6E52-444B-8958-9C971833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6471F-5EE0-4DAB-8006-12F00834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C3865-82A9-45E6-BFFA-011537FF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417-5CBE-4E49-9FB7-D64E33D0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1A09D-A48A-4F23-A698-A4942A9B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9CF3E-5D25-4D0F-B09B-A09AA05D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E737C-3E8E-4297-9BBA-2E4E138D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BAE9CE-D950-4CB4-AF84-8FD698F0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60B8E9-097D-4896-AD52-CF672190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5C5E3A-182B-493A-A82D-AE01BA8D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FC66AD-8012-4495-A783-F6352BC8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5CCF94-C350-4EC9-A544-FCAE291B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EA355F-E03C-4FA3-AD0C-6B176541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1A75CA-6946-4002-8614-BA6D7E52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B61-6497-4B5A-8FCF-4DC44E59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11D1DD-F9F2-421B-ADCC-B2F8055B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3CCA71-793B-4236-A960-DFBBC6AC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FE9507-B6CC-44B2-8BE6-2CF8C69C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1DB664-C821-4D04-B25A-5D8E4ECF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688C42-AFDD-4EDC-BB6E-48D041A3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240B9-8F7C-4868-9EA4-877C5455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3E5EC-567F-4683-9F70-981F56E2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255DA-DA82-4A77-AD16-C5A83613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B1DD0-5680-47B5-98C7-02FBC9E5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0D507-58F6-4B66-BA15-138734FC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22A-7362-4B98-834D-01D90DC5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440B2-DC0A-4F7C-8495-CF0A9CE5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895E1-F934-4506-B9AE-E97208BC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67EAC-AD08-450C-BA15-5A139727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2912D-BA80-4E59-9280-CAA598D4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BD06F-10C5-4EBB-8C9A-A5E383ED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4B48F-DA81-47EC-996D-6A1F0D89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246C2-3DC0-46E4-BB0E-131ADFD3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054D-A688-464A-BBAD-70862566115A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024C-F182-402F-83F0-117F5B069F20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F627-F513-42CD-B15A-4063F17EA77C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1376-19BC-4511-9F3F-93F8D82A6364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0BC4-AD03-4418-A48D-D05B39BE565B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ED5A-5FA1-441D-8063-75E1C1B4F31B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9DCF-AE47-4092-A7B1-1FB3FD1B15E8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9C74-9172-4B97-8636-01DC905FBB6C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4d4d6"/>
                </a:solidFill>
                <a:latin typeface="Verdana"/>
              </a:rPr>
              <a:t>CHAPTER 6, INDEXES, SCALES, AND TYPOLOGIES</a:t>
            </a:r>
            <a:endParaRPr b="0" lang="en-US" sz="40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Index Construc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em Sel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ation of Empirical 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Scor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ndling Missing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Valid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em Sel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ce Valid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dimension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l or Spec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ation of Empirical 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empirical relationship is established when respondents’ answers to one question help us predict how they will answer othe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variate Relationships – A relationship between two vari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ltivariate Relationships – A relationship between more than two vari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05756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s 6.3 &amp; 6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4521240" cy="2514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297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Scor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mine the desirable range of the index scor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licting desire for a range of measurement in the index and an adequate number of cases at each point in the index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mine whether to give each item in the index equal or different weigh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6560" indent="-4572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andard: items should be weighted equally unless there are compelling reasons for differential weighting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Handling Missing Dat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re are few cases with missing data, you may decide to exclude them from the construction of the index and analy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 missing data as one of the available respons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the missing data to interpret their mean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issing data the middle value, or the mean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1880" indent="-45720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values to the proportion of variables sco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ndex Validati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em Analysis – An assessment of whether each of the items included in a composite measure makes an independent contribution or merely duplicates the contribution of other items in the meas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rnal Validation – The process of testing the validity of a measure, such as an index or score, by examining its relationship to other, presumed indicators of the same vari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d Index versus Bad Validato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Scale Construc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gardus Social Distance Scale – A measurement technique for determining the willingness of people to participate in social relations – of varying degrees of closeness – with other kinds of peo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urstone Scales – A type of composite measure constructed in accord with the weights assigned by “judges” to various indicators of some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es versus Sc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Constr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ale Constr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olog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Likert Scaling – A type of composite measure, designed to improve the levels of measurement in social research through the use of standardized response categories to determine the relative intensity of different item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emantic Differential – A questionnaire format in which the respondent is asked to rate something in terms of two, opposite adjectiv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609480" y="1638360"/>
            <a:ext cx="82742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uttman Scaling – A type of composite measure used to summarize several discrete observations and to represent some more-general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ypologie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ology – The classification of observations in terms of their attributes on two or more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In order to achieve broad coverage of various dimensions of a concept, researchers need to mak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ngle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eld research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ltiple observ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order to achieve broad coverage of various dimensions of a concept, researchers need to make multiple observa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Which of the following are common characteristics shared by both indexes and scal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are ordinal meas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rank-order units in terms of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fic vari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th are composite meas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llowing are common characteristics shared by both indexes and scales:  both are ordinal measure, both rank-order units in terms of specific variables, and both are composite meas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Which of the following represent steps in the construction of an index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lecting possible ite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ing empirical relationship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oring the inde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s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 do quantitative researchers use composite measur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clear, unambiguous single indica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ordinal mea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ficient for data analys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llowing represent steps in the construction of an index: selecting possible items, examining empirical relationships and scoring the index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An empirical relationship is established when respondents’ answers to one question help u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serve a statistical correlation between the two variab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termine their current level of toleranc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ain away the observed correl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dict how they will answer other ques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 empirical relationship is established when respondents’ answers to one question help us predict how they will answer other questi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of these represents a questionnaire format in which the respondent is asked to rate something in terms of two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oss-sectio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ngitudinal stud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kert sc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mantic differenti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mantic differential represents a questionnaire format in which the respondent is asked to rate something in terms of tw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We construct a/n _____ simply by accumulating scores assigned to individual attribut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a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 construct an index simply by accumulating scores assigned to individual attribut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. _____ is the process of testing the validity of a measure by examining its relationship to other indicators of the sam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etical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nal valid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ernal valid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ceptualiz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ternal validation is the process of testing the validity of a measure by examining its relationship to other indicators of the same vari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Index versus Scal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monal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th scales and indexes are ordinal measures of vari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th scales and indexes are composite measures of variables – measurements based on more than one data it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fferen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ex – A type of composite measure that summarizes and rank-orders several specific observations and represents some more general dimen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ale – A type of composite measure composed of several items that have a logical or empirical structure among th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rcRect l="0" t="0" r="0" b="64836"/>
          <a:stretch/>
        </p:blipFill>
        <p:spPr>
          <a:xfrm>
            <a:off x="304920" y="2362320"/>
            <a:ext cx="8499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6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rcRect l="0" t="38098" r="0" b="0"/>
          <a:stretch/>
        </p:blipFill>
        <p:spPr>
          <a:xfrm>
            <a:off x="592200" y="1600200"/>
            <a:ext cx="8367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cales are generally superior to indexes, because scales take into consideration the intensity with which different items reflects that variable being measur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sconcep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ther the combination of several data items results in a scale almost always depends on the particular sample of observations under stud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9480" indent="-514440">
              <a:spcBef>
                <a:spcPts val="550"/>
              </a:spcBef>
              <a:buClr>
                <a:srgbClr val="f0ad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use of specific scaling techniques does not ensure the creation of a sca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5:06Z</dcterms:modified>
  <cp:revision>11</cp:revision>
  <dc:subject/>
  <dc:title>Slide 1</dc:title>
</cp:coreProperties>
</file>