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617D-174C-4F90-B342-78899EA9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0F94-E17B-4A6B-B814-B4F5DD16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C30B-8413-4A4E-9EBB-CF800ABD9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BD85-1E37-45FC-B00F-72E00511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3B80-D049-499A-90C6-DEB320E2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EB97-673D-456B-9BD7-DCE424BB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AA71-634E-43D8-B7A8-AA6B8091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2EA1-08E8-4D5E-ACD6-9C4047DD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D3A7-5059-4117-9CB4-84E468F9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96B9-F9AB-4FC6-A9D7-1EF1E6D8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1610-56FE-424A-901C-B243211D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B481-3401-44E6-9057-381CC2F5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8DE3-7F08-4362-A5A0-63DC3BE3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F678-2FC3-40E6-AC1A-26347700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35B4-C8C1-49B6-9E64-D88435E4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F635-E801-49DF-8795-6E09ED63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D7ED-971B-46E9-9108-AE35B620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8B64CC-FF25-46B1-9882-7AC007EF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49A2C7-726E-41D9-84A0-BB9A4457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739F1E-0B53-41EE-8132-39F20BC5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4A2A4-D5FB-43EE-9DEB-FF770DBC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E16566-E1BE-41BB-9D17-24B35A25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9683-A422-4085-849E-83E35359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8B9886-E0EF-4BA2-90BD-5FBCBF3F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D142FA-1680-4B09-8AB0-E04CAD59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7C170-28B5-403B-8D86-4F1E18C7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E18AB-0E76-4DFF-9C22-72410D97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B63D55-DF22-4F51-B24E-A904A234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F2C0A-B237-46EA-B3AC-020B10EC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5EDD1-BAE2-42DB-A75B-1ECED686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E6B117-F693-4897-B810-5E47B9BA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6EC2F5-7220-4C2B-AA50-19E76AF7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C14FA3-BC77-4804-960C-BEFA825C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A8F8-45AE-4770-B581-0BF93A73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9D886A-8242-4678-933B-12136D4D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D2A182-4B94-406F-85E8-D973E11F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28E1FC-8364-4DE8-AD38-957B1D01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3BDBF5-75E2-42A2-983D-6B931E2B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94AB94-8A5C-4543-8331-F893B3D2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82467D-9EFC-4413-AC50-14941279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05612F-20CF-4DB3-8A78-8BBD5ACD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FE8938-EB8B-4CBD-9918-394FC264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287299-D985-4880-97F6-CCB53E61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7CFF83-ECA6-4DBB-9165-9043B40C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AEEC-C84F-4577-ACCB-C9078F6C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868CC6-0818-4670-AA89-32E522D9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3DABB-3DC7-407B-9F8A-62EE996C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DE8B02-760A-4213-838D-7D3A8732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EB4734-30A7-4A73-B9FD-BA370FF0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C91560-CDF7-45DE-8518-8C70B9F1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CDF2E6-9745-42DB-A7FA-5B7B09D2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DF6B3C-0332-4184-98F2-8690677A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85F9D3-F61C-43C2-B7F1-6B750594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A0ABF2-3D5D-4012-9305-BEE80803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C42C3F-46F2-47FA-915E-EF78501C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FD52-AA7D-461E-876C-41B79E99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0096F0-96D9-48F0-8796-59C2FE49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97B49-000A-44BB-9D3E-D07A91B5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B4D46-678D-4256-B1E6-24E82649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08B1F-F953-453B-90EF-2AA6E720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73D56-99DE-4445-B3C3-05D187FE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58131-27EE-4544-A624-03AB9C13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08A34-A771-4F46-84F6-565F9AC4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190D9-277F-4821-8E94-3C18F89A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AFD29-47A4-4444-86FF-5449CAAE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79465-6E1D-4D4E-AD34-6896D54C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140B-FFD1-4159-B0AA-E23D3DD0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E355A-4D7D-41C6-A684-1EA1798E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12436-1955-4E5F-819A-0E37CDB0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5BB11-A6D8-4B24-9BBB-69ADBABD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3C13FC-5EB2-43F1-A41C-CBC24B11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9004C3-E0F0-46F4-A98F-97097B32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38D451-4955-4903-8E31-D4A29E55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68BC20-8C25-46E9-8660-0860E7E9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43F678-B534-4397-9503-99709028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4EA721-F397-4C7A-A675-DC26FF5E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62FDA2-E68D-4082-B28F-B140C908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3C62-9A6E-4804-8E26-277CDDD2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5A62B8-0462-4727-873D-A7276A2E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5DBA47-91A7-4BFD-B4E0-D1533F67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0B0B65-7507-4AAD-8A0F-3916FA0F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268026-66A0-40AA-9F0D-F8E20B84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C182AB-1754-48F3-A5D6-19A735A4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A56D2-C777-4132-9C5C-646A605D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28F5B-C445-4239-9568-36BB1B91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48A55-650A-4675-8B9A-1BA8D965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5B595-9634-4245-8F79-82BD5402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4DC63-9537-4B50-AA5D-E0ECDCC9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1D8A-E679-4BAE-9061-FA912E45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28D32-1C81-4CA2-9BB4-EE45A61B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655DD-017B-4BDE-8C85-281E671F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CD2AB-6342-44D3-A8F1-946D015C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BFF8F-1214-4515-BBE6-0F11C1E3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3A761-7926-463C-8F98-23378E3E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70F2B-DBCD-4036-B91D-2D1E0BDB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FDD77-D6DB-4C58-9424-6742B7A9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A601-D325-404E-8FB3-0712AF60294A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D53A-9DBA-43DC-90A6-942895FF1CA3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767F-7FD6-4FBC-8F9A-1F4BD97AECA3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1A5D-338F-4F7A-B8EB-44B8A0A13801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B87C-95EC-4940-A002-9B664E4AC3BF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47F8-4D60-4101-A998-8B9BF153EE68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BD0D-108A-46BC-82A5-29F95956E67F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E514-01D4-4940-B146-207D686EA5F8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6, INDEXES, SCALES, AND TYPOLOGIES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Index Construct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tem Sele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ation of Empirical Relationshi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Scor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ndling Missing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Valid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tem Sele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ce Valid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idimension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l or Spec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ation of Empirical Relationshi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empirical relationship is established when respondents’ answers to one question help us predict how they will answer othe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variate Relationships – A relationship between two varia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ltivariate Relationships – A relationship between more than two varia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6.2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405756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s 6.3 &amp; 6.4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4521240" cy="2514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4297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Scor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termine the desirable range of the index scor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656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licting desire for a range of measurement in the index and an adequate number of cases at each point in the index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termine whether to give each item in the index equal or different weigh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656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tandard: items should be weighted equally unless there are compelling reasons for differential weighting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Handling Missing Dat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here are few cases with missing data, you may decide to exclude them from the construction of the index and analy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 missing data as one of the available respon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the missing data to interpret their mean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missing data the middle value, or the mean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values to the proportion of variables sco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Index Validatio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em Analysis – An assessment of whether each of the items included in a composite measure makes an independent contribution or merely duplicates the contribution of other items in the measu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rnal Validation – The process of testing the validity of a measure, such as an index or score, by examining its relationship to other, presumed indicators of the same vari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d Index versus Bad Validato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Scale Construct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gardus Social Distance Scale – A measurement technique for determining the willingness of people to participate in social relations – of varying degrees of closeness – with other kinds of peop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urstone Scales – A type of composite measure constructed in accord with the weights assigned by “judges” to various indicators of some variab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es versus Sc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Constru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ale Constru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olog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Likert Scaling – A type of composite measure, designed to improve the levels of measurement in social research through the use of standardized response categories to determine the relative intensity of different item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emantic Differential – A questionnaire format in which the respondent is asked to rate something in terms of two, opposite adjectiv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6.5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609480" y="1638360"/>
            <a:ext cx="82742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uttman Scaling – A type of composite measure used to summarize several discrete observations and to represent some more-general variab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ypologie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ology – The classification of observations in terms of their attributes on two or more variab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In order to achieve broad coverage of various dimensions of a concept, researchers need to mak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ngle observ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eld research observ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ultiple observ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order to achieve broad coverage of various dimensions of a concept, researchers need to make multiple observa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Which of the following are common characteristics shared by both indexes and scal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are ordinal measu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rank-order units in terms of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cific variab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are composite measu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ollowing are common characteristics shared by both indexes and scales:  both are ordinal measure, both rank-order units in terms of specific variables, and both are composite meas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Which of the following represent steps in the construction of an index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lecting possible ite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ing empirical relationshi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oring the index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se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y do quantitative researchers use composite measur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clear, unambiguous single indica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ordinal mea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fficient for data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ollowing represent steps in the construction of an index: selecting possible items, examining empirical relationships and scoring the index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An empirical relationship is established when respondents’ answers to one question help u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bserve a statistical correlation between the two variab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termine their current level of toleranc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ain away the observed corre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dict how they will answer other ques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 empirical relationship is established when respondents’ answers to one question help us predict how they will answer other ques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Which of these represents a questionnaire format in which the respondent is asked to rate something in terms of two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oss-sectio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ngitudi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ikert sc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mantic differenti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mantic differential represents a questionnaire format in which the respondent is asked to rate something in terms of tw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We construct a/n _____ simply by accumulating scores assigned to individual attribut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a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 construct an index simply by accumulating scores assigned to individual attribut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_____ is the process of testing the validity of a measure by examining its relationship to other indicators of the same variab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etical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nal valid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ternal valid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ternal validation is the process of testing the validity of a measure by examining its relationship to other indicators of the same variab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Index versus Scal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monal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th scales and indexes are ordinal measures of varia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th scales and indexes are composite measures of variables – measurements based on more than one data it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fferen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ex – A type of composite measure that summarizes and rank-orders several specific observations and represents some more general dimens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ale – A type of composite measure composed of several items that have a logical or empirical structure among th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6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rcRect l="0" t="0" r="0" b="64836"/>
          <a:stretch/>
        </p:blipFill>
        <p:spPr>
          <a:xfrm>
            <a:off x="304920" y="2362320"/>
            <a:ext cx="8499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6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rcRect l="0" t="38098" r="0" b="0"/>
          <a:stretch/>
        </p:blipFill>
        <p:spPr>
          <a:xfrm>
            <a:off x="592200" y="1600200"/>
            <a:ext cx="8367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ales are generally superior to indexes, because scales take into consideration the intensity with which different items reflects that variable being measur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sconcep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ther the combination of several data items results in a scale almost always depends on the particular sample of observations under stud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use of specific scaling techniques does not ensure the creation of a sca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5:06Z</dcterms:modified>
  <cp:revision>11</cp:revision>
  <dc:subject/>
  <dc:title>Slide 1</dc:title>
</cp:coreProperties>
</file>