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ADC-B4C0-4FC5-80AE-DB4BE756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8F6-702A-48F1-836D-A8984DED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ABA-0B84-45F2-88AF-0C20C872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662-6C85-400F-AD85-1FE59A73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5F39-6D3A-4E9A-8299-E967DED9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E747-FF04-451D-A639-587B5C7F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A245-553A-482A-92DF-7891D1BA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BCE6-BE2A-477B-A99D-162D5985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E353-77DA-4F20-8E87-587A5D37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C5B9-A099-4CEA-B5E4-1C1451BD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6D53-9D30-4BBF-BCDC-D239A272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8F7-DC80-4EB7-8EDA-C2D1D32F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1347-1DEB-4BB4-A896-0652DDBA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0FFD-B543-4FB6-8361-9E8388AC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DA32-ECC7-4B5A-9299-BDE9BBFA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68A7-D909-47BB-A53A-B5DBA725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8CBE-BC0B-4195-9FF3-C46EE897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77C8E-D0B1-43FE-B27D-8244127E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7E31D-A8DF-4FE7-95DE-42B55247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926B4-2074-45F2-A6F6-9081189C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63059-0DE8-4621-B1B2-A3434454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B9BE3-8F1E-4D07-A75A-B24913B6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CBC-9B41-4A24-8C73-F84E96E4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D29A0-E96F-42C3-921F-962B442C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10B06-5D0E-4F92-8CFF-4DCD0E15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E3A24-00A6-4A31-9928-20BFEE75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3C14C-9C38-48CE-BA3C-313BD952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D24D3-6E02-4636-A66E-3124069B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ADC16-C9B7-469F-A61E-E0DA547D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0D5BA-1A72-4517-88C0-4FED6EFD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72B17B-1F07-4DDA-8AEE-C65AE756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F3744F-1760-4892-B001-F647AF94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170EE9-2131-44DA-9F4C-68A6DDAA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637-9ACA-4E26-88CF-DB94F720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3C5B5-69DA-48E2-8B59-9F0ED37A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E30EB-A31A-446E-B178-51BB9868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8CF59E-BE17-4300-A6F3-ACCFFA7E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F5F4F1-25E4-485B-82E7-F3F3373A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AAA84-5A18-49D0-8C3E-56ACB414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FA47AE-CF73-47EF-BF42-71F52DBF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EF08E-B679-4013-9762-988ADE92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A1F069-01BD-49A1-8080-57E7B780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B8670-978E-4C26-81FD-6DD4205C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DC16A-CB5F-4153-9FBC-B463EE07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BD2-71EA-4650-8509-7E281A22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C89759-C039-459B-AA51-1CA03CFC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7EDF8-4427-4622-A4D4-9BEEA305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B78634-7F67-47B1-BA37-D2BEF65C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21B3F-7155-4D84-9321-5E705231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E2BB1-4DD4-4CEC-81C0-C542E504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DB899-5E8E-4984-8178-41B6513E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76816-4E18-4354-8D0A-09EA2C9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4D93DB-E2E7-4E19-B990-1D203B11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2BD95-3AAE-416E-BE3C-60439299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273E7-5A20-4542-B15B-A8F28569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21C-12B4-4492-8442-797CFCC6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0736B-0514-4171-B9BE-F93C356C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2A5BD-58BB-4780-AD27-19696FE7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C2C4E-CE20-41EE-A491-F95692F6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A6728-8FD2-4434-A4B1-5E2CF2E7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6D6BA-73E4-496A-8CF8-0F5DE205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50277-3909-4EAF-B96B-C956FE1E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4A065-591E-4533-9279-344F2806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7A3C4-6800-4760-834F-A71DB807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F30C6-2590-4F39-B934-6C81F3E0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74A8C-2330-41E8-91F0-E1D77368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6B3-850D-49B3-A916-E14B56F2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EFD6B-241C-491B-AEF9-26D0A207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B1E10-95EF-4D3F-8AC6-B736BC29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A1079-7BCE-4245-9D64-84AB2150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D49952-CF56-4D01-8D20-2B069788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A079F-7AC3-4093-A7DF-1BFA594D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CDB6B-66DD-4BAC-8D8E-7222ECBE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83EB17-7623-4EA5-82E8-DACCEC33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60ECA8-FD01-487F-AAFA-E8F2E221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ED07A9-CD78-48CC-ABFA-4A346CEB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C63DF-0BB4-4950-A6F3-0A636C51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04E-B459-4DBC-BB87-F6876F20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525CD3-5B7E-4F81-ABB8-A6E9DEE8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70558-E494-4FED-A84B-D391E11E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258C2C-B30D-4481-A11C-A1625C08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D7ED25-52DC-4632-BD69-B8394C34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D997AB-9809-47FC-8EB9-BBD1A2A2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CBA36-31AD-4A60-AD18-FD0991D1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967E8-4201-41A0-8D5E-33219E96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A64BE-1F38-4421-B5F4-2BB5B7C7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AF454-C9CF-4B95-AED6-B1321B2B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BA2BB-36F0-4AD6-B0D6-9B0972C1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246-D082-42B1-AC0C-2D68C759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8A1E5-0F58-46B5-96A2-E4F1572D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70282-C702-4771-8695-505E8103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4310D-5D65-414B-A6F9-3F184926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05C32-9306-4762-ADFC-712C8C01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79E17-7C05-415B-9FEF-02CC1BFA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579EA-25F4-4DFA-B76E-54550558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CCF72-056A-4DB7-B641-91F0E9EB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E189-4E09-4BC7-B1A8-DE69D4E320A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2731-0EF0-422E-B9FC-91ADA7DCC437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3E20-DCD0-4BF0-96E4-765627EB14EF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44C4-2C65-4172-8CD3-7C8107AFF2D5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94F7-533C-41EB-814E-2EB50066141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41DE-CD94-445A-B459-A2EF930DC390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EF4B-17F7-4DDA-A3FA-5CCF6BFDC59C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3C1D-A649-403A-B7A3-829E9D49D0E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6, INDEXES, SCALES, AND TYPOLOGIES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dex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em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ation of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Sco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ndling Missing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em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ce Valid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dimension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l or Spec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ation of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empirical relationship is established when respondents’ answers to one question help us predict how they will answer othe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variate Relationships – A relationship between two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variate Relationships – A relationship between more than two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05756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s 6.3 &amp; 6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4521240" cy="2514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297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Sco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 the desirable range of the index scor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licting desire for a range of measurement in the index and an adequate number of cases at each point in the index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 whether to give each item in the index equal or different weigh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ndard: items should be weighted equally unless there are compelling reasons for differential weighting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andling Missing Dat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re are few cases with missing data, you may decide to exclude them from the construction of the index and analy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 missing data as one of the available respon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the missing data to interpret their mean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issing data the middle value, or the mean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values to the proportion of variables sco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ndex Valid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m Analysis – An assessment of whether each of the items included in a composite measure makes an independent contribution or merely duplicates the contribution of other items in the meas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rnal Validation – The process of testing the validity of a measure, such as an index or score, by examining its relationship to other, presumed indicators of the same vari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d Index versus Bad Validato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cale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gardus Social Distance Scale – A measurement technique for determining the willingness of people to participate in social relations – of varying degrees of closeness – with other kinds of peo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urstone Scales – A type of composite measure constructed in accord with the weights assigned by “judges” to various indicators of som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es versus Sc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 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olo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Likert Scaling – A type of composite measure, designed to improve the levels of measurement in social research through the use of standardized response categories to determine the relative intensity of different item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mantic Differential – A questionnaire format in which the respondent is asked to rate something in terms of two, opposite adjectiv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609480" y="1638360"/>
            <a:ext cx="82742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uttman Scaling – A type of composite measure used to summarize several discrete observations and to represent some more-general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ypologie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ology – The classification of observations in terms of their attributes on two or mor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n order to achieve broad coverage of various dimensions of a concept, researchers need to mak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gle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order to achieve broad coverage of various dimensions of a concept, researchers need to make multiple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Which of the following are common characteristics shared by both indexes and scal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are ordinal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rank-order units in terms of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fic vari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are composite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are common characteristics shared by both indexes and scales:  both are ordinal measure, both rank-order units in terms of specific variables, and both are composite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ich of the following represent steps in the construction of an index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ecting possible it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ing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oring the 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s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do quantitative researchers use composite measur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clear, unambiguous single indica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ordinal mea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icient for data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represent steps in the construction of an index: selecting possible items, examining empirical relationships and scoring the index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An empirical relationship is established when respondents’ answers to one question help u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erve a statistical correlation between the two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e their current level of toleran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in away the observed corre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dict how they will answer other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 empirical relationship is established when respondents’ answers to one question help us predict how they will answer other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se represents a questionnaire format in which the respondent is asked to rate something in terms of tw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oss-sectio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kert sc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mantic different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mantic differential represents a questionnaire format in which the respondent is asked to rate something in terms of tw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We construct a/n _____ simply by accumulating scores assigned to individual 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construct an index simply by accumulating scores assigned to individual 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_____ is the process of testing the validity of a measure by examining its relationship to other indicators of the sam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etical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nal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rnal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rnal validation is the process of testing the validity of a measure by examining its relationship to other indicators of the sam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dex versus Scal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onal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scales and indexes are ordinal measures of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scales and indexes are composite measures of variables – measurements based on more than one data i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fferen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x – A type of composite measure that summarizes and rank-orders several specific observations and represents some more gen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ale – A type of composite measure composed of several items that have a logical or empirical structure among th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rcRect l="0" t="0" r="0" b="64836"/>
          <a:stretch/>
        </p:blipFill>
        <p:spPr>
          <a:xfrm>
            <a:off x="304920" y="2362320"/>
            <a:ext cx="8499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0" t="38098" r="0" b="0"/>
          <a:stretch/>
        </p:blipFill>
        <p:spPr>
          <a:xfrm>
            <a:off x="592200" y="1600200"/>
            <a:ext cx="836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s are generally superior to indexes, because scales take into consideration the intensity with which different items reflects that variable being measur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sconcep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ther the combination of several data items results in a scale almost always depends on the particular sample of observations under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use of specific scaling techniques does not ensure the creation of a sca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5:06Z</dcterms:modified>
  <cp:revision>11</cp:revision>
  <dc:subject/>
  <dc:title>Slide 1</dc:title>
</cp:coreProperties>
</file>