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70A4-3BB3-4DAA-B904-1956158B1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ADB-297D-4175-8E76-56B209B51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DF7-91A7-400A-BD7C-85932776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CCB-A2A7-4A04-9925-0607A2E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F59-CB2B-4256-AD56-1EB7C047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EDE-FBD4-4ED6-9F80-02AFD2E2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F194-46DE-48A4-B73E-14BE6CE7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F963-4135-4E19-8F4B-7E355ACF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9413-4D2F-4815-81C3-C42D5E0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AF48-31D7-4C91-AE87-A13DCC1C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C2A-0F50-481A-B686-5C2A3A5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C6D1-0263-4D18-9607-77A511BD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E6E4-65AA-4453-9128-FB6B0F70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92D-D428-46C6-B557-93B3B00B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CF6E-F306-4E77-B157-9A2E88B0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1B84-7562-4BCC-B28D-508AA7F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567C-8EFA-406C-9385-99BE2D29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2FFB-15AD-48C9-84CF-B96CE83D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26B9-3585-4C8F-B5D8-0F9CE151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41C29-06E4-474B-9D98-222D41CF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4A05E-EC62-4985-AB2B-AA923E8B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741A4-8148-4805-8D07-478D4CD3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C3658-9E55-4EAB-AFE3-15457847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A0EBA-9F95-4DE9-8B96-BD5B3CBE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F81-5F0E-40D1-822E-71D985D5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FF613-D98F-4976-9F45-C1C71E1C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5263D-E837-475A-9842-6EFA477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AA3BC-79EF-48C6-86CA-880F219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49E10-71E2-474D-B391-A91F8D80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FF2D8-2C99-4026-82A2-817D7A68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CD8AF-C5BB-4831-96B4-46969124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56B30-F137-4AD0-BA51-E4512AAE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84EAC-2195-458B-ACD9-6029AFEC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96383-1487-4B10-B434-F5D8744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221DD-5DAC-4FC1-8004-331F996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D73-57CA-4662-922F-DA80E193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FA675-2E42-44D8-82F7-86701E12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E9D85-C043-4241-811A-29BF9110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B8855-9CE0-45F5-A023-FCA5BB4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31845-189A-47C4-AD38-68B5742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24D9E-CDE9-4BE7-B8B6-7E5BF4E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E14BD-06D7-43A7-9477-0991F93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0D90A-8DCA-4FA3-A028-8AAD457B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936A2-0907-47BE-A0F4-C2A8E306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530AC-9EF3-4FC9-9032-734786CF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7DE75-1D11-456D-8F6F-948C3605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D18-2CF4-444A-ADD9-7B7E052A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E369A-22B4-4B14-B616-1B24ED8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022A9-D8EE-4032-A7E0-2AF6C63E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F3513-C5D6-4A5A-9319-D3F0AFF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A4A03-9F36-48B9-80AD-2579215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C772E-5200-4C1C-BA8E-83BC484F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6824B-2EAC-41D5-B7E8-3D33FE3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1FB7D-A045-4630-B35E-54F73BCC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B7443-48E8-4C66-9A17-768DFFD4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20503-3628-49DA-AAB0-7688EA9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3CC54-E8B3-4AC1-8070-DC8864B3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3D6-3F2B-4105-9596-9A16BF0A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29271-0AB5-40BE-A13D-52C983F5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511B5-99BE-40F8-8D93-3A226F39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9A517-C541-4AEA-B3CA-66D13C6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EAD6B-DB5D-4248-867C-A579A8D4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D2A3D-7E75-47B0-97C1-B650F3F2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332CC-FE73-41AA-8669-7FBDAA7B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D154-CDBF-48D2-A659-A223310B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8CA7-B88C-43D7-B4FB-9DC2F61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00DD-868E-4451-8ACA-E0C9690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2EAA-5568-43FF-BDF0-6C7CC3B7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035-A607-4508-8EA3-09FB714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4DD06-4DCC-4239-966E-27AA27D8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253C0-E971-4EBD-BC7B-14380968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6400A-633B-4313-893F-3BA04034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199D0-3BB7-4BBE-A4B3-D46C0009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07F48-B67E-48CD-9707-0EBDBDD8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765E5-04AB-456D-9167-86D2FEC8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2FB1A-61F3-4EC2-AC21-C623CAF2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DC8FE-9113-493D-8A02-6106B903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C1587-84E8-4CBF-B71E-3239C33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C3374-E9DA-46B9-8C59-4B45E98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ACA-7050-4B26-8B02-40F66F09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53CA5-2A1D-45CC-9506-6AC9D1E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D9826-6DC4-4195-946E-FD58603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077F1-C20F-465E-8514-D8B3D934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EA3DC-3D47-4E31-BD9E-19CA4389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24A92-C028-4813-82A9-D0ADF8BA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FCE6E-7B33-4097-99E4-A3D556C5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5BF72-1BBC-46AE-8944-EE54FD16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84F46-F448-40F6-92D6-A150EF5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E6DB-1288-463E-99A5-6B79544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61C6-7EFD-4779-94DD-DC33B036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1AC-3C49-4367-BD18-730BDFC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2187-5B05-48A8-B915-673702DB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11D32-0666-44BC-BA48-9E4B8A9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7A2E-BE0F-4170-91FF-85AF0CB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FC9E7-FD57-403B-B3A7-1964AC7D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994B-FB49-4575-AD6C-AD6323E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1A0BA-F8D2-4205-BD30-839A6AAE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10DB-530E-48E9-A4F0-15280665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1053-69B2-4893-A9C4-5B072E26ACB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A9E5-09EC-49CE-9D5E-69EAE81260F4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C95B-5BF4-4696-9FDB-9A988E89C6AC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6FE-46C9-421A-97E6-84EB569756D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D56F-8303-4515-A3F7-43B934965F5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5491-2D6A-4B14-AF69-647250A8D31F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5491-B927-4289-8612-4EDDC29F3129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771B-C9A8-4E0C-A58D-319DF792499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5, CONCEPTUALIZATION, OPERATIONALIZATION, AND MEASUREMENT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changeability of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several different indicators all represent the same concept, all of them will behave the same way the concept would behave if it were real and could be obser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al, Nominal, and Operational Defini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tion – The process through which concepts are made more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minal definition is one that is simply assigned to a term without any claim that the definition represents a “real” ent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rational definition specifies precisely how a concept will be measured – that is, the operations we will per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Conceptu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World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– Pract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m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Definitions in Descriptive and Explanatory Studi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are more problematic for descriptive research than for explanator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perationalization Choic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is the refinement and specification of abstract concep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is the development of specific research procedures that will result in empirical observations representing those concepts in the real worl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ge of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extent is the research willing to combine attributes in fairly gross categor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tion between the Extre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degree is the operationalization of variables preci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Variables and Attribu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attribute is a characteristic or quality of something (ex: female, old, studen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variable is a logical set of attributes (ex: gender, ag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variable must have two important qual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attributes composing it should be exhaust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tributes must be mutually exclus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 attributes have only the characteristics of exhaustiveness and mutually exclus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gender, religious affiliation, college major, hair color, birthplace, nat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Anything That Exi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in Descriptive and Explanatory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of Measurement 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ith attributes we can logically rank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ocioeconomic status, level of conflict, prejudice, conservativeness, har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for which the actual distance between attributes has mea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, (Fehrenheit) IQ sc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se attributes meet the requirements of a interval measure, and has a true zero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 (Kelvin), age, length of time, number of organizations, number of groups, number of As received in colle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48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ations of 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es require minimum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variables can be treated as multiple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r Multiple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riteria of Measurement Quality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e measures are superior to imprecise 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ion is not the same as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– That quality of measurement method that suggests that the same data would have been collected each time in repeated observations of the same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is not the same as accurac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-Retest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make the same measurement more than onc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lit-Half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ultiple sets of randomly assigned variables should produce the same classific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 of Research Wor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Measuring Anything that Exist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 – Careful, deliberate observations of the real world for the purpose of describing objects and events in terms of the attributes composing th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ity – a term describing a measure that accurately reflects the concept it is intended to meas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e Validity – That quality of an indicator that makes it seem a reasonable measure of some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erion-Related Validity – The degree to which a measure related to some external criter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 Validity – The degree to which a measure relates to other variables as expected within a system of theoretical relation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nt Validity – The degree to which a measure coves the range of meanings included within a concep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11240" y="1828800"/>
            <a:ext cx="903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p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The mental processes whereby fuzzy and imprecise notions are made more specific and precise is calle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ental processes whereby fuzzy and imprecise notions are made more specific and precise is called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examples of nominal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arty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p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party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de point aver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tisfaction with colle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, religious affiliation, political affiliation, and birthplace are examples of nomin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on-relat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In social research, the process of coming to an agreement about what terms mean i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z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ble deter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social research, the process of coming to an agreement about what terms mean is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The _____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change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cification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level of measurement describing a variable whose attributes are rank-ordered and have equal distances between adjacent attributes are _____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level of measurement describing a variable whose attributes are rank-ordered and have equal distances between adjacent attributes are interv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, Concepts, and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ceptuali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judic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ssionat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– The mental process whereby fuzzy and imprecise notions (concepts) are made more specific and prec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s Constru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are constructs derived by mutual agreement from mental im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ions summarize collections of seemingly related observations and experien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ceptualiza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– The process through which we specify what we mean when we use particular terms in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cannot meaningfully answer a question without a working agreement about the meaning of the outcom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processes a specific agreed-on meaning for a concept for the purposes of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cators and 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tor – An observation that we choose to consider as a reflection of a variable we wish to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 – A specifiable aspect of a concep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appropriat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indicato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f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ge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a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ge drin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of cr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33Z</dcterms:modified>
  <cp:revision>13</cp:revision>
  <dc:subject/>
  <dc:title>Slide 1</dc:title>
</cp:coreProperties>
</file>