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5349-6340-44F9-B6D2-28CD2590E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DF2A-9AAF-4F1E-A262-754A80617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984-CB16-4BF2-B971-106030F1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19D-24F5-434F-8859-62407344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C07-7477-443E-A1FD-1EFEC522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8E5-EF6A-459C-A30A-FC24EAF2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9B01-E12C-4727-9430-0789391A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8E77-A293-4341-8FA6-F2AFFDA9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C4A2-47A3-4E15-BA82-7E4F7415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918F-BFAD-4315-85E6-63332B9D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5EFA-979E-4FF6-A94E-DA980CBD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8D5E-C7B2-4FB6-8BBF-2FBE6B3D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8C08-1638-4A54-B1AE-14E7EE6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04B-D50A-41A9-B7BC-8B577CD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438B-CC9E-40B7-AAA7-D8640F74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4370-E751-4221-B7DC-26A5160D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DA2C-75DF-48F1-80CF-C9616B04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42C2-4341-481E-AB7F-BFF9BD9D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A422-634A-4375-BF93-AC0774CA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E506A-3384-4A67-88BC-ECF694DE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5AE88-12DD-4909-BC57-BDFAA0AC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D0562-3A3B-4753-A644-8079B887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9CE08-60B8-4357-BE09-C1E51807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6B805-6C2C-45FB-AEF4-0A774B2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057-A164-4F71-B012-E2A27C56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32306-9C47-4960-B2BE-B056B956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C3F27-7417-44F6-BE80-346E6B3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E8EF8-E403-4683-91AC-F8AACEE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4F19F-E378-40BB-B5EE-F4228813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FA483-2D80-4519-A07C-2F5C118B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510D4-346F-46D4-AD3A-A0DF9789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C2232-F3D3-4687-9F48-892F49BB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D0C84-8289-4EEE-BF51-707C5221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9A51F-6DA9-4724-9040-0E61DB73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78023-B543-40B9-8D4C-CFF65A6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750-D216-4ABA-80EF-56D148C1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DA52C-DBDF-44DA-96BB-F9E69A59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089D1-0B8D-4327-AE3A-4EF0285E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B1287-A1A9-4629-ABC5-5B31AAD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4BBD2-8676-4C4A-94E7-88ECF435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0B375-7695-42F6-9C1D-3734E63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A22E2-64E2-4B4C-A5A2-59B9A40C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1D87B-6540-42DC-B3A4-5A36196A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B2DB7-B192-4974-8E21-1B773D0A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6FA22-1E46-4C6C-A1F8-F7AC3220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A1323-E78C-4539-8D12-A63A6A2A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507-1C71-49DB-9666-C799FED6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C1551-B5BB-49CA-9EE3-CDC6C600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44184-D96F-4519-B8D5-BA7AA8E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E7A3F-4694-4A6B-84D0-EADA6E01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F16A9-C8D0-48AD-9C40-B836EF9C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F3A42-E185-4A6B-9A8D-E5047609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E2CC1-5121-46C5-9BC1-A4434F4C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B1D35-D4D5-4F57-BF6B-B9DACD0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9CD15-DA7E-4F9E-AC04-BB4B0DD5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AFA67-8E7E-4A06-AC2C-A8E06177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99F7A-B167-4B9E-A005-9EFBE750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86A-4F73-44B7-85EC-237A2D4D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CD5C9-B10A-4E23-B7E3-C298F6B9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BD085-9CC2-4CE2-9C27-BF2562D3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1A90F-E88F-4961-952C-AC467FA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7E4F2-7CEE-4253-BE62-569B5F53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63416-D925-4C9E-9002-D0D12EB6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2A4F1-7C74-4AFB-BD8E-BB44D537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BAEB6-2D00-4CDF-BF90-7B8CC580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21D2A-F241-49AE-8393-0C15438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F743E-C741-4B0F-8381-29C0B6FA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C39C2-734E-428D-8560-650D982C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F28-1A34-48A4-B2E0-DE67AAD6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006A9-7935-46AC-97F8-51C9F99F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AE07-F62A-4AAD-8A0C-FC2D798B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17C3-FD3D-449C-A9C7-BF55999B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25AC2-29BB-4D75-AD39-05CEF568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90421-4DB7-4888-9BDC-393C7A37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AD1DE-AE14-4BA0-9297-7726F134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A9344-3917-4570-AAA5-671D75E0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9C52B-2E89-4771-8828-CD558CE8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D72E7-5F75-4561-97BC-C0F7DE9E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42432-CDAC-49E7-93BA-37D13CB9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087-E3A2-47B4-9F97-B862ECE6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63210-9CA8-424C-8F4D-E36C7221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9F899-97D6-4FE6-A092-FB780CA5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EB14A-2EE5-441D-A3F7-B982E704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6B835-0A2A-4560-904A-F11E2BCE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BAB42-70D2-473E-92B6-1D8D19E9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32A44-834C-42FA-A1B9-558C78C3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BAACE-A9A7-4357-8E8D-557F2C89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13863-E9C4-4F0F-80C1-6C48142C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34692-C1A2-44AB-B0FA-44E0B56E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7F0E4-D6A4-48E3-9DEF-1041FFD4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306-74B1-4AF5-9538-F303D93C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5238-CD1C-4F98-9936-7DA90052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8A2A3-A58E-4CB5-BD88-8D513FB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DEA6E-3849-40CF-A2AA-CD0FFAB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41EF7-81AD-48B0-AF73-5E8D3F8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724AD-7BA7-4AD6-9B15-4A83CB74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236F1-7FE4-4D7F-B2C3-6FF05617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40BE0-2A5E-47E9-BA7A-BF32C9A4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45AB-96B3-4262-B9C0-8F55B8E7F30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9239-96AC-4645-84C5-15A27C33680E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860E-05AD-4BEF-9E36-0CDBC01B42C0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476F-A9EF-4E49-BF06-540C40E3F0B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91DB-3DC1-44B9-ADDA-D9E0B3BF126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AEAE-0A92-46E7-925D-43F8539F360C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C2FC-D1D2-4CED-BB7C-2DC0A54A5CEE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DA5D-5B8B-45CC-8734-A8ADDD2E400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5, CONCEPTUALIZATION, OPERATIONALIZATION, AND MEASUREMENT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terchangeability of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several different indicators all represent the same concept, all of them will behave the same way the concept would behave if it were real and could be observ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Real, Nominal, and Operational Defini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tion – The process through which concepts are made more specifi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minal definition is one that is simply assigned to a term without any claim that the definition represents a “real” ent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perational definition specifies precisely how a concept will be measured – that is, the operations we will perfor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ating Conceptual 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ional Defin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 World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– Pract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om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Definitions in Descriptive and Explanatory Studi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are more problematic for descriptive research than for explanator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perationalization Choic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 is the refinement and specification of abstract concept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is the development of specific research procedures that will result in empirical observations representing those concepts in the real worl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ge of Var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extent is the research willing to combine attributes in fairly gross categori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tion between the Extrem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what degree is the operationalization of variables preci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ng Variables and Attribu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attribute is a characteristic or quality of something (ex: female, old, student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variable is a logical set of attributes (ex: gender, ag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ry variable must have two important qual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attributes composing it should be exhaust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05084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tributes must be mutually exclusiv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 attributes have only the characteristics of exhaustiveness and mutually exclus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gender, religious affiliation, college major, hair color, birthplace, nat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Anything That Exis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tions in Descriptive and Explanatory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a of Measurement 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thic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ith attributes we can logically rank ord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socioeconomic status, level of conflict, prejudice, conservativeness, hard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for which the actual distance between attributes has mea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, (Fehrenheit) IQ sc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vels of Measurement – 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bles whose attributes meet the requirements of a interval measure, and has a true zero poi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: temperature (Kelvin), age, length of time, number of organizations, number of groups, number of As received in colle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483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plications of Levels of 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yses require minimum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variables can be treated as multiple levels of 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r Multiple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riteria of Measurement Quality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cision and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e measures are superior to imprecise 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sion is not the same as accur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– That quality of measurement method that suggests that the same data would have been collected each time in repeated observations of the same phenomen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ability is not the same as accurac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-Retest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make the same measurement more than onc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lit-Half Metho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ultiple sets of randomly assigned variables should produce the same classific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blished Meas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ability of Research Work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Measuring Anything that Exist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 – Careful, deliberate observations of the real world for the purpose of describing objects and events in terms of the attributes composing th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idity – a term describing a measure that accurately reflects the concept it is intended to measu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e Validity – That quality of an indicator that makes it seem a reasonable measure of some variab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iterion-Related Validity – The degree to which a measure related to some external criter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 Validity – The degree to which a measure relates to other variables as expected within a system of theoretical relationship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ent Validity – The degree to which a measure coves the range of meanings included within a concep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5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11240" y="1828800"/>
            <a:ext cx="903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is truly possible to measure the stuff of lif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pec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 refer to mental imag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The mental processes whereby fuzzy and imprecise notions are made more specific and precise is called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ental processes whereby fuzzy and imprecise notions are made more specific and precise is called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 following are examples of nominal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litical party affil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rthpl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party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de point avera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tisfaction with colleg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der, religious affiliation, political affiliation, and birthplace are examples of nomin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_____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truc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iterion-relat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 validity is the degree to which a measure covers the range of meanings included within a concep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In social research, the process of coming to an agreement about what terms mean i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iz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riable determin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social research, the process of coming to an agreement about what terms mean is conceptu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The _____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change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tio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pecification of concepts in scientific inquiry depends on nominal and operational defini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8. A level of measurement describing a variable whose attributes are rank-ordered and have equal distances between adjacent attributes are _____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v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m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in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B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level of measurement describing a variable whose attributes are rank-ordered and have equal distances between adjacent attributes are interval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ions, Concepts, and Re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onceptualiz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judic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mpassionate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ualization – The mental process whereby fuzzy and imprecise notions (concepts) are made more specific and preci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s as Constru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are constructs derived by mutual agreement from mental imag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ions summarize collections of seemingly related observations and experien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onceptualiza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– The process through which we specify what we mean when we use particular terms in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cannot meaningfully answer a question without a working agreement about the meaning of the outcome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onceptualization processes a specific agreed-on meaning for a concept for the purposes of research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cators and Dimen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cator – An observation that we choose to consider as a reflection of a variable we wish to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mension – A specifiable aspect of a concep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appropriat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indicator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and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dimension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for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igious affil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ge su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itical a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er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ge drin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ar of cr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4:33Z</dcterms:modified>
  <cp:revision>13</cp:revision>
  <dc:subject/>
  <dc:title>Slide 1</dc:title>
</cp:coreProperties>
</file>