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624B-5A09-4D2A-927D-213255DB36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12E2-B65E-480F-9BF8-39D53CC0C3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1C67-4F11-4793-9CBE-93933BE31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E62D-9883-4DE8-AE96-DADFD13E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9944-418B-4AC8-9EF9-313BEC5F5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EEFF-2DAA-4F67-99A5-5C20A1980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CA6F-A905-4594-AE1B-39DE92538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B891-A26D-4FE3-9261-A955556E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5461-FCF2-446F-B4C5-444B9890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FE81-7AC2-4B23-AD70-D567A752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79B8-2DA3-4FA8-B518-E5AF8A21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E769-29D8-4121-B293-076FEB1B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8DB4-797C-4231-94EF-B4668614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214E-4E8F-4533-96FA-D25274B2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BB22-7D75-4FEB-917D-079A5C9E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C0EF-A686-469C-A6F6-BD42BBE5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9078-7379-45DC-80D2-3A6B3393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888A-98EF-4D9B-BFFD-39C601743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6263-3D90-431F-ABB9-70B4F6BB8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D1AC1E-074C-4C46-8251-A6F35DD7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3558C8-555E-482E-AC34-140AD811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3C5932-4CE8-4BB6-B96F-6F1EA811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92C771-19C4-47E2-A920-05452ECF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C793F5-F9ED-48A0-961C-F0BAA20B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1B37-EEAD-4F26-9358-B401D750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BDA2CB-22EC-414D-A63B-248C59B0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9E2E0C-BF67-46D5-9DC7-C746F7B5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062E02-CD0A-46D7-A0B6-96775897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DEAE1F-ED09-4939-8D9C-4383FAEE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9A5102-53D6-4775-B614-DA8E37E0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20FE72-04D8-47DB-A0D9-63FF533E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D572FA-EDAA-4F31-81E2-7ABB4076B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EEF69B-CFFB-4B76-8122-41DB8B2C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3CB740-E508-4BB8-9B42-414E4221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7D1432-0A40-41A5-95DF-2AC48A90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6D5B-C0C1-4F5B-9278-D65C5343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E1BDE9-31F3-4F15-B681-D0F1FD04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0135B0-BE85-452F-8598-EBE7D225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72A795-4BF4-4A47-91E1-36FBD96E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C71688-3985-4BC7-8F4F-2D45AEF7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D62DAB-2E61-4ED9-9092-6CF3225B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4D6FBE-4ADA-43B9-A705-7BE251F8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FBB741-6F5E-4584-90C0-A8ACCCBD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2070A5-2832-4A4A-8686-DFA6CBBDC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D57AE4-AACF-48BF-870C-662BC406E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FB3A4B-1C03-4D5B-A767-91ECF72E4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2650-A60A-47DD-A294-A21412BE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87FD48-136B-4398-973F-B271F483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8CAEC6-E194-40A9-87E1-5F8347CC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6269DC-C07F-407C-9E33-75DB24E9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AE8428-1037-4357-8BEF-8C213251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63F158-A54A-43FA-9058-79B732F8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B892D3-CB4D-4EB3-9543-F4A9CD2D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02A52E-9734-499B-8FDA-4F1DB648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A6D466-5E1C-4195-9E61-80245668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799C3C-130C-42F6-A996-F06A7DB7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E93324-3854-47CD-AD01-8E8345B24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DDB0-56D2-45CB-89BB-F1A9AC47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4646F1-2A27-458F-9E43-262F10EB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10800-176C-427D-8983-EE205ECF8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E07C5-BD99-4944-905E-85C9D4DF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FA3D2-5E8B-4083-A386-D8B1AF13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9CF1A-5938-4160-B0EF-1D662861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52437-C559-4A8E-BC81-5CD351DF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A4675-C716-45BB-BCFE-FEDA665E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97E2A-4874-4F8A-8D9D-BAE35024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B4FEA-58BE-4DD3-A173-D0F2471C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00E88-F86C-4D54-8C99-E52BE25D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E81C-8E5D-4F6D-A33E-3D7310A5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591E6-27E8-4FFF-9D34-75697607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D3B72-2AC6-4C88-B28D-A9D0A502F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FE0CB-2C99-4C08-8578-EB10A4727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3DCF7C-6FC0-4421-8902-4403005B4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796C8B-FC85-4F09-8C08-9EEA08C1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8A56F2-3F4C-4BF1-8F38-D0D89958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33AE02-AFAB-481F-BE93-517F0DD7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E86DE2-C16E-4907-9D15-C0A54A96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9B0077-81BA-48F6-AE3D-F8E9E7F5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F373B1-4B95-459D-88E9-1800C993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9923-789D-4E12-BAAC-3DB90E50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64ECDE-3B1C-47CB-AAD8-294FF02A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299F7E-715A-456C-99E5-D6263579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78E954-FFFE-4572-A304-0FD238D2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4E2DC9-CBD1-42F1-A2BB-AE56F638D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487CDC-B5A4-4B67-B93C-CDAF36BE4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8DD3E-3C82-4AC5-B469-B03A7DCDE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CAFE0-4463-4AD9-B259-33EF487E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2DC1B-DBD7-4D42-9A34-D788DA11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5BA85-DA83-4938-ACA7-198DC5BB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4FA96-1176-473D-825C-71714228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ADA7-7DE0-46A2-9B2E-804F067A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22AFC-CE37-4499-9A26-66591C85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82B40-A115-4133-BAEA-12FA1B5F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8EDF3-6C8E-4FC8-9D36-381AAAFB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5DF69-C8AD-4E69-81AD-CB7863B8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06EBF-26EF-4356-B70E-560FBC3E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7903B-606D-41BE-9DAC-34FE69405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29209-38A5-44A3-A6F2-7173E360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A30D-B146-4604-84E9-B97892E4AE31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C3AF-BC99-4E76-9A10-5FF9602FC300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9882-8622-4F3D-AD74-791E521A2BE2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3275-05EE-48E2-8CD6-2B34DB4F4F5F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8B1B-6FF3-4C74-85EF-5723FCB84264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9A89-33EB-4456-94D9-DC6412A0A92D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18E0-EC2E-40AE-8B9B-26D4A8DE6BBC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B365-A001-444D-8983-9192D57A353E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4d4d6"/>
                </a:solidFill>
                <a:latin typeface="Verdana"/>
              </a:rPr>
              <a:t>CHAPTER 5, CONCEPTUALIZATION, OPERATIONALIZATION, AND MEASUREMENT</a:t>
            </a:r>
            <a:endParaRPr b="0" lang="en-US" sz="40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Interchangeability of Indicato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several different indicators all represent the same concept, all of them will behave the same way the concept would behave if it were real and could be observ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Real, Nominal, and Operational Definition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fication – The process through which concepts are made more specifi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nominal definition is one that is simply assigned to a term without any claim that the definition represents a “real” entit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perational definition specifies precisely how a concept will be measured – that is, the operations we will perfor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reating Conceptual Ord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eptual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minal Defini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perational Defini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al World 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ualization – Practi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omi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Definitions in Descriptive and Explanatory Studies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finitions are more problematic for descriptive research than for explanatory researc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Operationalization Choice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ualization is the refinement and specification of abstract concept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ionalization is the development of specific research procedures that will result in empirical observations representing those concepts in the real worl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ange of Vari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what extent is the research willing to combine attributes in fairly gross categori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ariation between the Extrem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what degree is the operationalization of variables precis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mens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fining Variables and Attribut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attribute is a characteristic or quality of something (ex: female, old, student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variable is a logical set of attributes (ex: gender, age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ery variable must have two important qual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attributes composing it should be exhaustiv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ttributes must be mutually exclusiv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vels of Measur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min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rdin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rv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t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vels of Measurement – Nomin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riables who attributes have only the characteristics of exhaustiveness and mutually exclusivenes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: gender, religious affiliation, college major, hair color, birthplace, nationa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asuring Anything That Exis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ualiz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finitions in Descriptive and Explanatory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ionalization Cho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riteria of Measurement Qua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Ethics of Measur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vels of Measurement – Ordin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riables with attributes we can logically rank ord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: socioeconomic status, level of conflict, prejudice, conservativeness, hardn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vels of Measurement – Interv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riables for which the actual distance between attributes has mea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: temperature, (Fehrenheit) IQ sco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vels of Measurement – Rati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riables whose attributes meet the requirements of a interval measure, and has a true zero poi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: temperature (Kelvin), age, length of time, number of organizations, number of groups, number of As received in colle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5.1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64836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mplications of Levels of Measur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alyses require minimum levels of 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me variables can be treated as multiple levels of 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ngle or Multiple Indicato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Criteria of Measurement Quality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cision and Accur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iabi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alid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cision and Accur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se measures are superior to imprecise on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sion is not the same as accurac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iability – That quality of measurement method that suggests that the same data would have been collected each time in repeated observations of the same phenomen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iability is not the same as accurac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-Retest Metho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o make the same measurement more than onc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lit-Half Metho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ultiple sets of randomly assigned variables should produce the same classification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ablished Measu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liability of Research Work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Measuring Anything that Exists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asurement – Careful, deliberate observations of the real world for the purpose of describing objects and events in terms of the attributes composing the variab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lidity – a term describing a measure that accurately reflects the concept it is intended to measur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ace Validity – That quality of an indicator that makes it seem a reasonable measure of some variab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riterion-Related Validity – The degree to which a measure related to some external criter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truct Validity – The degree to which a measure relates to other variables as expected within a system of theoretical relationship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ent Validity – The degree to which a measure coves the range of meanings included within a concep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5.2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111240" y="1828800"/>
            <a:ext cx="9032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It is truly possible to measure the stuff of lif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ru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l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t is truly possible to measure the stuff of lif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_____ refer to mental imag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erspectiv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or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thod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ions refer to mental imag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The mental processes whereby fuzzy and imprecise notions are made more specific and precise is called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stru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ific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ualiz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ionaliz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mental processes whereby fuzzy and imprecise notions are made more specific and precise is called conceptualiz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Which of the following are examples of nominal measur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end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igious affili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litical party affili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irthpla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would you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litical party affiliatio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ade point averag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atisfaction with colleg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ligious affiliatio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ender, religious affiliation, political affiliation, and birthplace are examples of nominal measur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 _____ is the degree to which a measure covers the range of meanings included within a concep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struct valid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riterion-related valid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ce valid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tent valid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tent validity is the degree to which a measure covers the range of meanings included within a concep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. In social research, the process of coming to an agreement about what terms mean i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ypothesizing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ualiz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ariable determin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ionaliz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social research, the process of coming to an agreement about what terms mean is conceptualiz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. The _____ of concepts in scientific inquiry depends on nominal and operational definitio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ecific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erchangeabi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unction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twor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specification of concepts in scientific inquiry depends on nominal and operational definitio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8. A level of measurement describing a variable whose attributes are rank-ordered and have equal distances between adjacent attributes are _____ measur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ati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erv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min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rdin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level of measurement describing a variable whose attributes are rank-ordered and have equal distances between adjacent attributes are interval measur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ions, Concepts, and Rea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 would you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conceptualiz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ejudice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mpassionate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eptualization – The mental process whereby fuzzy and imprecise notions (concepts) are made more specific and precis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s as Constru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epts are constructs derived by mutual agreement from mental imag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eptions summarize collections of seemingly related observations and experien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onceptualization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onceptualization – The process through which we specify what we mean when we use particular terms in research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We cannot meaningfully answer a question without a working agreement about the meaning of the outcome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onceptualization processes a specific agreed-on meaning for a concept for the purposes of research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icators and Dimens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icator – An observation that we choose to consider as a reflection of a variable we wish to stud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mension – A specifiable aspect of a concep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dentify appropriate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indicators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and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dimensions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for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ligious affili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ge su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litical activ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ver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ge drink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ear of cr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4:33Z</dcterms:modified>
  <cp:revision>13</cp:revision>
  <dc:subject/>
  <dc:title>Slide 1</dc:title>
</cp:coreProperties>
</file>