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0A0E-DBFF-4C46-937A-C66B702AE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7523-439D-4E16-B685-79F82A8FD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9CA-1A3F-4C96-8A72-504F2BA5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F8B-C1DC-4BDC-9D34-A564E11E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E07-E421-42CB-878D-8D4274DF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DB1-E2EF-4068-8679-DB2D8DB7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4C97-0572-4D06-B923-458D1E40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8EFB-77C2-4DF0-8313-E933DD95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BEE8-9B05-4EDC-AFDF-37499F9A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CCD1-1DF6-44E6-B631-D2A4F6EC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4B03-0763-4145-83E4-BAD1D27A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8968-8DBD-4872-8B46-25F52D60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04EB-5E28-4FDF-A3E9-5269F74B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5C4-EEB0-460E-AB96-95E31F0B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6151-0E9B-47AF-8E58-54C4E7CB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7959-EDB5-4773-8C6D-7E959717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35C6-0653-45E0-A9AA-25538246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0A44-5E09-48BB-995B-545B13BC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3FDF-B768-42B9-99E0-50CF80CC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B19F1-4FDF-4132-B617-B4A06278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51616-88AB-401D-9430-2217A81E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4EFB4-4278-40CD-817A-B83E5B73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2D9EB-A2E6-4F70-BC3E-5D43516C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BE485-9493-4A00-93E8-26F210B9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AF63-E152-4332-BFB4-9DCE6B66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6144B-9DEF-4A97-BC83-35973B03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4A7C3-D38C-4322-9139-1A88424C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15EA5-3779-4D8D-84B6-D20FEA97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AF64D-CF83-4626-A21A-0E686E59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98087-C392-4D03-8E05-1EC18F9A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7F9E7-A285-4B9E-8B44-152FA36B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39BF5-F549-4B01-80D8-D9F53563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4F8997-4939-4F96-A0A6-A296B5C5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0FB70-7E17-4538-80FE-87A18DBE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17E4F-0004-497E-995D-F614AEA1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583-43F7-4279-9484-88475FE5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0479A5-E1EF-43BF-A2C6-05E4E913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4F0AFE-4333-4DBA-A563-10BDBF30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78B555-B387-49BC-A656-5BFF29D0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4AB2B7-E5A4-407B-BEFB-99612101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54C51B-C240-4128-9859-37693896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E63CED-8A8C-45C5-82B3-7D354954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92290-BD6F-42C5-B057-6BAAEBD7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1C4D0D-5EC4-47CC-B21E-3290F825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A4B8CF-9EE9-457B-AAD5-07CCF193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CCA26-FD84-4A98-AE51-7A3DB651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FCC7-9FF8-4059-BA7A-EEAF2C4B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7EF697-7B1D-4BAB-B70E-420CA371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00214-D9DF-4944-BE23-E93936DA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C4358-85FC-489F-A94A-BF507E65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F1A95-68B4-4BC5-89AB-B6C3544F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3A4137-C298-4D6D-8502-FB49CE4F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F8373-323E-414F-B4E0-E22A9019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2FF13-A7BD-4EB0-8CB7-DAEA5345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7DBA27-29EC-48EE-A827-4A275F67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EB7BC5-DC55-4C96-9540-6A26F424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43538-48E1-45CD-9A98-60B78EC1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587-CC90-4C27-8F0F-8EFDE4A0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D30C90-3DF2-4880-AF8D-930D906B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7B6BB-2AAF-40D7-9D32-FB671F0E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F88F1-F940-46B5-A32F-FC8FC936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865CA-8064-4275-985E-EC8A2E6F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A28D9-3DAE-4F76-B885-E5EC0462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EB9DE-FDC8-43EB-AA78-1335ABB7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1819B-FE4B-4BFC-A57E-8B368860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5260D-E98C-4049-8028-F6C2FBD4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883E7-EFE6-4801-95E6-60D9D902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B3393-B52C-4841-A31B-FB7C6906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1F1-F23D-4FC8-A5D0-5B19D1D1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EDFCD-59CD-4E05-8FE9-5B87385D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A7DDE-941F-4546-A359-72636B5D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4EE91-FDE1-49C5-8DA1-92D4B0D1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D340A4-7FC1-4A62-B46A-432C5F9A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AEE154-DBC5-4241-A27E-51B8AEE1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2B8016-A834-4287-93D0-EA213385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4C147B-9F90-4173-9B72-202E0BAB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06B701-8C29-4EBB-9C03-D20D3B6B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74AC0-A49D-438B-8F2F-50558524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6C6E7B-D8A5-487C-BA8E-F4C2B2AF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776-4624-4E1B-907C-716F3E51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133658-6CB5-4E74-A735-AA69D736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C836E0-51E9-47D6-A15C-322D1249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A859F6-927B-41F4-95F2-A7581335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30427E-E78F-4C1E-AFA2-D06C5204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715AB-104B-42EA-BC5D-A4A81778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A05C4-000D-48DC-8AB8-043ED4B5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DE367-6FC0-47A4-8DCC-BC5FC8E6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3E19F-B6AA-4051-B2C2-5E154A75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1CC79-BB1C-4CA6-B539-F5899446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3494A-4D7D-4D23-A65B-4FEC4190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13C-A268-41D2-9FA4-9615F8AB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D1F8C-4CEA-4221-8BF1-2177F07D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2CE6B-03E2-4F43-9940-FFF9974C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83BB5-4DB9-429E-8318-458F2936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940B9-DCAA-4842-904A-FAFD8C48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C60A7-D848-4470-870E-0780231C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9C21B-26ED-453A-9997-BC30558F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8E5F6-566B-484B-8C3C-B90257D9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9EC1-3EA7-4326-96DE-67EBB992EB2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20A4-2538-4783-96FC-71B271F9BD4F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837C-154E-433B-B95F-17EA65A83DD3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675C-9FCD-49B1-A242-2321F952F0C1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AA14-335D-40B1-A1C9-9231EDE1F1AD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8C3C-393B-4D3E-B378-F7F8FC15E66D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8E29-D52A-436F-99FD-D4042C3F9317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F044-4F08-4CAF-9FE8-B0BBF9655B41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5, CONCEPTUALIZATION, OPERATIONALIZATION, AND MEASUREMENT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terchangeability of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several different indicators all represent the same concept, all of them will behave the same way the concept would behave if it were real and could be observ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Real, Nominal, and Operational Definition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ation – The process through which concepts are made more specifi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ominal definition is one that is simply assigned to a term without any claim that the definition represents a “real” ent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perational definition specifies precisely how a concept will be measured – that is, the operations we will perfor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eating Conceptual Or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minal Defin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tional Defin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l World 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 – Pract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omi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Definitions in Descriptive and Explanatory Studi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tions are more problematic for descriptive research than for explanatory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Operationalization Choice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 is the refinement and specification of abstract concep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 is the development of specific research procedures that will result in empirical observations representing those concepts in the real worl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nge of Var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what extent is the research willing to combine attributes in fairly gross categori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riation between the Extre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what degree is the operationalization of variables preci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mens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ng Variables and Attribu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attribute is a characteristic or quality of something (ex: female, old, studen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variable is a logical set of attributes (ex: gender, age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ery variable must have two important qual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attributes composing it should be exhaustiv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tributes must be mutually exclusiv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mi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di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Nom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who attributes have only the characteristics of exhaustiveness and mutually exclusiven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gender, religious affiliation, college major, hair color, birthplace, nation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ing Anything That Exis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tions in Descriptive and Explanatory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iteria of Measurement Qu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Ord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with attributes we can logically rank ord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socioeconomic status, level of conflict, prejudice, conservativeness, hardn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Interv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for which the actual distance between attributes has mea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temperature, (Fehrenheit) IQ sc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Rat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whose attributes meet the requirements of a interval measure, and has a true zero poi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temperature (Kelvin), age, length of time, number of organizations, number of groups, number of As received in colle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5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483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lications of Level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alyses require minimum levels of 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me variables can be treated as multiple levels of 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ngle or Multiple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riteria of Measurement Quality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cision and Accur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cision and Accur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se measures are superior to imprecise 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sion is not the same as accura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 – That quality of measurement method that suggests that the same data would have been collected each time in repeated observations of the same phenomen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 is not the same as accurac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-Retest Metho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o make the same measurement more than onc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lit-Half Metho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ultiple sets of randomly assigned variables should produce the same classifica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ablished Meas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ability of Research Work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Measuring Anything that Exist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ement – Careful, deliberate observations of the real world for the purpose of describing objects and events in terms of the attributes composing th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lidity – a term describing a measure that accurately reflects the concept it is intended to measu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ce Validity – That quality of an indicator that makes it seem a reasonable measure of some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iterion-Related Validity – The degree to which a measure related to some external criter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 Validity – The degree to which a measure relates to other variables as expected within a system of theoretical relationship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ent Validity – The degree to which a measure coves the range of meanings included within a concep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5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111240" y="1828800"/>
            <a:ext cx="903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It is truly possible to measure the stuff of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 is truly possible to measure the stuff of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refer to mental imag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pectiv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ions refer to mental imag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The mental processes whereby fuzzy and imprecise notions are made more specific and precise is called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tr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ental processes whereby fuzzy and imprecise notions are made more specific and precise is called conceptu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 following are examples of nominal measur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gious affil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itical party affil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irthpl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would you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itical party affilia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ade point avera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tisfaction with colle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gious affilia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der, religious affiliation, political affiliation, and birthplace are examples of nominal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_____ is the degree to which a measure covers the range of meanings included within a concep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truct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iterion-related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ce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validity is the degree to which a measure covers the range of meanings included within a concep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In social research, the process of coming to an agreement about what terms mean i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othesizin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riable determi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social research, the process of coming to an agreement about what terms mean is conceptu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The _____ of concepts in scientific inquiry depends on nominal and operational defini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change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unctio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twor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pecification of concepts in scientific inquiry depends on nominal and operational defini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 A level of measurement describing a variable whose attributes are rank-ordered and have equal distances between adjacent attributes are _____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v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d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level of measurement describing a variable whose attributes are rank-ordered and have equal distances between adjacent attributes are interval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ions, Concepts, and Re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would you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onceptualiz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ejudice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mpassionate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ualization – The mental process whereby fuzzy and imprecise notions (concepts) are made more specific and preci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s as Constru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s are constructs derived by mutual agreement from mental imag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ions summarize collections of seemingly related observations and experien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onceptualiza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ceptualization – The process through which we specify what we mean when we use particular terms in research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e cannot meaningfully answer a question without a working agreement about the meaning of the outcom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ceptualization processes a specific agreed-on meaning for a concept for the purposes of research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cators and Dimens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cator – An observation that we choose to consider as a reflection of a variable we wish to stud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mension – A specifiable aspect of a concep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appropriate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indicator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and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dimension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for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gious affili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ge su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itical a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ver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ge drin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ar of cr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4:33Z</dcterms:modified>
  <cp:revision>13</cp:revision>
  <dc:subject/>
  <dc:title>Slide 1</dc:title>
</cp:coreProperties>
</file>