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0CC7-3586-4C63-85EF-23DA42A0D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DDA2-06E8-4D50-840B-157784932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742D-F755-4412-9F8B-3911A065E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251-714B-49E3-A740-0961A5D9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169-6E09-4BE7-9380-66D78FE1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AE7-7D98-411A-9859-99871DBB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3C64-9FA6-447C-9A39-45A0AE27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7CBD-9ED7-44E3-9415-331B89C9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540D-22B0-49DE-8059-6A3159D2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FCB6-C5AC-445D-8244-FA82E624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66DC-51C8-4D9D-9B55-045A49F6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90FA-0A98-47A6-9EF1-E0E81F5C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9120-F150-4612-B4B3-A993E6A4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597D-257E-4D34-A9FF-730CA9F1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A37-97E1-42FC-93C1-0E345800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4235-D669-4C14-9CB6-2FEE5A04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1CD1-6917-4453-9919-B662B537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EABE-2228-4711-94D2-19195748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9733-52DF-4197-B22E-FC23A943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8683-A693-4809-AE10-3F452CE6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DF899-84F1-426C-ADF6-879D4257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67BF0-C0F8-4125-B7C6-19342A1A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6D4AF-541E-43E0-ADC8-8DA8F4DE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1DD28-8E25-4BF7-A57D-530FE161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EEE39-7B16-4E95-BEA8-AD915C66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F5B-629B-4292-8478-F222167E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AE676-A56F-452A-A7CF-7F833792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22D98-3CC7-45D4-B91E-F8AD158B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634F2-EB41-4224-8BCA-0484331A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0EF4A-583F-4F97-8B9F-7DEA1201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AEF65-A4B3-4B63-9A9B-D4334EEE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E0964-8A9A-4860-BBEF-BE252529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5E5C6-0372-4F27-8F03-85F0EF15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21B778-BD34-48D8-BCBD-BB456F66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4FD0A4-86FF-4D51-A903-B9E4764E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C548BF-2380-4E88-A779-91E1EF5C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E16-A9AD-4A1C-AF2D-12972BC5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E986A6-8A07-4826-BF3E-BC9F8782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E60E9C-8031-4425-8D4F-6C72DD89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461AC7-ADE9-44AE-9FF5-E09E2130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6F158C-BEFE-4C06-977C-F061716F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11AF0-21A3-410A-8C7D-C0295CF5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E7B7D-3EA5-4488-BD76-25923182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CB523C-AAAB-4107-AD05-C4F79BE5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8509E0-91D6-445B-95B7-EEC7ACA2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20942-F6CF-4342-848B-AF57C860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E85BA-0386-42F5-8E0C-53CF90FF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212-AA61-4ADF-8ADD-9D757F28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4380F-DEC2-4E1B-8034-A323099B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BE0EE-258C-4B07-9DCD-092BF143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53371B-EDD7-44BA-B7C3-9D288844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C55E6-8431-487D-B8B8-51B2677F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EF2E1-224F-4648-9C05-D29D882F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8BEA2-05AB-4439-A096-310CC1BB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85D65-AAF8-4D82-A0AF-78E84CDE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80B226-6FA4-4ECA-BBFE-40134CFE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A0D7D-8C40-43D5-A959-A33AC4AA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15D7BE-2ABC-4B99-B865-10E561C6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7DC-566A-457E-88AA-941E9AAD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0967C-34C7-4C6C-BB7E-516C6D1C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7D27A-A78E-4B1A-82AC-8237CC38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4568F-D3BC-446E-8AFC-4B38A365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EE9FE-7B06-460F-85A1-44012945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A0B67-B122-46B9-AF4F-1CF87D7B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7CB7D-8282-435D-93DC-1038B894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14140-3E7B-4C23-A939-FBAE02CC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E2B4D-73CC-48B6-ADFB-901F4AD4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D4C70-21D7-4845-A681-B502CFDC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152CA-5908-4DB2-9103-9EBF23DC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905-760A-43EB-80BE-74869275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59732-4BAB-4D93-82CA-ACD23D70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7DEF2-63B6-4827-B947-66300785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841EE-700D-4088-91A0-30F2EAC3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661F6-7190-47C8-AAA9-CD3218B3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3894E-0E8A-4BE4-8D2E-102B8E9B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2B6D8D-0D61-4495-91F2-06E02A9F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BFC959-A6E9-4B09-839C-D6F76978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10DF77-B1E1-4854-A1B2-4801E525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D8EAB-39B2-42DE-918F-F15C87A9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840B21-637D-439D-9EEA-1ED1DD14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598-5F7D-40DF-B96E-A913D18F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9DCA1-31FA-4928-88AD-D25F6013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4FE4FE-00A8-4BFF-B008-E99E6F04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B200EB-071A-4BF4-99CC-658CDCC7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6D0552-E869-45D6-BEF5-32E4D316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C84CD3-2D16-4AB3-A522-3104697A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3DD99-1C52-4174-ADB5-3C38BBCB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F94BE-C2CC-4E3B-8511-A29194B2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0F170-BD9E-432C-8FF5-6BC43B6D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D37A9-51D7-4BA0-880C-29D2B720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D73E1-9095-49B7-902E-9199A8B7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DCA-135F-42CF-A8B6-0E7C6401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8F9B3-667C-4508-893C-42F7F053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3E8D7-A70F-48DE-9BBF-19782892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B888F-D699-47B8-8987-C87075B2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EB0EA-2A40-4DA8-B959-64DDE9B3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0A1C7-2F13-480E-8024-021BE9E8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1628F-4A19-4166-8B05-C63217C0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DF640-6663-4145-B398-30A0912D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E51A-DE64-4849-833E-FADD9078A29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9DB3-DEAB-4C26-B90C-9FEBC4B1BC6E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A34D-C799-4A4B-959A-36C4FA9BCD13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8FB6-F854-4319-937D-E12EC0306F36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B483-0EE1-4D30-9DC3-A49314853B9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AD74-3644-45A9-83C6-AA91DCCD1367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1C51-F8ED-4346-9D2E-FCDB97B6826A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CF2E-8F54-4437-9C0F-D84EE9A0410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4, RESEARCH DESIGN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Causal Analysis and Hypothesis Tes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ypotheses are not required in nomothetic researc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est a hypothesi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variables you think are relat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measurement of variab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ypothesize correlation, strength of relationship, statistical significan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fy tests for spuriousnes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 Criteria for Nomothetic Caus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lete Caus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ceptional Ca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jority of Ca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Necessary and Sufficient Caus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necessary cause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represents a condition that must be present for the effect to follow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sufficient cause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represents a condition that, if present, guarantees the effect in ques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ost satisfying outcomes in research include both necessary and sufficient caus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52280" y="1616040"/>
            <a:ext cx="8763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577880" y="1600200"/>
            <a:ext cx="6042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Units of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 versus 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common unit of analysis for social re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ents, voters, parents, children, Cathol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ng members, families, married couples, friendship grou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porations, social organizations, colle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ephone calls, dances, online chat rooms, figh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3657600" y="814320"/>
            <a:ext cx="52578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cial Artifact – any product of social beings or their behavi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ree Purposes of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Logic of 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cessary and Sufficient Cau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its of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ime Dimen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to Design a Research Proj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esearch Propos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Research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aulty Reasoning about Units of Analysi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cological Fallacy – erroneously drawing conclusions about individuals solely from the observations of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tionism – a strict limitation (reduction) of the kinds of concepts to be considered relevant to the phenomenon under stud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ciobiology – a paradigm based in the view that social behavior can be explained solely in terms of genetic characteristics and behavi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e Time Dimens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oss-Sectional Study – A study based on observations representing a single point in time, a cross section of a popu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ngitudinal Study – A study design involving the collection of data at different points in tim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nd Study – A study in which a given characteristic of some population is monitored over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hort Study – A study in which some specific subpopulation, or cohort, is studied over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nel Study – A study in which data are collected from the same set of people at several points in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876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mparing Types of Longitudinal Studies, Example: Religious Affili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nd Study – looks at shifts in religious affiliation over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hort Study – follows shifts in religious affiliation among those born during the Depres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nel Study – follows the shifts in religious affiliation among a specific group of people over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roximating 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earchers can draw approximate conclusions about longitudinal processes even when cross-sectional data are avail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mply processes over tim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ke logical inferenc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sk individuals to recall past behavi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hort analysi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 of Research Strate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oration, Description, or Explan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rces of dat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t of analysi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mensions of time releva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How to Design a Research Project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6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3809880" y="779400"/>
            <a:ext cx="495324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efine the purpose of your project – exploratory, descriptive, or explanatory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pecify the meanings of each concept you want to study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lect a research method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etermine how you will measure the result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ree Purposes of Research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satisfy the researcher’s curiosity and desire for better understa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test the feasibility of undertaking a more extensive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develop the methods to be employed in any subsequent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e whom or what to 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llect empiric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 th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yze th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your find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he Research Proposal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lements of a Research Propos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lem or Objec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terature Re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jects for Stu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Collection Meth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d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itutional Review Boar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Ethics of Research Desig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Social researchers tend to choose _____ as their units of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inter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artifa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vidu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grega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cial researchers tend to choose individuals as their units of analysi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Scientific inquiry comes down 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ing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preting what you have observ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ientific inquiry comes down to making observation and interpreting what you have observ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A _____ is an empirical relationship between two variables such that changes in one are associated with changes in the 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gression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urious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correlation is an empirical relationship between two variables such that changes in one are associated with changes in the oth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e situations and events through scientific observ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Which of these are among the purposes of resear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oration, description, and explanation are all among the purposes of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5. What do social researchers means when they say  there is a causal relationship between education and racial tolerance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re is a statistical correlation between the two variabl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 person’s educational level occurred before their current level of toleranc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re is no third variable that can explain away the observed correlation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ll of these choic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none of the these choic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social researchers say there is a casual relationship between education and racial tolerance they mean: there is a statistical correlation between the two variables, a person’s educational level occurred before their current level of tolerance, and there is no third variable that can explain away the observed corre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A _____ is probabilistic and usually incomple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othetic 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urious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nomothetic explanation is probabilistic and usually incomple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A _____ represents a condition that, if present, guarantees the effect in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fficient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ctical iss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cessary cau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pendent var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sufficient cause represents a condition that, if present, guarantees the effect in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ptive studies answer questions of what, where, when, and ho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anatory studies answer questions of wh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89120" indent="-51444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he Logic of Nomothetic Explanation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oal: to find a few factors that can account for many of the variations in a given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Example: Legalization of Marijuana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diographic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6bb76d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mothetic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formation from parents, teachers, cler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vious experien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ori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a for Nomothetic Caus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ariables must be correl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rrelation – An empirical relationship between two variables such that changes in one are associated with changes in the other, or particular attributes in one are associated with particular attributes in the ot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ause takes place before the effe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ariables are nonspurio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urious Relationship – A coincidental statistical correlation between two variables shown to be caused by some third varia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4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3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4:09Z</dcterms:modified>
  <cp:revision>12</cp:revision>
  <dc:subject/>
  <dc:title>Slide 1</dc:title>
</cp:coreProperties>
</file>