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DC9-0372-4EE0-9C2B-BC01F21F2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30BC-B65F-4067-BBF1-65707AA45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BBAD-5C3E-4801-B661-6B4340415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F60-36DF-4193-A91E-C69085F4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765-AD43-4B05-B2DF-B161E211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2DF-54D6-4285-82E3-139E5AD2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923-0E34-443F-8934-3BF6B7D2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9C3-005A-46B3-AC6D-8F44D139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7773-D6DC-428F-9F15-EA5AF43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410-F5C5-4586-B123-DF6153D4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4CD5-ECCB-4C0A-9767-88727F5E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DD8C-6D72-4EFB-89EC-1CE4FECC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D3C0-7F11-47D4-9B32-3E0DC4FD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13F3-D13D-428A-992E-255C10F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FAB-98D2-4F27-95C5-38A39AF1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7715-CBB3-4693-9C78-4D14872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4C4D-6519-4084-9F73-6FAE3ECB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9C01-DCBA-4730-A18E-E090647A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2A2F-A926-43B6-A9DC-F1CB894C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DEA1-ADB1-4A3B-B477-513DC30D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F6670-615D-4870-BBEE-4FCC637F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027BF-D307-4D5D-B632-57DD7F7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85028-5EEA-4F2D-AAA5-C6B37A8D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56E2D-808C-4229-8624-C8449C08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E8BE9-156B-45B5-BA80-4C724300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74D-E722-496D-8BFB-2EAE865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9EF14-3FA8-4F76-93CB-E5F2F864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E1224-A61B-4FEF-81B9-C695CD21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0ED3F-D4C3-4570-968C-8D3D3BC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4FA8B-8966-43C6-9C2C-B3B1A63E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36A8C-5595-42F5-984D-83368E84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3EBF1-803D-40D8-A8E7-D1707C36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285E8-7E6B-4CD3-8563-B323CD0E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F9AE8-2237-4DC0-A829-B48B3B6D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998D6-9462-4974-9034-BAFC1BA0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0A52E-BB67-4234-8315-DC984B5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291-A869-4CF5-9728-9A5D69A2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BF925-0EC5-4B1F-BCF4-04490928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76D9A-4D20-4A95-9A9B-2CB34A26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D1CC6-BBF0-4897-AC72-3E6DB064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ED7E5-9A3F-4A75-BF53-767C5EA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52CF9-4363-4166-AAF0-D27E2DF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463A4-679A-4464-AB7E-DBA20F64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4E284-87FD-40F8-A0A6-D289224A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B6A4A-47C4-4223-9514-26E8FD80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A50D6-53D0-46F6-8FE1-9C1AC6BC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CADFB-C9C2-4AE4-9A3E-DF6B9371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891-53D3-4F11-AAD8-33905C04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D9DDE-22C3-4565-A3B8-C13BE5D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C678C-072B-42D1-87AF-6853F2E4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8E20A-D626-4D4A-9605-4F7D1C35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6F2B8-0222-4A19-B7F0-EE03D5D7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6D898-EA0B-43B1-9556-A2579A0D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ABD81-23B4-4360-9FFA-1BD8E554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06417-75D1-4537-B717-B449CC2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A0E5C-637B-4D10-8574-DC2A4C8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E26F8-3B28-4CFF-B0C4-C3B1DA3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9FBC7-AA6D-4132-8D40-BD1CA4F3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494-7516-4F25-88BC-69EAF88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27A7A-8FB3-4B95-A265-FE8A2585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B4C7D-A84D-475C-9929-8992A2B9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88F77-72CA-477A-92DE-0534DB61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C5069-C78A-4316-876A-7F3A911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537C-2476-443B-9E48-843611DC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6194-859B-4859-ABE7-31DB34B7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A4CC0-9E3E-4F88-9536-F5E9142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C0BF-EBD9-4F28-9174-CD01A6D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60F67-992A-496A-AB79-6571508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C6A72-9A6D-4516-9E0E-E8D3670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4D6-2A23-4050-B9EE-436DE6D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849F7-1818-4FDF-832E-46A8936F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A33D-879E-4013-993B-E204E946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B41A2-4209-41C8-A45A-7362519A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24F5E-1F62-436C-8FCB-291A5E7A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3EA87-CC59-4638-AFFA-AE90E5C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B00A8-2E48-4CA9-AA6A-2561929A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61ADF-C6CD-4FFD-8BCB-1C4DF94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4FEBD-3C16-4442-9877-AC62AA9B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D417D-ABDA-4DFB-9179-38C3DE39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AE4C7-9399-4ED3-B4F7-6440D8E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B02-E8D0-44BB-9238-9414F0E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3DA72B-8D1A-45BF-A2C8-81488AA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5477E-D81E-45E5-A0CA-59B72F1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7A080-BCF0-4472-9D54-6F470DB1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CC814-64EF-4DFA-8D65-946178E8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60DE1-955D-4C5B-9265-45903C49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1F79E-A7BB-4D44-A9F5-ED8A4D5F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425A5-5306-4E07-A9E5-F188D9CE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BC333-B2B5-433B-9CF0-042DD236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F49C1-1B64-4BEB-8011-5659FBB6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F7826-281E-4629-A536-2BBF58F5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9DF-F962-4DDB-9231-9A2D1880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6D982-9725-4A30-809F-1A594C94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46FBB-EA3E-49C1-BAC5-529DB2C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CFEB-E613-4B27-94D4-0A2E13B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71A9C-08ED-463A-A04C-58E5DCB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655AD-486D-4927-AE6D-2588E27C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866D2-7FDB-474B-9D10-A775134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759D5-98AA-4E75-B4EA-D182D545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71A8-42C2-48DC-B3FF-258320BFDDD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AB6-D66B-402A-B017-FACCE6BCC3A6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B6E4-1BC8-481C-A0FF-49C15E73BDE1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46E7-3569-42DF-A8ED-67C1BAF370A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483-55D8-4162-B3A4-2976AC28528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19AB-2E66-45C0-AA01-DB86889F3AE2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D57C-DE72-4B87-95B9-2D41E9531B9E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B316-2BE4-462C-8A00-52D933E352D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4, RESEARCH DESIGN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Causal Analysis and Hypothesis Tes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ypotheses are not required in nomothetic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a hypothesi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variables you think are relat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measurement of variab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ypothesize correlation, strength of relationship, statistical significan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tests for spuriousnes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 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 Cau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al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jority of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Necessary and Sufficient Caus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 must be present for the effect to follow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, if present, guarantees the effect in ques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st satisfying outcomes in research include both necessary and sufficient caus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2280" y="1616040"/>
            <a:ext cx="8763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577880" y="1600200"/>
            <a:ext cx="6042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nits of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 versus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ommon unit of analysis for social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, voters, parents, children, Cathol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ng members, families, married couples, friendship grou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porations, social organizations, colle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calls, dances, online chat rooms, figh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57600" y="814320"/>
            <a:ext cx="52578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Artifact – any product of social beings or their behavi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ee Purposes of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ogic of 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and Sufficient Cau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ime Dim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to Design a Research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search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aulty Reasoning about Units of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cological Fallacy – erroneously drawing conclusions about individuals solely from the observations of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ism – a strict limitation (reduction) of the kinds of concepts to be considered relevant to the phenomenon under stud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obiology – a paradigm based in the view that social behavior can be explained solely in terms of genetic characteristics and behavi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Time Dimens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y – A study based on observations representing a single point in time, a cross section of a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itudinal Study – A study design involving the collection of data at different points in tim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nd Study – A study in which a given characteristic of some population is monitor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hort Study – A study in which some specific subpopulation, or cohort, is studi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nel Study – A study in which data are collected from the same set of people at several points in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876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mparing Types of Longitudinal Studies, Example: Religious Affili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nd Study – looks at shifts in religious affiliation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ort Study – follows shifts in religious affiliation among those born during the Depres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 Study – follows the shifts in religious affiliation among a specific group of people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ing 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can draw approximate conclusions about longitudinal processes even when cross-sectional data are 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y processes over tim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ogical inferen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sk individuals to recall past behavi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hor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Research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oration, Description, or Explan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rces of da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 of analysi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s of time releva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How to Design a Research Projec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3809880" y="779400"/>
            <a:ext cx="49532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fine the purpose of your project – exploratory, descriptive, or explanatory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fy the meanings of each concept you want to stud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lect a research method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termine how you will measure the result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ree Purposes of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satisfy the researcher’s curiosity and desire for better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the feasibility of undertaking a more extensive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evelop the methods to be employed in any subsequent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whom or what t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ect empi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e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your find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Research Proposal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ements of a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lem or Ob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terature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s for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Collection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itutional Review Boa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Ethics of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Social researchers tend to choose _____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searchers tend to choose individuals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tific inquiry comes down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tific inquiry comes down to making observation and 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 _____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ressio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rrelation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situations and events through scientific obser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Which of these are among the purposes of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, description, and explanation are all among the purposes of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5. What do social researchers means when they say  there is a causal relationship between education and racial toleranc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a statistical correlation between the two variabl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person’s educational level occurred before their current level of toler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no third variable that can explain away the observed corre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researchers say there is a casual relationship between education and racial tolerance they mean: there is a statistical correlation between the two variables, a person’s educational level occurred before their current level of tolerance, and there is no third variable that can 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nomothetic explanation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A _____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tical iss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ufficient cause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ptive studies answer questions of what, where, when, and ho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natory studies answer questions of w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Logic of Nomothetic Explanatio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al: to find a few factors that can account for many of the variations in a given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Example: Legalization of Marijuana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diograph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6bb76d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mothet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tion from parents, teachers, cler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ious experi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ori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must be correl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relation – An empirical relationship between two variables such that changes in one are associated with changes in the other, or particular attributes in one are associated with particular attributes in the ot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use takes place before the eff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are nonspurio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urious Relationship – A coincidental statistical correlation between two variables shown to be caused by some third vari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3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09Z</dcterms:modified>
  <cp:revision>12</cp:revision>
  <dc:subject/>
  <dc:title>Slide 1</dc:title>
</cp:coreProperties>
</file>