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27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7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3C30-C45F-4E92-8123-A7CCEF3BA9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5A049-D7CF-4E27-8929-5C5DCC7C6D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3B4C1-B9D3-4310-B9DB-7467FC3686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7242-1C12-4494-AE7D-60F372165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1CE4-00E3-47A5-AA4B-1C166D669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892A-7C6B-4B09-B99D-4C466F0C6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E372-F020-4F75-82B2-C40EFAA12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BB720-70B9-48E6-A148-A5077018D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D829C-023C-44A6-8753-EF95A0D63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7E421-C2B5-4409-8F84-B4A07F8FF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253AA-5A53-46BC-ADCC-51B4A3514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C3A36-6972-4CF5-9A3D-D9C9D519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0999D-2F74-422F-83A7-F924C1728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921DE-51F2-49BA-9CA6-509420E6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37D7-ACFE-42A7-AC6E-D8A7DEB93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45BAF-74ED-4832-B47A-7B7178EC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6AD99-3B3C-4FE9-8F57-8C582956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BB418-D946-48E0-8141-F5F579E7C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CC566-A0AB-4CDA-B066-47401F5C6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BDE7F-D422-4FC2-8BC2-E49D46DDA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4D157B-2672-448A-A953-E780E6B8B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7447BE-EBE9-45EE-932D-877498A07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CD6D81-F355-4D35-AE98-8FB35E046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A54F29-F01D-4DDF-A1FD-B3B0FCBB1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41C9C6-1E27-4C89-8405-CF501071C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A6B6-9AE9-492D-A8DD-1D68DA7E4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DA0B0B-A77D-423D-AC0E-D5741D73A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4B3A31-E738-4352-857D-6621A791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EB155A-0987-4987-A392-5AEC3D48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4E549A-2EB9-40D3-9E03-17B86DEB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83B702-A5E6-4B7C-99A6-1F46FB34B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52FD43-4BD8-432B-8D61-91E000B0B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D5C213-662E-4588-88A5-979B5A2BE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55E8A3-ADA4-436B-9EE6-8C4432E3A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A46F6A-C03F-42A7-AC15-A37A7547E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095F68-756C-4FA7-9724-5219260DB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C239-7671-4173-B00F-21357387A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4EC07E-BC4E-488C-AC26-854E03AC0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060161-7A47-4A6E-BD51-AB8A04BFC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074F5B-814F-426A-B6AC-0C67A3D7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188036-372A-439B-B400-0A8E7A60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3ADCCF-B74C-49B1-BDD2-F0544B4D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8DC860-05DB-4405-947B-AE7F9F85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79147F-38A9-4A9C-A000-7819F3C2C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4A61A7-84CB-4461-81AB-8FF9CB1FC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114188-8849-4A99-A02F-0E010EA4B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7363B4-BFB7-4CF2-B6EB-DF40AD2EB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D942-A8C6-48B5-B5B3-0A5235347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23E95D-4149-470D-B745-D9C8668E2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A6D14D-09CC-4173-BD08-3BC6BEC53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EDBFEE-3FE4-4971-9BF0-3F2FA8DFF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A46307-B755-44F9-88BC-63CCE14AB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182B22-FCBE-44B0-8E10-F7D9E0593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FBDB3A-8B90-45C0-B513-E1FD2E0F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22C127-0FA3-44E8-A5F6-B50E0349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C2C0EB-9321-4DC3-BE7D-A6BCF61A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F09BB4-9AE4-4922-BBE1-A473DF014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0F4DD5-05AF-40BC-9264-E9AAFDA4F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0588-DA3B-425C-95F7-2F234C928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42A4FC-14E6-4343-8B08-2D7BDE3F4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5C0700-5E22-4850-A3FB-36CB2BF6B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CC1BF-E300-4826-A7A1-D17FF0E97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C98F5-3A2C-4D15-BFCB-0A698E662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926D7-5446-4369-8CFE-DB8FEB11D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7FB8C-B7E3-4F7A-A551-A6553FE57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C6E1A-E2F9-4BDB-9018-1FDA624B6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17C40-AD75-4603-8FFB-519498B2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7C345-C22D-4761-BF31-437564C6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8B7C8-013B-41CC-80B4-68E6EF10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F773-4E79-4FC8-9E70-DD6E1EE1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3CC02-0AB1-480B-9508-6E8B8FA25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31FC2-A942-43F2-AD3A-43C9CB40D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5CE83-7E7D-4433-A876-F04DC682F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0E75D6-9DD1-4B0A-B4DC-8706C606F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D8FC9C-AC54-4346-8AF5-427D55BA9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AA3137-D1BB-43CC-BDE7-E241BCD3D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B2ABE7-A03E-4EC2-8149-D78DB9F6A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D6CDC0-1E05-4D4A-ACBF-C79C69E71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AE3C7A-F04B-426C-93D4-9CF75D879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955728-1C48-4B7D-AF29-424F34D2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36D6-2AF6-409F-921A-58321D09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079AF3-1923-4344-A842-7F9BE8F0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7052E7-37F5-4C17-9F0A-A7C86724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095BC5-F84D-4936-B277-BF192FC9B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CCFA2C-5EFA-4348-95E8-CC13EC321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C3E84D-E56A-4F3F-BE3A-4D860E6B5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A09F87-2C21-41D8-9BB3-91EF67060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17265-738F-4714-B38D-CEB8A079F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A9C867-C938-4FBB-A4B3-A1B1C5003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49B7C2-C1CF-45C2-B33B-0D0F676E3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3F9D6-F5D4-4536-A2F4-428DF8C74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B04B-0FF5-4514-B341-AF44997F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181200-3592-45CC-93C2-61E897A9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026B37-7BBB-45EF-AB55-B2D85F63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41E8F8-C37C-4419-95FE-7B321CC3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787155-6B3B-40DB-A26B-64EFE7E8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C55AA2-DDD8-411C-9386-B4A2437FD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27E853-159C-463C-9C69-E26158B39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FDACC8-267B-49BA-B73E-94B377A15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2040C-0E29-4217-A6E0-F494D5E685AF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d4d4d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90C13-CC83-4E96-A647-C02EB18613F0}" type="slidenum">
              <a:rPr b="1" lang="en-US" sz="1400" spc="-1" strike="noStrike">
                <a:solidFill>
                  <a:srgbClr val="d4d4d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92713-9D9C-4298-A993-E46FE1D4507D}" type="slidenum">
              <a:rPr b="1" lang="en-US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E204B-C39B-4EDE-A65D-C380C5E0ACF9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635BB-1121-4112-A8FC-B6F12520D898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8D6CC-06FF-4CAA-8549-7F083C10619F}" type="slidenum">
              <a:rPr b="1" lang="en-US" sz="1400" spc="-1" strike="noStrike">
                <a:solidFill>
                  <a:srgbClr val="5a6378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F35B4-944F-4B95-83C0-9C70EC31D5AC}" type="slidenum">
              <a:rPr b="1" lang="en-US" sz="2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F1919-B03C-45D2-8EF0-AD4DBB6874D7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HAPTER 4, RESEARCH DESIGN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mothetic Causal Analysis and Hypothesis Test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ypotheses are not required in nomothetic research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 test a hypothesi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pecify variables you think are relate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pecify measurement of variabl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Hypothesize correlation, strength of relationship, statistical significan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pecify tests for spuriousnes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alse Criteria for Nomothetic Causal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plete Caus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ceptional Cas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jority of Cas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Necessary and Sufficient Causes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necessary cause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represents a condition that must be present for the effect to follow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sufficient cause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represents a condition that, if present, guarantees the effect in question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Most satisfying outcomes in research include both necessary and sufficient causes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4.2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7" name="Picture 2" descr=""/>
          <p:cNvPicPr/>
          <p:nvPr/>
        </p:nvPicPr>
        <p:blipFill>
          <a:blip r:embed="rId1"/>
          <a:stretch/>
        </p:blipFill>
        <p:spPr>
          <a:xfrm>
            <a:off x="152280" y="1616040"/>
            <a:ext cx="87631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4.3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1577880" y="1600200"/>
            <a:ext cx="60422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Units of Analysis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ggregates versus Individua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dividua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st common unit of analysis for social resear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roup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rganiza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cial Interac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dividual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udents, voters, parents, children, Cathol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Group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ang members, families, married couples, friendship group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rganiza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rporations, social organizations, colleg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ocial Interac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elephone calls, dances, online chat rooms, figh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4.4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9" name="Picture 2" descr=""/>
          <p:cNvPicPr/>
          <p:nvPr/>
        </p:nvPicPr>
        <p:blipFill>
          <a:blip r:embed="rId1"/>
          <a:stretch/>
        </p:blipFill>
        <p:spPr>
          <a:xfrm>
            <a:off x="3657600" y="814320"/>
            <a:ext cx="5257800" cy="56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cial Artifac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cial Artifact – any product of social beings or their behavio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hapter Outline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ree Purposes of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Logic of Nomothetic Explan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cessary and Sufficient Caus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nits of Analy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Time Dimens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ow to Design a Research Projec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Research Propos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Ethics of Research Desig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ick Quiz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Faulty Reasoning about Units of Analysi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cological Fallacy – erroneously drawing conclusions about individuals solely from the observations of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ductionism – a strict limitation (reduction) of the kinds of concepts to be considered relevant to the phenomenon under stud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ociobiology – a paradigm based in the view that social behavior can be explained solely in terms of genetic characteristics and behavior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The Time Dimension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ross-Sectional Study – A study based on observations representing a single point in time, a cross section of a popul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ongitudinal Study – A study design involving the collection of data at different points in time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rend Study – A study in which a given characteristic of some population is monitored over tim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hort Study – A study in which some specific subpopulation, or cohort, is studied over tim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anel Study – A study in which data are collected from the same set of people at several points in tim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4.5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1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077320" cy="4876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Comparing Types of Longitudinal Studies, Example: Religious Affiliation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nd Study – looks at shifts in religious affiliation over tim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hort Study – follows shifts in religious affiliation among those born during the Depress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nel Study – follows the shifts in religious affiliation among a specific group of people over tim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pproximating Longitudinal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earchers can draw approximate conclusions about longitudinal processes even when cross-sectional data are availab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50840" indent="-457200">
              <a:spcBef>
                <a:spcPts val="499"/>
              </a:spcBef>
              <a:buClr>
                <a:srgbClr val="60b5cc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mply processes over tim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050840" indent="-457200">
              <a:spcBef>
                <a:spcPts val="499"/>
              </a:spcBef>
              <a:buClr>
                <a:srgbClr val="60b5cc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ake logical inferenc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050840" indent="-457200">
              <a:spcBef>
                <a:spcPts val="499"/>
              </a:spcBef>
              <a:buClr>
                <a:srgbClr val="60b5cc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sk individuals to recall past behavi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050840" indent="-457200">
              <a:spcBef>
                <a:spcPts val="499"/>
              </a:spcBef>
              <a:buClr>
                <a:srgbClr val="60b5cc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hort analysi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mples of Research Strateg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ploration, Description, or Explanation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urces of data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it of analysi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imensions of time relevant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How to Design a Research Project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4.6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2" name="Picture 2" descr=""/>
          <p:cNvPicPr/>
          <p:nvPr/>
        </p:nvPicPr>
        <p:blipFill>
          <a:blip r:embed="rId1"/>
          <a:stretch/>
        </p:blipFill>
        <p:spPr>
          <a:xfrm>
            <a:off x="3809880" y="779400"/>
            <a:ext cx="4953240" cy="56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Define the purpose of your project – exploratory, descriptive, or explanatory?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Specify the meanings of each concept you want to study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Select a research method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Determine how you will measure the result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Three Purposes of Research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plor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89120" indent="-51444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 satisfy the researcher’s curiosity and desire for better understand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89120" indent="-51444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 test the feasibility of undertaking a more extensive stud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89120" indent="-51444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 develop the methods to be employed in any subsequent stud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89120" indent="-51444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89120" indent="-51444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termine whom or what to stud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llect empirical da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cess the da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nalyze the da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port your finding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The Research Proposal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lements of a Research Propos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blem or Objectiv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terature Review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bjects for Stud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ata Collection Method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alysi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udge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itutional Review Boar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The Ethics of Research Design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Quick Quiz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. Social researchers tend to choose _____ as their units of analysi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cial interac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cial artifac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roup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dividua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ggregat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cial researchers tend to choose individuals as their units of analysi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. Scientific inquiry comes down t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aking observation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terpreting what you have observe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oth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ne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cientific inquiry comes down to making observation and interpreting what you have observe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3. A _____ is an empirical relationship between two variables such that changes in one are associated with changes in the other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mothetic explan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gression analy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rrel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purious relationship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correlation is an empirical relationship between two variables such that changes in one are associated with changes in the other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scrip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89120" indent="-51444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scribe situations and events through scientific observ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89120" indent="-51444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89120" indent="-51444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4.Which of these are among the purposes of research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plor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scrip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plan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l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ploration, description, and explanation are all among the purposes of research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5. What do social researchers means when they say  there is a causal relationship between education and racial tolerance?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There is a statistical correlation between the two variables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A person’s educational level occurred before their current level of tolerance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There is no third variable that can explain away the observed correlation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all of these choice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none of the these choice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en social researchers say there is a casual relationship between education and racial tolerance they mean: there is a statistical correlation between the two variables, a person’s educational level occurred before their current level of tolerance, and there is no third variable that can explain away the observed correl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6. A _____ is probabilistic and usually incomplet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mothetic explan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rrel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purious relationship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or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nomothetic explanation is probabilistic and usually incomplet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7. A _____ represents a condition that, if present, guarantees the effect in ques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ypothe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ufficient caus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actical issu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cessary caus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pendent vari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B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sufficient cause represents a condition that, if present, guarantees the effect in ques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plan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89120" indent="-51444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scriptive studies answer questions of what, where, when, and how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89120" indent="-51444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planatory studies answer questions of wh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89120" indent="-51444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89120" indent="-51444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The Logic of Nomothetic Explanation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oal: to find a few factors that can account for many of the variations in a given phenomen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Example: Legalization of Marijuana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3886200" cy="6397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diographic Approa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800240" y="1752120"/>
            <a:ext cx="3886200" cy="639720"/>
          </a:xfrm>
          <a:prstGeom prst="rect">
            <a:avLst/>
          </a:prstGeom>
          <a:solidFill>
            <a:srgbClr val="6bb76d"/>
          </a:solidFill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omothetic Approa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09120" y="2437920"/>
            <a:ext cx="38862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formation from parents, teachers, clerg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evious experienc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ther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800240" y="2437920"/>
            <a:ext cx="38862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olitical orient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ther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riteria for Nomothetic Causal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variables must be correlat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06560" indent="-4572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rrelation – An empirical relationship between two variables such that changes in one are associated with changes in the other, or particular attributes in one are associated with particular attributes in the other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cause takes place before the effec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variables are nonspuriou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06560" indent="-4572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purious Relationship – A coincidental statistical correlation between two variables shown to be caused by some third variabl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4.1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8" name="Picture 2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8637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6T17:02:08Z</dcterms:created>
  <dc:creator>AKO</dc:creator>
  <dc:description/>
  <dc:language>en-US</dc:language>
  <cp:lastModifiedBy>carrie tucek</cp:lastModifiedBy>
  <dcterms:modified xsi:type="dcterms:W3CDTF">2016-01-20T05:14:09Z</dcterms:modified>
  <cp:revision>12</cp:revision>
  <dc:subject/>
  <dc:title>Slide 1</dc:title>
</cp:coreProperties>
</file>