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F1D89-D52A-474C-A3B5-F353D85A6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095E3-DDB0-4CD1-A30E-F37E14CD1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C7C52-FCFC-416E-9B72-9B2C732A1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7B77B-E060-4321-8910-5D4FD461A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FA82A8-DEA5-4834-9D67-1D1DEF6BC3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6F11E-13A5-438D-A41B-5AE9C5EE7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ED2EB3-727B-455D-8960-480C74FF7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08763-DF3F-42FF-88D7-3B391040D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D3F12-201A-498B-BF65-ED88E5431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10D56-0381-4CE6-B95C-0BED062AD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26A2B-EA0B-45AE-A777-8209BEBFB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07C43-4F24-49F8-9579-DF15009D3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2F2C9-D359-4E61-BC46-13E29B51A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AA767-9527-4D0E-AE45-A31B6F860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BCDFD-021E-471C-85CC-104644D6A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D7EA63-09D2-4B2B-A11D-D49EAB991F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77FCEE-1CC6-42FD-B01F-F77997941F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85025DA-9FCF-49A0-A486-C0BAB62142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CFA5CC1-591D-44F7-A80B-CC04B0A335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D980CB3-6388-4699-B160-17C12B0A15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182CA4D-78CC-4C74-BC96-B3B500C620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5DEE6D7-B031-472D-974B-BD02D3C1DF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053E2-80E1-4F8D-A647-56B69EC8D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33BD619-3F7F-45D3-AE1F-EECDC4B4C2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F59B2FA-7D36-47B9-8F36-4511CF5C9E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C269537-F3AE-4938-80B9-5DCA18FCA5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7EFE65D-7E86-432B-A7E8-C69E1B749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9715705-8AB7-4886-80C0-EACAFD599F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819A771-0B94-4C32-8170-961F1042A9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FDFCAC9-0026-4C84-8E31-51DF9DFB87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A7F9CCD-B759-4B49-9197-532848311C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B2275B1-E5D4-44B2-8F28-55E54D02E9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45903CB-6B3E-4B32-B86F-F8BFA14522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F1529-5158-421E-AED5-196A650D9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DE1A042-5B03-4172-8F07-35D86B29C6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4F4F944-3123-48E2-A57D-9F0A88EC92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C67085E-7485-4F4C-A634-5AAE6AABC1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75A0913-7AA4-4372-B308-DC364104E8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3C22179-E6F1-496C-B1D3-EF8BD80EB1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7941F16-9CF6-4493-AB9A-EB8C8308DE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E713E92-12AB-4C3D-B227-8073C92B5A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FBE76AA-D2BF-4409-8EA9-9CAD423C81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7E42077-209E-4E50-A367-57B75F233C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3004E3A-304F-4576-99A0-32CE2F96B3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AC188-1026-4894-8189-B52F4F300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3A07417-C4D9-4411-B2B6-4D89E60BDD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355BCDD-744D-4244-A47D-A750A900BF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0CB5C80-6DEF-4259-8F14-19117460EA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F0B7B96-D7CE-4A66-8BAC-F6FDA8AFE9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D9BBC57-E48C-4866-BD73-0FF4A84AD4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AED3444-81AE-4F43-A24E-CF4D9162D0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35AD235-BDF9-429E-84C4-1CE68CA149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BA50C53-42E2-4BAB-AAEE-96F0E1CEE3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3B81F1F-BA3E-4B5C-8810-F45BC9E5B3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965C61B-AA6D-43AC-9681-E2255AF4FD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7A740-EAC2-4FA6-B691-E6BB80F2A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02B0973-2337-44ED-BC54-2127858DCB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13FDFA-293A-4B8B-B100-2558F91339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092D7E-D1ED-471F-8DD2-67A807A501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83B9A2-C725-483E-A825-358642EE69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90C572-CD12-4222-BD99-463EBCA983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3F025B-C4B8-4A82-A239-8868F3F2F0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A9DDA2-7F46-4EF7-BADF-CE1C2BFCE0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435296-F745-49F0-94FF-D64436E2A6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1D281E-CF4A-4A8F-9CC8-D37452137D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71D41B-4E51-4084-9461-69F1C9867B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5AF71-679C-4416-967F-E25CC30A5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D2A630-9520-4D7B-87CA-65AB90A007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82877A-3417-4B12-8A83-630B9DBADD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53D51B-1B26-4560-8115-A7B80891B3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25722FF-A8F4-4EBC-A118-15D20A4843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5A48933-8540-413C-B052-6F2E9FCD59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6F7B000-345D-4867-8B05-FA9E25D6B9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C598A08-065E-4242-8935-8703D963BC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DB7AD48-E127-4079-B9EC-88AD579E4C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04B4C5F-9A65-40D6-9120-39294335C1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389AB10-A3F2-4D62-AA01-B81196B5BD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3E950-A42D-4448-8539-942D85C9B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F6E488A-247C-4601-BD18-990E1563F8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19BA1DB-CDEB-44CF-9BCD-7F670CA95E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2E866D0-A10F-46BB-BFE2-414DDEFE45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2006D1E-6275-43BE-8784-EE234F0AEE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91F7630-2514-4C3F-A7EF-80B0D42DBB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6AEFD0-643B-4994-8108-2F0072543F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0B6994-265C-4A3C-A059-5A2118B7E2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33361B-B8BA-4803-8D0A-4D9F7FA2B0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972B03-2A22-427F-B485-ACE5167996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99DEA2-A4A4-4126-B95B-63122163DE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8D792-3D19-43C9-8880-A90C84667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29DA01-B0F3-4B61-A428-01FE48EACC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BC34DA-9085-4251-8403-CA73EFA75C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BE8947-21FE-4242-B5EE-8AB8FA2A5E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DB8348-B8F4-4721-9724-602F05DA45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A1435B-844F-4CDB-9FE9-4675F4B31F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F08A44-B7C4-49C3-B8F1-3BAF64247D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526EF0-B6CA-41A7-90EC-ECC05701CE3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07164-D37C-4B65-A288-11319559080C}"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9674-B1DB-438C-921B-9F68D571F03F}"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1924-61D3-4E6E-A34E-0F4710E52685}"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FFF7C-AA6A-4793-BC6F-0D0FDBD04440}"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9BB2-FED5-441A-A777-EDF1D3474BAC}"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1D08-A713-4D11-A1F8-8FBC358FEB93}"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F8931-D829-4EF8-A59E-AEE40573B6F8}"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DBDF-4D2B-4905-B154-79B79ED34103}"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4d4d6"/>
                </a:solidFill>
                <a:latin typeface="Verdana"/>
              </a:rPr>
              <a:t>CHAPTER 3, THE ETHICS AND POLITICS OF SOCIAL RESEARCH</a:t>
            </a:r>
            <a:endParaRPr b="0" lang="en-US" sz="4000" spc="-1" strike="noStrike">
              <a:solidFill>
                <a:srgbClr val="d4d4d6"/>
              </a:solidFill>
              <a:latin typeface="Verdana"/>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stitutional Review Boards – A panel of faculty who review all research proposals involving human subjects so that they can guarantee that the subjects’ rights and interests will be protected.</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cep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fessional Code </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of Ethics</a:t>
            </a:r>
            <a:endParaRPr b="0" lang="en-US" sz="2900" spc="-1" strike="noStrike">
              <a:solidFill>
                <a:srgbClr val="000000"/>
              </a:solidFill>
              <a:latin typeface="Verdana"/>
            </a:endParaRPr>
          </a:p>
        </p:txBody>
      </p:sp>
      <p:pic>
        <p:nvPicPr>
          <p:cNvPr id="372" name="Picture 2" descr=""/>
          <p:cNvPicPr/>
          <p:nvPr/>
        </p:nvPicPr>
        <p:blipFill>
          <a:blip r:embed="rId1"/>
          <a:stretch/>
        </p:blipFill>
        <p:spPr>
          <a:xfrm>
            <a:off x="4648320" y="1523880"/>
            <a:ext cx="4289400" cy="525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Two Ethical Controversies</a:t>
            </a:r>
            <a:endParaRPr b="0" lang="en-US" sz="4400" spc="-1" strike="noStrike">
              <a:solidFill>
                <a:srgbClr val="5a6378"/>
              </a:solidFill>
              <a:latin typeface="Verdana"/>
            </a:endParaRPr>
          </a:p>
        </p:txBody>
      </p:sp>
      <p:sp>
        <p:nvSpPr>
          <p:cNvPr id="374"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rouble in the Tearoom – Laud Humphreys</a:t>
            </a:r>
            <a:endParaRPr b="0" lang="en-US" sz="27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ied homosexual activities in public restrooms in parks</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er became interested in the lives of participants</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er volunteered to become “watchqueen”</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er collected personal information about the participants (license numbers of cars)</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ich ethical issues are in ques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bserving Human Obedience – Stanley Milgram</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rticipants imitated a laboratory-based World War II controversy</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rticipants were assigned job of “teacher” – to teach a list of works to the “pupil.” If the pupil got the word wrong, the teacher would administer increasing levels of shocks to the pupil.</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ich ethical issues are in ques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he Politics of Social Research</a:t>
            </a:r>
            <a:endParaRPr b="0" lang="en-US" sz="4000" spc="-1" strike="noStrike">
              <a:solidFill>
                <a:srgbClr val="5a6378"/>
              </a:solidFill>
              <a:latin typeface="Verdana"/>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ethics of social research deal mostly with the methods employed.</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litical issues tend to center on the substance and use of research.</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re are no formal codes of acceptable political conduct, while there are formal codes of conduct for social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bjectivity and Ideolog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ience achieves </a:t>
            </a:r>
            <a:r>
              <a:rPr b="0" i="1" lang="en-US" sz="2600" spc="-1" strike="noStrike">
                <a:solidFill>
                  <a:srgbClr val="000000"/>
                </a:solidFill>
                <a:latin typeface="Verdana"/>
              </a:rPr>
              <a:t>objectivity</a:t>
            </a:r>
            <a:r>
              <a:rPr b="0" lang="en-US" sz="2600" spc="-1" strike="noStrike">
                <a:solidFill>
                  <a:srgbClr val="000000"/>
                </a:solidFill>
                <a:latin typeface="Verdana"/>
              </a:rPr>
              <a:t> through intersubjectivit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er (1925): sociology needs to be unencumbered by personal values if it is to make a special contribution to socie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c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xual research</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ensu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litics with a Little “p”</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cial research in relation to contested social issues cannot remain antiseptically objectiv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olitics in Perspective</a:t>
            </a:r>
            <a:endParaRPr b="0" lang="en-US" sz="27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ience is not untouched by politics.</a:t>
            </a:r>
            <a:endParaRPr b="0" lang="en-US" sz="24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ience does proceed in the midst of political controversy and hostility.</a:t>
            </a:r>
            <a:endParaRPr b="0" lang="en-US" sz="24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wareness of ideological considerations enriches the study and practice of social research methods.</a:t>
            </a:r>
            <a:endParaRPr b="0" lang="en-US" sz="24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as researchers should not let their own values interfere with the quality and honesty of the research, this does not mean that researchers cannot or should not participate in public debat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388"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5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al Issues in Social Research</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wo Ethical Controversie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Politics of Social Research</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_____ is a norm in which subjects base their voluntary participation in research projects on a full understanding of the possible risks involv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search participatio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 Hawthorne effect</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nformed consent</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 code of ethic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formed consent is a norm in which subjects base their voluntary participation in research projects on a full understanding of the possible risks involved.</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Though the norm of voluntary participation is important, it is ofte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justifiably violat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t receiv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mpossible to follow</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ough the norm of voluntary participation is important, it is often justifiably violated, not received, and impossible to follow.</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Ethics are </a:t>
            </a:r>
            <a:r>
              <a:rPr b="0" i="1" lang="en-US" sz="2900" spc="-1" strike="noStrike">
                <a:solidFill>
                  <a:srgbClr val="000000"/>
                </a:solidFill>
                <a:latin typeface="Verdana"/>
              </a:rPr>
              <a:t>not</a:t>
            </a:r>
            <a:r>
              <a:rPr b="0" lang="en-US" sz="2900" spc="-1" strike="noStrike">
                <a:solidFill>
                  <a:srgbClr val="000000"/>
                </a:solidFill>
                <a:latin typeface="Verdana"/>
              </a:rPr>
              <a:t> a consideration in which one of the following fields of research?</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atural scienc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sychology</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edicine</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ociology</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ne of the above – they all require ethical considera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E.</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s enters in all of these fields: natural sciences, psychology, medicine, and sociolog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2" name=""/>
          <p:cNvSpPr txBox="1"/>
          <p:nvPr/>
        </p:nvSpPr>
        <p:spPr>
          <a:xfrm>
            <a:off x="612720" y="1600200"/>
            <a:ext cx="8153280" cy="44956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4. The major justification social scientists have for requesting participation in a study is that</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the respondent.</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all humanity.</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the social scientist.</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government officials make policy decisions.</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improve the educational system.</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ajor justification the social scientists has for requesting participation in a study is that it may help all human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6" name=""/>
          <p:cNvSpPr txBox="1"/>
          <p:nvPr/>
        </p:nvSpPr>
        <p:spPr>
          <a:xfrm>
            <a:off x="612720" y="1600200"/>
            <a:ext cx="8153280" cy="44956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The controversy surrounding Laud Humphreys’ study of homosexuals suggests that he </a:t>
            </a:r>
            <a:r>
              <a:rPr b="0" i="1" lang="en-US" sz="2900" spc="-1" strike="noStrike">
                <a:solidFill>
                  <a:srgbClr val="000000"/>
                </a:solidFill>
                <a:latin typeface="Verdana"/>
              </a:rPr>
              <a:t>most</a:t>
            </a:r>
            <a:r>
              <a:rPr b="0" lang="en-US" sz="2900" spc="-1" strike="noStrike">
                <a:solidFill>
                  <a:srgbClr val="000000"/>
                </a:solidFill>
                <a:latin typeface="Verdana"/>
              </a:rPr>
              <a:t> violated which of the following ethical principles?</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nonymity and confidentiality</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harm to subjects and data reporting without identification</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cealed identify or researcher and anonymity</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harm to subjects and anonym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controversy surrounding Laud Humphrey’s study of homosexuals suggest that he </a:t>
            </a:r>
            <a:r>
              <a:rPr b="0" i="1" lang="en-US" sz="2900" spc="-1" strike="noStrike">
                <a:solidFill>
                  <a:srgbClr val="000000"/>
                </a:solidFill>
                <a:latin typeface="Verdana"/>
              </a:rPr>
              <a:t>most</a:t>
            </a:r>
            <a:r>
              <a:rPr b="0" lang="en-US" sz="2900" spc="-1" strike="noStrike">
                <a:solidFill>
                  <a:srgbClr val="000000"/>
                </a:solidFill>
                <a:latin typeface="Verdana"/>
              </a:rPr>
              <a:t> violated the ethical principle of harm to subjects and anonym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Ethical Issues in Social Research</a:t>
            </a:r>
            <a:endParaRPr b="0" lang="en-US" sz="4000" spc="-1" strike="noStrike">
              <a:solidFill>
                <a:srgbClr val="5a6378"/>
              </a:solidFill>
              <a:latin typeface="Verdana"/>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al (Webster’s) – Conforming to the standards of conduct of a given profession or group.</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0" name=""/>
          <p:cNvSpPr txBox="1"/>
          <p:nvPr/>
        </p:nvSpPr>
        <p:spPr>
          <a:xfrm>
            <a:off x="609120" y="1676520"/>
            <a:ext cx="8153640" cy="4952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6. Which of the following is </a:t>
            </a:r>
            <a:r>
              <a:rPr b="0" i="1" lang="en-US" sz="2700" spc="-1" strike="noStrike">
                <a:solidFill>
                  <a:srgbClr val="000000"/>
                </a:solidFill>
                <a:latin typeface="Verdana"/>
              </a:rPr>
              <a:t>not</a:t>
            </a:r>
            <a:r>
              <a:rPr b="0" lang="en-US" sz="2700" spc="-1" strike="noStrike">
                <a:solidFill>
                  <a:srgbClr val="000000"/>
                </a:solidFill>
                <a:latin typeface="Verdana"/>
              </a:rPr>
              <a:t> a difference between ethical and political aspects of social research?</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al considerations are more objective than political considerations.</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al aspects include a professional code of ethics, whereas political aspects do not.</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s deal more with methods, whereas political issues deal with substance.</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al norms have been established, whereas political norms have not been established.</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following is </a:t>
            </a:r>
            <a:r>
              <a:rPr b="0" i="1" lang="en-US" sz="2900" spc="-1" strike="noStrike">
                <a:solidFill>
                  <a:srgbClr val="000000"/>
                </a:solidFill>
                <a:latin typeface="Verdana"/>
              </a:rPr>
              <a:t>not</a:t>
            </a:r>
            <a:r>
              <a:rPr b="0" lang="en-US" sz="2900" spc="-1" strike="noStrike">
                <a:solidFill>
                  <a:srgbClr val="000000"/>
                </a:solidFill>
                <a:latin typeface="Verdana"/>
              </a:rPr>
              <a:t> a difference between ethical and political aspects of social research: Ethical considerations are more objective than political considera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oluntary Participation</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 one should be forced to participat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lance of science and ethic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ssib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o Harm to the Participant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ople being researched should never be injured (physically, mentally, emotionally, socially, psychologicall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amples: Tuskegee Syphilis Study, Stanford Prison Experiment</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ssible to eliminate 100% of risk?</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formed Consent – A norm in which subjects based their voluntary participation in research projects on a full understanding of the possible risk involved.</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urces of harm</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nonymity and Confidentialit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onymity – Guaranteed in a research project when neither the researchers nor the readers of the findings can identify a given response with a given respondent.</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dentiality – Guaranteed when the research can identify a given person’s responses but promises not to do so public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ception</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ception within social research needs to be justified by scientific or administrative concern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briefing – Interviewing subjects to learn about their experience of participation in the projec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nalysis and Reporting</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hical obligation to colleagues in the scientific communit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results must be reported (positive and negativ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limitations must be admitt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3:36Z</dcterms:modified>
  <cp:revision>8</cp:revision>
  <dc:subject/>
  <dc:title>Slide 1</dc:title>
</cp:coreProperties>
</file>