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A1CB6-7B23-43C2-B0EF-C9BAD0A2F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C7107-E7CE-461A-BDDE-085115FB2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04D35-4CB5-4282-9B13-EFB87A29B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5E898-6861-4D76-B79B-BC1FF3ECA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550C14-FFED-4FCA-8DEE-CC2C1B0E6E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C5C4F-52BD-4C83-A456-5EC03B4BA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8E2B4-018F-426F-B475-D0CB5E0C4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FC0BF-4467-4C3A-8432-0FBAFF78A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305A8-ECFD-4EFB-A4C2-C1DAA6510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4E109-40FD-45F9-B32A-32C0038DD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FD772-658A-44B4-B0B2-F5B7C1D88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2096D-4826-4E82-B77D-4A4345A89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A83B3-7533-44B5-BA5F-4E0D8A39C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63D62-6B87-4EF7-ABE9-C6D44DEA6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A725A-25F2-4D04-88A9-CEB34C389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F3371B-E869-4950-AEA1-85FC965349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57C5B3-5018-4C9E-A23A-9151B83445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7E8243C-60C4-42D0-8554-CF29DA636C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AC80E63-B549-48CF-A97A-BA43AD5426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BAF0278-DE63-4EFF-994F-E2F24FDEC8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AA9C971-95A4-4E3A-9F25-243A6E75D0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5F275BC-417F-4B0A-A2F3-E0B249E433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2E1E3-7795-4C08-9F61-F3EE095F0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879F1A4-6E6E-490F-8D5E-20CB854B92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C70AF11-8749-4FB6-BEE1-3DA489F7A3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FE5F136-9135-4344-9534-5D289265B5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DA66927-F351-4C2F-B95F-80D804232E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25E09B6-C437-4178-8E96-B28D1A9023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55B5E56-925E-45B6-A520-0CE44DB983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0F40A96-AD8E-4A8F-84A7-DE649596EC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4868475-AE4F-47BF-BA01-CCEEAF3250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E80F232-354E-4318-B35C-C5856A03E1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0C6531E-DC3D-4A5C-92FE-6DB8013167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D0C75-1054-4876-A5E3-325D05B0D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E6722AB-F30E-4E8F-9DBD-1D240F578C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D69FAD0-0602-4698-B249-92FE7714F0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C27FCF0-4547-4680-9EE5-89D5822638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EB20D32-0B01-4DD5-A185-0B3E04012B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DC4AB2C-B008-45B1-8267-D46BF1CA64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A290938-5CA1-423D-8601-0673016FF9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EE6E5B2-43CE-429D-B407-76267F246F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EF128D5-9DE9-4906-B220-68C8DF0FB4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3F6508B-65D6-4D81-949B-E2C7B68FB1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2240875-061B-4F01-9F78-94A4FE9F73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BE6C3-8A36-4D06-B185-9E92A645F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44A3FB5-A5F5-4D65-9A32-5327376069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E64B9F6-84F4-4A4E-9AE4-1DDE2BC39A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C23E4F2-63E5-4220-9987-2CE9F5B3E0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F8F096B-A378-4E2B-A11E-8618DB02E5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8E4CAC6-0C9B-4C61-A676-4E2D52E1A6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534DC4F-FE1B-41E3-B070-2958EB6CC5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7F22639-E4DC-4180-AAAF-1C61709ABC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59BB5F3-08B3-41BE-B019-6CAFFF437E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D3A8C9F-BC9F-4E8D-8492-EA0F3C91A9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783131F-9FF2-4388-A083-A44DCAAB7F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C8DE6-BC8D-4F0B-A439-DA0F22C7D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EA307E2-F3F3-4BF0-A727-19B088F317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10EFB8-8ED8-48E2-89E2-51A24AAC67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FD04DF-09D2-4BE0-BAF7-D4FA1C343E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B34A70-9096-48C0-A821-7A16D39F51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CFB42C-089F-4EA7-8018-6BC7367C76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C4EB73-4E36-455B-860B-279A2BB641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131CE7-DEC0-402C-958B-4C856812CC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CA1490-A3F4-40EE-A839-73A9BB2E23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9B659D-B974-4F5A-B917-C6AFFC2A21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D0A3FF-37C7-4EDB-8419-D4292FC7A3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A910D-DF47-41EE-89A6-0A7756F44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28855B-1162-43F3-8EB9-FB2D18827E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A63722-5B58-4F3C-9F91-AC555BEF5C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1618C2-B8A8-4691-9128-247151F88B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E2BE9CD-F1E7-4882-9FF8-21FE085A46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706F1F5-FDFD-45DA-B4CF-20520EFF98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3DE8226-E309-4297-9037-6269E8139C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2C6AD8C-520A-4992-BB8E-817785E216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67C2FCF-B0DB-4413-97B6-99113F2F56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B7354BE-5962-4A32-AED9-314A40CC8E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4096CD2-2E2D-4AD8-BC01-662E39DA6A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2ABDC-6DF0-4E50-9B23-8C92D36F6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F9F8C59-B033-4DF8-83DC-E867C56DD9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B6677AE-C724-4B6B-A2F2-B344586430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E60525B-A0B2-4810-89E4-5DC0A589E7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3DE80FD-8D5D-4DD6-9913-4CE1F1EBF7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6E36AED-AC65-4C25-BE73-92701E39E5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553FCE-EC14-4943-80E9-73299A6163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090027-55EC-4D4C-9E52-62E54534C7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D4FBDB-9FE5-4E02-95B0-7D040FBF23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387771-2C14-4B83-A2B2-8C09DA637C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86E9F9-14A9-4B7C-A091-ABFACB592E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2A8F3-E754-41AA-82F3-9266226AE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D1F039-D5F8-4197-817D-635D10AF87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855F4C-87D2-4CAE-B117-E6F44425DE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32AE9F-C07C-4CDC-BDD7-434E27D050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4B1EE8-18F7-4A7E-9230-C1C355D831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530478-01B5-46AE-BC8D-09809E76D9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E39FC2-2436-46F5-8D37-B9C9263AE5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94B3AF-7698-47E1-9655-AC421F4A883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18F2-1EE8-463D-9079-E497B27BE1AB}"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E1706-7982-4A36-93DC-2CC0A295F4F1}"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FA542-9193-426B-9419-BF604DAA0FF9}"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BBA5-AFE7-4174-8366-3E2894C6FF28}"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949F-7FA6-4975-B7EC-5CB4229570A3}"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30F57-71CC-470A-A82D-2A3A04AA552C}"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6C86F-C83F-4186-8754-0EE82D3A553F}"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a6378"/>
                </a:solidFill>
                <a:latin typeface="Verdana"/>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C1BAD-DABE-45A4-8BA5-EA5A0F4F165E}"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4d4d6"/>
                </a:solidFill>
                <a:latin typeface="Verdana"/>
              </a:rPr>
              <a:t>CHAPTER 3, THE ETHICS AND POLITICS OF SOCIAL RESEARCH</a:t>
            </a:r>
            <a:endParaRPr b="0" lang="en-US" sz="4000" spc="-1" strike="noStrike">
              <a:solidFill>
                <a:srgbClr val="d4d4d6"/>
              </a:solidFill>
              <a:latin typeface="Verdana"/>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stitutional Review Boards – A panel of faculty who review all research proposals involving human subjects so that they can guarantee that the subjects’ rights and interests will be protected.</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cep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fessional Code </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of Ethics</a:t>
            </a:r>
            <a:endParaRPr b="0" lang="en-US" sz="2900" spc="-1" strike="noStrike">
              <a:solidFill>
                <a:srgbClr val="000000"/>
              </a:solidFill>
              <a:latin typeface="Verdana"/>
            </a:endParaRPr>
          </a:p>
        </p:txBody>
      </p:sp>
      <p:pic>
        <p:nvPicPr>
          <p:cNvPr id="372" name="Picture 2" descr=""/>
          <p:cNvPicPr/>
          <p:nvPr/>
        </p:nvPicPr>
        <p:blipFill>
          <a:blip r:embed="rId1"/>
          <a:stretch/>
        </p:blipFill>
        <p:spPr>
          <a:xfrm>
            <a:off x="4648320" y="1523880"/>
            <a:ext cx="4289400" cy="525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Two Ethical Controversies</a:t>
            </a:r>
            <a:endParaRPr b="0" lang="en-US" sz="4400" spc="-1" strike="noStrike">
              <a:solidFill>
                <a:srgbClr val="5a6378"/>
              </a:solidFill>
              <a:latin typeface="Verdana"/>
            </a:endParaRPr>
          </a:p>
        </p:txBody>
      </p:sp>
      <p:sp>
        <p:nvSpPr>
          <p:cNvPr id="374"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Trouble in the Tearoom – Laud Humphreys</a:t>
            </a:r>
            <a:endParaRPr b="0" lang="en-US" sz="27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udied homosexual activities in public restrooms in parks</a:t>
            </a: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er became interested in the lives of participants</a:t>
            </a: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er volunteered to become “watchqueen”</a:t>
            </a: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er collected personal information about the participants (license numbers of cars)</a:t>
            </a: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ich ethical issues are in ques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bserving Human Obedience – Stanley Milgram</a:t>
            </a:r>
            <a:endParaRPr b="0" lang="en-US" sz="29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rticipants imitated a laboratory-based World War II controversy</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rticipants were assigned job of “teacher” – to teach a list of works to the “pupil.” If the pupil got the word wrong, the teacher would administer increasing levels of shocks to the pupil.</a:t>
            </a: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ich ethical issues are in ques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he Politics of Social Research</a:t>
            </a:r>
            <a:endParaRPr b="0" lang="en-US" sz="4000" spc="-1" strike="noStrike">
              <a:solidFill>
                <a:srgbClr val="5a6378"/>
              </a:solidFill>
              <a:latin typeface="Verdana"/>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ethics of social research deal mostly with the methods employed.</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olitical issues tend to center on the substance and use of research.</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re are no formal codes of acceptable political conduct, while there are formal codes of conduct for social research.</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bjectivity and Ideolog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ience achieves </a:t>
            </a:r>
            <a:r>
              <a:rPr b="0" i="1" lang="en-US" sz="2600" spc="-1" strike="noStrike">
                <a:solidFill>
                  <a:srgbClr val="000000"/>
                </a:solidFill>
                <a:latin typeface="Verdana"/>
              </a:rPr>
              <a:t>objectivity</a:t>
            </a:r>
            <a:r>
              <a:rPr b="0" lang="en-US" sz="2600" spc="-1" strike="noStrike">
                <a:solidFill>
                  <a:srgbClr val="000000"/>
                </a:solidFill>
                <a:latin typeface="Verdana"/>
              </a:rPr>
              <a:t> through intersubjectivit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er (1925): sociology needs to be unencumbered by personal values if it is to make a special contribution to socie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2"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c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xual research</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ensu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olitics with a Little “p”</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cial research in relation to contested social issues cannot remain antiseptically objectiv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olitics in Perspective</a:t>
            </a:r>
            <a:endParaRPr b="0" lang="en-US" sz="27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ience is not untouched by politics.</a:t>
            </a:r>
            <a:endParaRPr b="0" lang="en-US" sz="24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ience does proceed in the midst of political controversy and hostility.</a:t>
            </a:r>
            <a:endParaRPr b="0" lang="en-US" sz="24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wareness of ideological considerations enriches the study and practice of social research methods.</a:t>
            </a:r>
            <a:endParaRPr b="0" lang="en-US" sz="2400" spc="-1" strike="noStrike">
              <a:solidFill>
                <a:srgbClr val="000000"/>
              </a:solidFill>
              <a:latin typeface="Verdana"/>
            </a:endParaRPr>
          </a:p>
          <a:p>
            <a:pPr lvl="1" marL="731880" indent="-457200">
              <a:lnSpc>
                <a:spcPct val="90000"/>
              </a:lnSpc>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as researchers should not let their own values interfere with the quality and honesty of the research, this does not mean that researchers cannot or should not participate in public debat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388"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5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al Issues in Social Research</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wo Ethical Controversie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Politics of Social Research</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Quick Quiz</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 _____ is a norm in which subjects base their voluntary participation in research projects on a full understanding of the possible risks involve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esearch participatio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 Hawthorne effect</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nformed consent</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 code of ethic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formed consent is a norm in which subjects base their voluntary participation in research projects on a full understanding of the possible risks involved.</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Though the norm of voluntary participation is important, it is often</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justifiably violate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ot received</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mpossible to follow</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ll of the abo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ough the norm of voluntary participation is important, it is often justifiably violated, not received, and impossible to follow.</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Ethics are </a:t>
            </a:r>
            <a:r>
              <a:rPr b="0" i="1" lang="en-US" sz="2900" spc="-1" strike="noStrike">
                <a:solidFill>
                  <a:srgbClr val="000000"/>
                </a:solidFill>
                <a:latin typeface="Verdana"/>
              </a:rPr>
              <a:t>not</a:t>
            </a:r>
            <a:r>
              <a:rPr b="0" lang="en-US" sz="2900" spc="-1" strike="noStrike">
                <a:solidFill>
                  <a:srgbClr val="000000"/>
                </a:solidFill>
                <a:latin typeface="Verdana"/>
              </a:rPr>
              <a:t> a consideration in which one of the following fields of research?</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atural sciences</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sychology</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edicine</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sociology</a:t>
            </a:r>
            <a:endParaRPr b="0" lang="en-US" sz="2900" spc="-1" strike="noStrike">
              <a:solidFill>
                <a:srgbClr val="000000"/>
              </a:solidFill>
              <a:latin typeface="Verdana"/>
            </a:endParaRPr>
          </a:p>
          <a:p>
            <a:pPr>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one of the above – they all require ethical considera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E.</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s enters in all of these fields: natural sciences, psychology, medicine, and sociolog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2" name=""/>
          <p:cNvSpPr txBox="1"/>
          <p:nvPr/>
        </p:nvSpPr>
        <p:spPr>
          <a:xfrm>
            <a:off x="612720" y="1600200"/>
            <a:ext cx="8153280" cy="44956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4. The major justification social scientists have for requesting participation in a study is that</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the respondent.</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all humanity.</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the social scientist.</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government officials make policy decisions.</a:t>
            </a:r>
            <a:endParaRPr b="0" lang="en-US" sz="27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it may help improve the educational system.</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ajor justification the social scientists has for requesting participation in a study is that it may help all humani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6" name=""/>
          <p:cNvSpPr txBox="1"/>
          <p:nvPr/>
        </p:nvSpPr>
        <p:spPr>
          <a:xfrm>
            <a:off x="612720" y="1600200"/>
            <a:ext cx="8153280" cy="44956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The controversy surrounding Laud Humphreys’ study of homosexuals suggests that he </a:t>
            </a:r>
            <a:r>
              <a:rPr b="0" i="1" lang="en-US" sz="2900" spc="-1" strike="noStrike">
                <a:solidFill>
                  <a:srgbClr val="000000"/>
                </a:solidFill>
                <a:latin typeface="Verdana"/>
              </a:rPr>
              <a:t>most</a:t>
            </a:r>
            <a:r>
              <a:rPr b="0" lang="en-US" sz="2900" spc="-1" strike="noStrike">
                <a:solidFill>
                  <a:srgbClr val="000000"/>
                </a:solidFill>
                <a:latin typeface="Verdana"/>
              </a:rPr>
              <a:t> violated which of the following ethical principles?</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nonymity and confidentiality</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harm to subjects and data reporting without identification</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cealed identify or researcher and anonymity</a:t>
            </a:r>
            <a:endParaRPr b="0" lang="en-US" sz="2900" spc="-1" strike="noStrike">
              <a:solidFill>
                <a:srgbClr val="000000"/>
              </a:solidFill>
              <a:latin typeface="Verdana"/>
            </a:endParaRPr>
          </a:p>
          <a:p>
            <a:pPr>
              <a:lnSpc>
                <a:spcPct val="9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harm to subjects and anonymi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controversy surrounding Laud Humphrey’s study of homosexuals suggest that he </a:t>
            </a:r>
            <a:r>
              <a:rPr b="0" i="1" lang="en-US" sz="2900" spc="-1" strike="noStrike">
                <a:solidFill>
                  <a:srgbClr val="000000"/>
                </a:solidFill>
                <a:latin typeface="Verdana"/>
              </a:rPr>
              <a:t>most</a:t>
            </a:r>
            <a:r>
              <a:rPr b="0" lang="en-US" sz="2900" spc="-1" strike="noStrike">
                <a:solidFill>
                  <a:srgbClr val="000000"/>
                </a:solidFill>
                <a:latin typeface="Verdana"/>
              </a:rPr>
              <a:t> violated the ethical principle of harm to subjects and anonymi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Ethical Issues in Social Research</a:t>
            </a:r>
            <a:endParaRPr b="0" lang="en-US" sz="4000" spc="-1" strike="noStrike">
              <a:solidFill>
                <a:srgbClr val="5a6378"/>
              </a:solidFill>
              <a:latin typeface="Verdana"/>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thical (Webster’s) – Conforming to the standards of conduct of a given profession or group.</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0" name=""/>
          <p:cNvSpPr txBox="1"/>
          <p:nvPr/>
        </p:nvSpPr>
        <p:spPr>
          <a:xfrm>
            <a:off x="609120" y="1676520"/>
            <a:ext cx="8153640" cy="49528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6. Which of the following is </a:t>
            </a:r>
            <a:r>
              <a:rPr b="0" i="1" lang="en-US" sz="2700" spc="-1" strike="noStrike">
                <a:solidFill>
                  <a:srgbClr val="000000"/>
                </a:solidFill>
                <a:latin typeface="Verdana"/>
              </a:rPr>
              <a:t>not</a:t>
            </a:r>
            <a:r>
              <a:rPr b="0" lang="en-US" sz="2700" spc="-1" strike="noStrike">
                <a:solidFill>
                  <a:srgbClr val="000000"/>
                </a:solidFill>
                <a:latin typeface="Verdana"/>
              </a:rPr>
              <a:t> a difference between ethical and political aspects of social research?</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thical considerations are more objective than political considerations.</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thical aspects include a professional code of ethics, whereas political aspects do not.</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thics deal more with methods, whereas political issues deal with substance.</a:t>
            </a:r>
            <a:endParaRPr b="0" lang="en-US" sz="2700" spc="-1" strike="noStrike">
              <a:solidFill>
                <a:srgbClr val="000000"/>
              </a:solidFill>
              <a:latin typeface="Verdana"/>
            </a:endParaRPr>
          </a:p>
          <a:p>
            <a:pPr>
              <a:lnSpc>
                <a:spcPct val="80000"/>
              </a:lnSpc>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r>
              <a:rPr b="0" lang="en-US" sz="2700" spc="-1" strike="noStrike">
                <a:solidFill>
                  <a:srgbClr val="000000"/>
                </a:solidFill>
                <a:latin typeface="Verdana"/>
              </a:rPr>
              <a:t>Ethical norms have been established, whereas political norms have not been established.</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A.</a:t>
            </a:r>
            <a:endParaRPr b="0" lang="en-US" sz="2900" spc="-1" strike="noStrike">
              <a:solidFill>
                <a:srgbClr val="000000"/>
              </a:solidFill>
              <a:latin typeface="Verdan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following is </a:t>
            </a:r>
            <a:r>
              <a:rPr b="0" i="1" lang="en-US" sz="2900" spc="-1" strike="noStrike">
                <a:solidFill>
                  <a:srgbClr val="000000"/>
                </a:solidFill>
                <a:latin typeface="Verdana"/>
              </a:rPr>
              <a:t>not</a:t>
            </a:r>
            <a:r>
              <a:rPr b="0" lang="en-US" sz="2900" spc="-1" strike="noStrike">
                <a:solidFill>
                  <a:srgbClr val="000000"/>
                </a:solidFill>
                <a:latin typeface="Verdana"/>
              </a:rPr>
              <a:t> a difference between ethical and political aspects of social research: Ethical considerations are more objective than political consideration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5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oluntary Participation</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 one should be forced to participat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lance of science and ethic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ssib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5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o Harm to the Participant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ople being researched should never be injured (physically, mentally, emotionally, socially, psychologicall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amples: Tuskegee Syphilis Study, Stanford Prison Experiment</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ssible to eliminate 100% of risk?</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1"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formed Consent – A norm in which subjects based their voluntary participation in research projects on a full understanding of the possible risk involved.</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urces of harm</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nonymity and Confidentiality</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onymity – Guaranteed in a research project when neither the researchers nor the readers of the findings can identify a given response with a given respondent.</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dentiality – Guaranteed when the research can identify a given person’s responses but promises not to do so public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ception</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ception within social research needs to be justified by scientific or administrative concerns.</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briefing – Interviewing subjects to learn about their experience of participation in the projec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nalysis and Reporting</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hical obligation to colleagues in the scientific community.</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results must be reported (positive and negativ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limitations must be admitt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3:36Z</dcterms:modified>
  <cp:revision>8</cp:revision>
  <dc:subject/>
  <dc:title>Slide 1</dc:title>
</cp:coreProperties>
</file>