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00BAD-9FFD-45B6-AC73-1B830BBCAC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256D6-11C9-4BC2-AAA4-BBFBE7A61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BDCDB-11D2-4A76-B96B-491CE0393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BD8B74-B761-4DEA-A82C-11D635423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611609-0DD2-4F66-9CDD-DB66B35B31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0DD082-BE59-405A-9EC3-9FF599AF14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88C7F4-3273-4991-B951-3E018F5CFA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A13478-945E-4334-BB60-E87D7897F8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8E7D2F-E0B5-4E6C-BB09-4A65F3F2A2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18052F-DE9D-48E7-BA69-1648A7AA64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6A6E3-F14C-4CA2-9A40-A98E6BDA4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8018D-BD8E-4F5A-B143-5DC3A495E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E2DAD-5780-410B-8D82-934442743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90BEC-2324-4B7E-B497-406A5AE5C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C24155-9073-43B1-897A-33187475C4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1F80FF-A310-489C-891E-DF0437AE4B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92EEB8-29F9-4901-8206-4F459162D5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CFE42C6-433E-4E7B-938B-CAF603FD4A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E06F6C0-D8B8-431F-A232-9043637960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4D2BFB5-2C3A-4FD8-AFFC-6AA788C2D5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1467026-F77C-4F0A-8527-9C3BF3899F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98BD91D-61AE-4D85-8514-EEE7A5548C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4DF71-41C7-4D77-A8B2-D07B9B508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470F87C-23D9-4A82-B2B0-8896378843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52CFE12-5D3A-449A-AC8D-2F71B62453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816BFE5-18AA-40F3-8361-FF188DD3F0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6FEC5F9-B3B8-45ED-91A5-6E9D7A22F3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F2275B8-1CC0-472A-A018-C1207C2904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2317CBF-EFFE-4BDC-9A8F-4E06EE8D60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E343503-3D9F-40DB-B1F0-F577D1FB7E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C44BED6-CD6D-4875-86A0-EB2224EF90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9E58053-F00A-4F7D-97D2-64FBA733B1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5DAC5ED-700D-4749-ADCE-488158CD99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84B1C-5086-4DC9-9730-97107F373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D7DF164-3BE7-4E76-97C5-8ABC7D8261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ED2E04F-AE26-433B-BD64-E0FF95E111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37F4043-0713-41B4-A1E5-E07C1D48B9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50F1F85-D737-4F32-BECF-7574CE96B3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DB22D09-1508-477D-A91A-8AE58DF29B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8B2FC60-ECAC-4656-9D5C-431079283D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EC2B7D2-B9ED-4C10-9A7E-208541261C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2BC0B4C-BBC9-4696-9C9D-7EE8091EFE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6264342-AA13-4D15-86D6-F104D82BBF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662B5F7-A129-4974-98BE-AAD64F9E41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6CA64-AB7A-4C91-9294-793F3D9BF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879B86E-474C-4E66-8581-7F47246272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041CF06-62A6-492D-A2EF-4E97FA69B0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A322743-9099-419A-9FBC-11281CA8AE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C08D4AD-5367-45D2-B1DB-DA775DDC64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763643F-1AAD-4CDD-B2DF-548456A02E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AC539EE-C7BC-40B9-9CC7-6C9793EFF0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9C7D528-4E8A-4627-B1CC-650AB4C222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541BCD8-89D8-4E03-A3CD-8FB97A7E8D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6C7E668-919E-42A4-BF7D-D0D2CB6B1E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58E993B-5D15-4877-8E2F-35ECD93BE9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6C2CF-82F8-4529-BFBE-1186CDCEF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380746C-FCF7-45AB-8626-659001153A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6CAB88-E1EA-4B5A-80A2-DA945AFD9D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7491B3-8DCE-4258-B5BC-253D092677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C53500-EF99-4B8A-8AF7-74620F13C7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E8ED29-0AEA-460A-9EB9-9C7BDBE7DF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36DE5D-4B37-43DF-93B5-DA2C2D3CF7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479582-3F27-45EB-A425-790FB0BB6A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546C1A-D540-4537-AB92-B230F44A11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3EA6D2-EFAC-4213-BD4A-D4C282ADA0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40A32F-54EA-4E88-AA86-CE1D5CA684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2F40C-B918-4197-AF28-47753F755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3FD19F-565A-45FB-A0D2-E0F99F9954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1D78BD-FAD1-49B2-B65E-12CD924A641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337C6E-EEFB-48B7-BF55-16D673B1D8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868E313-B996-40DC-B254-B3EDFDF603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EE594C9-D9FA-47E0-9025-0DCE2D1983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F8D0F61-36D4-4CD5-ABB2-517CFF154B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7E86788-B706-4AD6-B8CE-D063D12AC9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CEF3066-6CDA-4022-BD12-9D4A6DD0D6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984417B-028C-4E23-833B-C766CD031E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FCE1E88-7BC8-48C1-8FB5-30D8175E42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54F1A-5477-4974-B315-745341963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80924D8-D465-4B66-879B-3A9DCE2DD2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AE05205-D455-4F9E-8F8C-31CFA6DD32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8AFAADE-E56A-4B8C-B97F-7F198C31E3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4C58346-7AD8-4547-8BC5-5BA4F8203D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42631D5-3F5E-4259-8C10-FF9A58584A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B7D31B-F3EA-4902-8E1E-D242C71EB3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EF1490-CE3C-4900-AFE6-FD3DD200C8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915895-FA08-4FFD-BF5B-0307C3E4BF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C81FC6-2E58-4557-A17C-422DE4D181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83AD9A-56DF-4AE3-A6EF-4929960652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9CB91-39FC-4EEA-BFD3-18300CEE5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EDDB2E-2434-4386-95E3-8406FE4147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668A56-C5B9-4CA5-BCCD-0534E57C1E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407FE5-DDD0-49BD-A6AE-BEAFB15BE1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E4FF63-7D11-43DB-8EFA-D87F0C2200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907342-992A-45DD-A5B2-3BA8619555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F112C5-9D80-44AD-93B6-9ABCDA3600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284B0C-D484-429F-AB8A-1DCAF66127F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D246E-8F17-4A2F-B589-AA15C8689398}"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6378"/>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edit the title text format</a:t>
            </a:r>
            <a:endParaRPr b="0" lang="en-US" sz="4400" spc="-1" strike="noStrike">
              <a:solidFill>
                <a:srgbClr val="d4d4d6"/>
              </a:solidFill>
              <a:latin typeface="Verdana"/>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Click to edit the outline text format</a:t>
            </a:r>
            <a:endParaRPr b="0" lang="en-US" sz="2900" spc="-1" strike="noStrike">
              <a:solidFill>
                <a:srgbClr val="ffffff"/>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cond Outline Level</a:t>
            </a:r>
            <a:endParaRPr b="0" lang="en-US" sz="2900" spc="-1" strike="noStrike">
              <a:solidFill>
                <a:srgbClr val="ffffff"/>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Third Outline Level</a:t>
            </a:r>
            <a:endParaRPr b="0" lang="en-US" sz="2900" spc="-1" strike="noStrike">
              <a:solidFill>
                <a:srgbClr val="ffffff"/>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ourth Outline Level</a:t>
            </a:r>
            <a:endParaRPr b="0" lang="en-US" sz="2900" spc="-1" strike="noStrike">
              <a:solidFill>
                <a:srgbClr val="ffffff"/>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ifth Outline Level</a:t>
            </a:r>
            <a:endParaRPr b="0" lang="en-US" sz="2900" spc="-1" strike="noStrike">
              <a:solidFill>
                <a:srgbClr val="ffffff"/>
              </a:solidFill>
              <a:latin typeface="Verdana"/>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ixth Outline Level</a:t>
            </a:r>
            <a:endParaRPr b="0" lang="en-US" sz="2900" spc="-1" strike="noStrike">
              <a:solidFill>
                <a:srgbClr val="ffffff"/>
              </a:solidFill>
              <a:latin typeface="Verdana"/>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venth Outline Level</a:t>
            </a:r>
            <a:endParaRPr b="0" lang="en-US" sz="2900" spc="-1" strike="noStrike">
              <a:solidFill>
                <a:srgbClr val="ffffff"/>
              </a:solidFill>
              <a:latin typeface="Verdana"/>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4d4d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D8BA1-D632-4B84-8FF4-90F3C9093530}" type="slidenum">
              <a:rPr b="1" lang="en-US" sz="1400" spc="-1" strike="noStrike">
                <a:solidFill>
                  <a:srgbClr val="d4d4d6"/>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600200"/>
            <a:ext cx="1295280" cy="9907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1371600" y="1600200"/>
            <a:ext cx="7772400" cy="9907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A3FD7-9500-4645-9626-FDED0547E629}" type="slidenum">
              <a:rPr b="1" lang="en-US" sz="2400" spc="-1" strike="noStrike">
                <a:solidFill>
                  <a:srgbClr val="ffffff"/>
                </a:solidFill>
                <a:latin typeface="Verdana"/>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5D055-4CE3-49B2-948E-01FD5346A30B}"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A6668-41C3-4FD2-95BD-AB084EA800C8}"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5a6378"/>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49899-C843-4DE0-82C5-1932DE480623}" type="slidenum">
              <a:rPr b="1" lang="en-US" sz="1400" spc="-1" strike="noStrike">
                <a:solidFill>
                  <a:srgbClr val="5a6378"/>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9360" y="4664160"/>
            <a:ext cx="146340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9"/>
          <p:cNvSpPr/>
          <p:nvPr/>
        </p:nvSpPr>
        <p:spPr>
          <a:xfrm>
            <a:off x="1544760" y="4654440"/>
            <a:ext cx="7599240" cy="7128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0077E-47D5-4D2F-A3EE-2F081A4B9A2F}" type="slidenum">
              <a:rPr b="1" lang="en-US" sz="2800" spc="-1" strike="noStrike">
                <a:solidFill>
                  <a:srgbClr val="ffffff"/>
                </a:solidFill>
                <a:latin typeface="Verdana"/>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a:off x="6141960" y="609480"/>
            <a:ext cx="228600" cy="62485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6141960" y="0"/>
            <a:ext cx="228600" cy="5335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F24D8-1BF6-4C36-9713-9EDA80068648}"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4d4d6"/>
                </a:solidFill>
                <a:latin typeface="Verdana"/>
              </a:rPr>
              <a:t>CHAPTER 3, THE ETHICS AND POLITICS OF SOCIAL RESEARCH</a:t>
            </a:r>
            <a:endParaRPr b="0" lang="en-US" sz="4000" spc="-1" strike="noStrike">
              <a:solidFill>
                <a:srgbClr val="d4d4d6"/>
              </a:solidFill>
              <a:latin typeface="Verdana"/>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stitutional Review Boards – A panel of faculty who review all research proposals involving human subjects so that they can guarantee that the subjects’ rights and interests will be protected.</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cep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fessional Code </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of Ethics</a:t>
            </a:r>
            <a:endParaRPr b="0" lang="en-US" sz="2900" spc="-1" strike="noStrike">
              <a:solidFill>
                <a:srgbClr val="000000"/>
              </a:solidFill>
              <a:latin typeface="Verdana"/>
            </a:endParaRPr>
          </a:p>
        </p:txBody>
      </p:sp>
      <p:pic>
        <p:nvPicPr>
          <p:cNvPr id="372" name="Picture 2" descr=""/>
          <p:cNvPicPr/>
          <p:nvPr/>
        </p:nvPicPr>
        <p:blipFill>
          <a:blip r:embed="rId1"/>
          <a:stretch/>
        </p:blipFill>
        <p:spPr>
          <a:xfrm>
            <a:off x="4648320" y="1523880"/>
            <a:ext cx="4289400" cy="525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Two Ethical Controversies</a:t>
            </a:r>
            <a:endParaRPr b="0" lang="en-US" sz="4400" spc="-1" strike="noStrike">
              <a:solidFill>
                <a:srgbClr val="5a6378"/>
              </a:solidFill>
              <a:latin typeface="Verdana"/>
            </a:endParaRPr>
          </a:p>
        </p:txBody>
      </p:sp>
      <p:sp>
        <p:nvSpPr>
          <p:cNvPr id="374"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Trouble in the Tearoom – Laud Humphreys</a:t>
            </a:r>
            <a:endParaRPr b="0" lang="en-US" sz="27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ied homosexual activities in public restrooms in parks</a:t>
            </a:r>
            <a:endParaRPr b="0" lang="en-US" sz="24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archer became interested in the lives of participants</a:t>
            </a:r>
            <a:endParaRPr b="0" lang="en-US" sz="24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archer volunteered to become “watchqueen”</a:t>
            </a:r>
            <a:endParaRPr b="0" lang="en-US" sz="24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archer collected personal information about the participants (license numbers of cars)</a:t>
            </a:r>
            <a:endParaRPr b="0" lang="en-US" sz="24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ich ethical issues are in ques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6"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Observing Human Obedience – Stanley Milgram</a:t>
            </a:r>
            <a:endParaRPr b="0" lang="en-US" sz="29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rticipants imitated a laboratory-based World War II controversy</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rticipants were assigned job of “teacher” – to teach a list of works to the “pupil.” If the pupil got the word wrong, the teacher would administer increasing levels of shocks to the pupil.</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ich ethical issues are in ques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The Politics of Social Research</a:t>
            </a:r>
            <a:endParaRPr b="0" lang="en-US" sz="4000" spc="-1" strike="noStrike">
              <a:solidFill>
                <a:srgbClr val="5a6378"/>
              </a:solidFill>
              <a:latin typeface="Verdana"/>
            </a:endParaRPr>
          </a:p>
        </p:txBody>
      </p:sp>
      <p:sp>
        <p:nvSpPr>
          <p:cNvPr id="37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ethics of social research deal mostly with the methods employed.</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olitical issues tend to center on the substance and use of research.</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re are no formal codes of acceptable political conduct, while there are formal codes of conduct for social research.</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Objectivity and Ideolog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cience achieves </a:t>
            </a:r>
            <a:r>
              <a:rPr b="0" i="1" lang="en-US" sz="2600" spc="-1" strike="noStrike">
                <a:solidFill>
                  <a:srgbClr val="000000"/>
                </a:solidFill>
                <a:latin typeface="Verdana"/>
              </a:rPr>
              <a:t>objectivity</a:t>
            </a:r>
            <a:r>
              <a:rPr b="0" lang="en-US" sz="2600" spc="-1" strike="noStrike">
                <a:solidFill>
                  <a:srgbClr val="000000"/>
                </a:solidFill>
                <a:latin typeface="Verdana"/>
              </a:rPr>
              <a:t> through intersubjectivity.</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er (1925): sociology needs to be unencumbered by personal values if it is to make a special contribution to socie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2"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c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xual research</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ensu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olitics with a Little “p”</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cial research in relation to contested social issues cannot remain antiseptically objectiv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6"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Politics in Perspective</a:t>
            </a:r>
            <a:endParaRPr b="0" lang="en-US" sz="27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ience is not untouched by politics.</a:t>
            </a:r>
            <a:endParaRPr b="0" lang="en-US" sz="24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ience does proceed in the midst of political controversy and hostility.</a:t>
            </a:r>
            <a:endParaRPr b="0" lang="en-US" sz="24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wareness of ideological considerations enriches the study and practice of social research methods.</a:t>
            </a:r>
            <a:endParaRPr b="0" lang="en-US" sz="24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reas researchers should not let their own values interfere with the quality and honesty of the research, this does not mean that researchers cannot or should not participate in public debat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6378"/>
              </a:solidFill>
              <a:latin typeface="Verdana"/>
            </a:endParaRPr>
          </a:p>
        </p:txBody>
      </p:sp>
      <p:sp>
        <p:nvSpPr>
          <p:cNvPr id="388"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Quick Quiz</a:t>
            </a:r>
            <a:endParaRPr b="0" lang="en-US" sz="4400" spc="-1" strike="noStrike">
              <a:solidFill>
                <a:srgbClr val="5a6378"/>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hapter Outline</a:t>
            </a:r>
            <a:endParaRPr b="0" lang="en-US" sz="4400" spc="-1" strike="noStrike">
              <a:solidFill>
                <a:srgbClr val="5a6378"/>
              </a:solidFill>
              <a:latin typeface="Verdana"/>
            </a:endParaRPr>
          </a:p>
        </p:txBody>
      </p:sp>
      <p:sp>
        <p:nvSpPr>
          <p:cNvPr id="35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thical Issues in Social Research</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wo Ethical Controversie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Politics of Social Research</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ick Quiz</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0"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1. _____ is a norm in which subjects base their voluntary participation in research projects on a full understanding of the possible risks involved.</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Research participation</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The Hawthorne effect</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Informed consent</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The code of ethic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C.</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formed consent is a norm in which subjects base their voluntary participation in research projects on a full understanding of the possible risks involved.</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4"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 Though the norm of voluntary participation is important, it is often</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justifiably violated</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not received</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impossible to follow</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ll of the abov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ough the norm of voluntary participation is important, it is often justifiably violated, not received, and impossible to follow.</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8"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3. Ethics are </a:t>
            </a:r>
            <a:r>
              <a:rPr b="0" i="1" lang="en-US" sz="2900" spc="-1" strike="noStrike">
                <a:solidFill>
                  <a:srgbClr val="000000"/>
                </a:solidFill>
                <a:latin typeface="Verdana"/>
              </a:rPr>
              <a:t>not</a:t>
            </a:r>
            <a:r>
              <a:rPr b="0" lang="en-US" sz="2900" spc="-1" strike="noStrike">
                <a:solidFill>
                  <a:srgbClr val="000000"/>
                </a:solidFill>
                <a:latin typeface="Verdana"/>
              </a:rPr>
              <a:t> a consideration in which one of the following fields of research?</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natural science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sychology</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edicine</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sociology</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None of the above – they all require ethical consideration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E.</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thics enters in all of these fields: natural sciences, psychology, medicine, and sociolog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2" name=""/>
          <p:cNvSpPr txBox="1"/>
          <p:nvPr/>
        </p:nvSpPr>
        <p:spPr>
          <a:xfrm>
            <a:off x="612720" y="1600200"/>
            <a:ext cx="8153280" cy="449568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4. The major justification social scientists have for requesting participation in a study is that</a:t>
            </a:r>
            <a:endParaRPr b="0" lang="en-US" sz="27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it may help the respondent.</a:t>
            </a:r>
            <a:endParaRPr b="0" lang="en-US" sz="27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it may help all humanity.</a:t>
            </a:r>
            <a:endParaRPr b="0" lang="en-US" sz="27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it may help the social scientist.</a:t>
            </a:r>
            <a:endParaRPr b="0" lang="en-US" sz="27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it may help government officials make policy decisions.</a:t>
            </a:r>
            <a:endParaRPr b="0" lang="en-US" sz="27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it may help improve the educational system.</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major justification the social scientists has for requesting participation in a study is that it may help all humanit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6" name=""/>
          <p:cNvSpPr txBox="1"/>
          <p:nvPr/>
        </p:nvSpPr>
        <p:spPr>
          <a:xfrm>
            <a:off x="612720" y="1600200"/>
            <a:ext cx="8153280" cy="449568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5. The controversy surrounding Laud Humphreys’ study of homosexuals suggests that he </a:t>
            </a:r>
            <a:r>
              <a:rPr b="0" i="1" lang="en-US" sz="2900" spc="-1" strike="noStrike">
                <a:solidFill>
                  <a:srgbClr val="000000"/>
                </a:solidFill>
                <a:latin typeface="Verdana"/>
              </a:rPr>
              <a:t>most</a:t>
            </a:r>
            <a:r>
              <a:rPr b="0" lang="en-US" sz="2900" spc="-1" strike="noStrike">
                <a:solidFill>
                  <a:srgbClr val="000000"/>
                </a:solidFill>
                <a:latin typeface="Verdana"/>
              </a:rPr>
              <a:t> violated which of the following ethical principles?</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nonymity and confidentiality</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harm to subjects and data reporting without identification</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ncealed identify or researcher and anonymity</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harm to subjects and anonymit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controversy surrounding Laud Humphrey’s study of homosexuals suggest that he </a:t>
            </a:r>
            <a:r>
              <a:rPr b="0" i="1" lang="en-US" sz="2900" spc="-1" strike="noStrike">
                <a:solidFill>
                  <a:srgbClr val="000000"/>
                </a:solidFill>
                <a:latin typeface="Verdana"/>
              </a:rPr>
              <a:t>most</a:t>
            </a:r>
            <a:r>
              <a:rPr b="0" lang="en-US" sz="2900" spc="-1" strike="noStrike">
                <a:solidFill>
                  <a:srgbClr val="000000"/>
                </a:solidFill>
                <a:latin typeface="Verdana"/>
              </a:rPr>
              <a:t> violated the ethical principle of harm to subjects and anonymit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Ethical Issues in Social Research</a:t>
            </a:r>
            <a:endParaRPr b="0" lang="en-US" sz="4000" spc="-1" strike="noStrike">
              <a:solidFill>
                <a:srgbClr val="5a6378"/>
              </a:solidFill>
              <a:latin typeface="Verdana"/>
            </a:endParaRPr>
          </a:p>
        </p:txBody>
      </p:sp>
      <p:sp>
        <p:nvSpPr>
          <p:cNvPr id="35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thical (Webster’s) – Conforming to the standards of conduct of a given profession or group.</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0" name=""/>
          <p:cNvSpPr txBox="1"/>
          <p:nvPr/>
        </p:nvSpPr>
        <p:spPr>
          <a:xfrm>
            <a:off x="609120" y="1676520"/>
            <a:ext cx="8153640" cy="495288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6. Which of the following is </a:t>
            </a:r>
            <a:r>
              <a:rPr b="0" i="1" lang="en-US" sz="2700" spc="-1" strike="noStrike">
                <a:solidFill>
                  <a:srgbClr val="000000"/>
                </a:solidFill>
                <a:latin typeface="Verdana"/>
              </a:rPr>
              <a:t>not</a:t>
            </a:r>
            <a:r>
              <a:rPr b="0" lang="en-US" sz="2700" spc="-1" strike="noStrike">
                <a:solidFill>
                  <a:srgbClr val="000000"/>
                </a:solidFill>
                <a:latin typeface="Verdana"/>
              </a:rPr>
              <a:t> a difference between ethical and political aspects of social research?</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Ethical considerations are more objective than political considerations.</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Ethical aspects include a professional code of ethics, whereas political aspects do not.</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Ethics deal more with methods, whereas political issues deal with substance.</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Ethical norms have been established, whereas political norms have not been established.</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A.</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following is </a:t>
            </a:r>
            <a:r>
              <a:rPr b="0" i="1" lang="en-US" sz="2900" spc="-1" strike="noStrike">
                <a:solidFill>
                  <a:srgbClr val="000000"/>
                </a:solidFill>
                <a:latin typeface="Verdana"/>
              </a:rPr>
              <a:t>not</a:t>
            </a:r>
            <a:r>
              <a:rPr b="0" lang="en-US" sz="2900" spc="-1" strike="noStrike">
                <a:solidFill>
                  <a:srgbClr val="000000"/>
                </a:solidFill>
                <a:latin typeface="Verdana"/>
              </a:rPr>
              <a:t> a difference between ethical and political aspects of social research: Ethical considerations are more objective than political consideration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5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Voluntary Participation</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o one should be forced to participat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lance of science and ethics?</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ssib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5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No Harm to the Participants</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ople being researched should never be injured (physically, mentally, emotionally, socially, psychologically).</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amples: Tuskegee Syphilis Study, Stanford Prison Experiment</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ssible to eliminate 100% of risk?</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1"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formed Consent – A norm in which subjects based their voluntary participation in research projects on a full understanding of the possible risk involved.</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urces of harm</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nonymity and Confidentialit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onymity – Guaranteed in a research project when neither the researchers nor the readers of the findings can identify a given response with a given respondent.</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dentiality – Guaranteed when the research can identify a given person’s responses but promises not to do so public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ception</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ception within social research needs to be justified by scientific or administrative concerns.</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briefing – Interviewing subjects to learn about their experience of participation in the projec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nalysis and Reporting</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hical obligation to colleagues in the scientific community.</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results must be reported (positive and negativ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limitations must be admitt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17:02:08Z</dcterms:created>
  <dc:creator>AKO</dc:creator>
  <dc:description/>
  <dc:language>en-US</dc:language>
  <cp:lastModifiedBy>carrie tucek</cp:lastModifiedBy>
  <dcterms:modified xsi:type="dcterms:W3CDTF">2016-01-20T05:13:36Z</dcterms:modified>
  <cp:revision>8</cp:revision>
  <dc:subject/>
  <dc:title>Slide 1</dc:title>
</cp:coreProperties>
</file>