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DD606-26CB-420B-9C48-A2F25ADC5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58284-60D2-49AF-88DD-2027F6A85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2E5BE-1D72-48BF-ADB4-4DCE0CD80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3A221-4C5B-48A0-A03C-2475EFDE7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52152-55A4-4F44-B552-20D7DCD22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20D69-FD6F-49B1-A3CD-982DF76D0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24E5E-F99B-4523-B904-48AA4EF3A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2A56F-BBB9-40F9-ADF3-51DF1B8E3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61EDA-8C9C-4FCA-80BC-B12CC9926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CE809-5E52-44F5-9682-3560BE7C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7C7AF-3AB6-4BFE-B5E2-F33C262A7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6023B-662D-4690-93DB-D96A3A1E5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2823C-5252-4528-8A00-B2A304E00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D35F5-104C-4DE5-89D8-910EB618B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2155B-A30E-4B7E-A313-12CDEF992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E85A5-3927-4B21-A7E0-EF521CC67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53154-4889-4FB5-97A4-597CF6DF0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6EF809B-563C-4474-81D1-4E099D65A7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EA4CEE-0F76-4C00-AB93-62F8CCBB4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49EAE5-E378-469A-9181-CA188A88F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FA23C3-1AB5-4465-BDCE-BD1AF7D06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59A8AE-4C4F-40E8-9D18-966B10C56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0AFDA-655B-40E5-8F08-9FD276AF9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2648E6-1607-45D1-8304-4040FD4F5C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294001-407E-4527-948F-8923DC07D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CD6E31-141C-41BA-B9B2-3D60D56BB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29B8C6-391B-40B7-ACFC-23EE5064F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3E5694-C387-4F15-B7AC-D5A25680F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E828178-32D9-49C3-BA8A-2249F25DFD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EF49C26-9FBB-446A-8CE5-AB31BE13FE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F64B761-7DCA-46D6-A242-4A4AF300D8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6512BA-064B-4D8F-AB23-F803F4C580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03850AE-42A2-4640-882D-86882D7A3E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8D81-912F-44BB-8FF6-40DCE382C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A26F5F-E836-4CB7-8EFD-9E7ADEC44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60E5FF-C5CC-4FE9-AFBF-07726B454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616A4DC-9E2D-46FB-937D-03063E21C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24A41D-DA22-47E1-AAF6-B1EE45312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AEB7E9-93C0-42F1-B6D2-EEBBD7DEF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A6380EB-1C0B-4D05-9940-79F805631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5FC618-744E-494D-AC25-54CED246B1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A60BC0B-4A6A-4207-98C4-B3EFAFAD73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22579DB-81FB-4F50-9136-FF28832157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74CB7DA-7601-444B-BAC6-73CA84CA6F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EA71E-370B-41E8-9BAC-92F67AA62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1ED80D-288C-4D91-81A8-93E06E95CC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AD1DC0-106F-4329-8B01-C485893968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F6C900-7A96-4532-B3B9-4DCE35773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CB4A370-967E-4271-B824-59797A41FE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56AD77-320B-4B12-B278-7148251B3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CB5C1A-972E-4242-A05F-73CB4184C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EE2CB3-49F1-447B-985D-197A49B3B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A90EF6-8E58-46E5-8789-C54FE56D4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E91470-3ADF-4617-8805-6E54A9A1EB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78002FD-BFCE-44D9-AA10-2C84895011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9355A-335B-495F-AE4D-A77B251F4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58EA495-B81F-44C9-B666-0A274EA6A7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E5BF91-10A1-4439-85CB-C1BD2DA03F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EE61D0-50F0-4E53-92F9-65FE2A4811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9CF822-99A4-4662-99F1-F96417F178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CA5572-BB3C-441E-9F29-861CCF7B9F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B3DFA9-972B-4889-AD25-C4AF46A972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DA3149-A5B6-450C-BF46-EE131A2DEB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C39F64-84EA-4590-A67C-171F239AF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CD2D8-8FEA-48BE-971A-A10EEF170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0D7F09-665B-48BF-8FCD-CA98BE8B9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6B44-8BD8-499E-905A-9B058285D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0832F2-A206-4D39-836D-7892C3FF3F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ECA00D-64EE-45DB-89EF-8D7B1837BE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2A9AC4-BB02-4755-A744-567DBF8BE5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3771086-A830-4193-B780-3CF2B15B09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FE971F-0948-43FC-BD74-E213EC5263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E028886-A813-4F0B-8597-A051F18AC1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F641B94-0EDA-4FEE-B6CC-66492D35B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E62EA6-DA2C-40E9-AF7F-63378DE7F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9E48714-CA98-49D4-B0E8-753D15FB9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928EA2-2F95-4426-9624-6D901C9FC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71A9-25F1-479A-AA00-FE567D0C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8C353F-45D8-48D9-8668-52CFA2208D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B742F9-70C5-4AC4-AF98-F2D00B57B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6CEEFE0-E93D-4B78-8712-0A7D0EF327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EA6C5BC-6B1A-410F-903C-78B66620A3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C1AC80B-1118-4401-8F3D-62B75B5D2C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17A88D-EBD0-4CEE-988F-3C2C3341CB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BF09AC-DD0B-4BDC-AF36-0505780C0C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3566AA-3193-4C57-BAD8-91336209A1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1FF762-0EF4-4BDC-9918-B14DD65248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6D2D79-96E5-4270-BA86-F0874AE62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7090B-899A-4DAC-908A-9F2CA7124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5CC689-6BE7-46D8-91AB-1A95F9F9E8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77416-F24E-4355-9612-C80D20524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52685-CA3F-4B7C-B7D2-4FE0611C9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68D9A-61DA-4821-B3DA-98ED3CE044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447FA-9451-409C-934A-4A9BA688B8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91B6E7-66EF-4E3B-95CA-9D79F00EF3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895559-B9D7-43C9-92A6-8867CC15D2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84EF-2D08-42F0-A2A5-DA4727B79F8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E061-CB21-41F7-B825-84288EABD72A}"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889D-B0D4-4A65-A1E7-CE63EAAA23C1}"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7860-FB0C-4102-A572-B7E7454B06B1}"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7143-6A0D-4F9F-859C-1D8C4539266B}"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935D-423B-48EC-BC0B-EADAD52A1F17}"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E558-B3C3-4CAA-90B8-14CE107E78CF}"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13B3-660F-422C-8F27-60F87402D7F4}"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3, THE ETHICS AND POLITICS OF SOCIAL RESEARCH</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stitutional Review Boards – A panel of faculty who review all research proposals involving human subjects so that they can guarantee that the subjects’ rights and interests will be protecte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p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fessional Code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f Ethics</a:t>
            </a:r>
            <a:endParaRPr b="0" lang="en-US" sz="2900" spc="-1" strike="noStrike">
              <a:solidFill>
                <a:srgbClr val="000000"/>
              </a:solidFill>
              <a:latin typeface="Verdana"/>
            </a:endParaRPr>
          </a:p>
        </p:txBody>
      </p:sp>
      <p:pic>
        <p:nvPicPr>
          <p:cNvPr id="372" name="Picture 2" descr=""/>
          <p:cNvPicPr/>
          <p:nvPr/>
        </p:nvPicPr>
        <p:blipFill>
          <a:blip r:embed="rId1"/>
          <a:stretch/>
        </p:blipFill>
        <p:spPr>
          <a:xfrm>
            <a:off x="4648320" y="1523880"/>
            <a:ext cx="428940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wo Ethical Controversies</a:t>
            </a:r>
            <a:endParaRPr b="0" lang="en-US" sz="4400" spc="-1" strike="noStrike">
              <a:solidFill>
                <a:srgbClr val="5a6378"/>
              </a:solidFill>
              <a:latin typeface="Verdana"/>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rouble in the Tearoom – Laud Humphreys</a:t>
            </a:r>
            <a:endParaRPr b="0" lang="en-US" sz="27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d homosexual activities in public restrooms in park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became interested in the lives of participant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volunteered to become “watchqueen”</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collected personal information about the participants (license numbers of car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ethical issues are in que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Human Obedience – Stanley Milgram</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imitated a laboratory-based World War II controversy</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were assigned job of “teacher” – to teach a list of works to the “pupil.” If the pupil got the word wrong, the teacher would administer increasing levels of shocks to the pupil.</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ich ethical issues are in ques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Politics of Social Research</a:t>
            </a:r>
            <a:endParaRPr b="0" lang="en-US" sz="4000" spc="-1" strike="noStrike">
              <a:solidFill>
                <a:srgbClr val="5a6378"/>
              </a:solidFill>
              <a:latin typeface="Verdana"/>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ethics of social research deal mostly with the methods employ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issues tend to center on the substance and use of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re are no formal codes of acceptable political conduct, while there are formal codes of conduct for social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jectivity and Ide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ience achieves </a:t>
            </a:r>
            <a:r>
              <a:rPr b="0" i="1" lang="en-US" sz="2600" spc="-1" strike="noStrike">
                <a:solidFill>
                  <a:srgbClr val="000000"/>
                </a:solidFill>
                <a:latin typeface="Verdana"/>
              </a:rPr>
              <a:t>objectivity</a:t>
            </a:r>
            <a:r>
              <a:rPr b="0" lang="en-US" sz="2600" spc="-1" strike="noStrike">
                <a:solidFill>
                  <a:srgbClr val="000000"/>
                </a:solidFill>
                <a:latin typeface="Verdana"/>
              </a:rPr>
              <a:t> through intersubjectiv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er (1925): sociology needs to be unencumbered by personal values if it is to make a special contribution to socie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xual resear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ensu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s with a Little “p”</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cial research in relation to contested social issues cannot remain antiseptically objecti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olitics in Perspective</a:t>
            </a:r>
            <a:endParaRPr b="0" lang="en-US" sz="27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is not untouched by politic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does proceed in the midst of political controversy and hostility.</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wareness of ideological considerations enriches the study and practice of social research method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as researchers should not let their own values interfere with the quality and honesty of the research, this does not mean that researchers cannot or should not participate in public deba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8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Issues in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Ethical Controvers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olitics of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 norm in which subjects base their voluntary participation in research projects on a full understanding of the possible risks invol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search particip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Hawthorne effe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formed consen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code of ethic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formed consent is a norm in which subjects base their voluntary participation in research projects on a full understanding of the possible risks involv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ough the norm of voluntary participation is important, it is ofte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justifiably viola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t recei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mpossible to follow</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ough the norm of voluntary participation is important, it is often justifiably violated, not received, and impossible to foll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Ethics are </a:t>
            </a:r>
            <a:r>
              <a:rPr b="0" i="1" lang="en-US" sz="2900" spc="-1" strike="noStrike">
                <a:solidFill>
                  <a:srgbClr val="000000"/>
                </a:solidFill>
                <a:latin typeface="Verdana"/>
              </a:rPr>
              <a:t>not</a:t>
            </a:r>
            <a:r>
              <a:rPr b="0" lang="en-US" sz="2900" spc="-1" strike="noStrike">
                <a:solidFill>
                  <a:srgbClr val="000000"/>
                </a:solidFill>
                <a:latin typeface="Verdana"/>
              </a:rPr>
              <a:t> a consideration in which one of the following fields of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atural scienc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sych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cin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oci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 – they all require eth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E.</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enters in all of these fields: natural sciences, psychology, medicine, and sociolog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4. The major justification social scientists have for requesting participation in a study is tha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responden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all humanity.</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social scientis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government officials make policy decisions.</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improve the educational syste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jor justification the social scientists has for requesting participation in a study is that it may help all human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The controversy surrounding Laud Humphreys’ study of homosexuals suggests that he </a:t>
            </a:r>
            <a:r>
              <a:rPr b="0" i="1" lang="en-US" sz="2900" spc="-1" strike="noStrike">
                <a:solidFill>
                  <a:srgbClr val="000000"/>
                </a:solidFill>
                <a:latin typeface="Verdana"/>
              </a:rPr>
              <a:t>most</a:t>
            </a:r>
            <a:r>
              <a:rPr b="0" lang="en-US" sz="2900" spc="-1" strike="noStrike">
                <a:solidFill>
                  <a:srgbClr val="000000"/>
                </a:solidFill>
                <a:latin typeface="Verdana"/>
              </a:rPr>
              <a:t> violated which of the following ethical princip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data reporting without identifica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cealed identify or researcher and anonym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ontroversy surrounding Laud Humphrey’s study of homosexuals suggest that he </a:t>
            </a:r>
            <a:r>
              <a:rPr b="0" i="1" lang="en-US" sz="2900" spc="-1" strike="noStrike">
                <a:solidFill>
                  <a:srgbClr val="000000"/>
                </a:solidFill>
                <a:latin typeface="Verdana"/>
              </a:rPr>
              <a:t>most</a:t>
            </a:r>
            <a:r>
              <a:rPr b="0" lang="en-US" sz="2900" spc="-1" strike="noStrike">
                <a:solidFill>
                  <a:srgbClr val="000000"/>
                </a:solidFill>
                <a:latin typeface="Verdana"/>
              </a:rPr>
              <a:t> violated the ethical principle of 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thical Issues in Social Research</a:t>
            </a:r>
            <a:endParaRPr b="0" lang="en-US" sz="40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Webster’s) – Conforming to the standards of conduct of a given profession or grou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0" name=""/>
          <p:cNvSpPr txBox="1"/>
          <p:nvPr/>
        </p:nvSpPr>
        <p:spPr>
          <a:xfrm>
            <a:off x="609120" y="1676520"/>
            <a:ext cx="8153640" cy="4952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 Which of the following is </a:t>
            </a:r>
            <a:r>
              <a:rPr b="0" i="1" lang="en-US" sz="2700" spc="-1" strike="noStrike">
                <a:solidFill>
                  <a:srgbClr val="000000"/>
                </a:solidFill>
                <a:latin typeface="Verdana"/>
              </a:rPr>
              <a:t>not</a:t>
            </a:r>
            <a:r>
              <a:rPr b="0" lang="en-US" sz="2700" spc="-1" strike="noStrike">
                <a:solidFill>
                  <a:srgbClr val="000000"/>
                </a:solidFill>
                <a:latin typeface="Verdana"/>
              </a:rPr>
              <a:t> a difference between ethical and political aspects of social research?</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considerations are more objective than political considerations.</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aspects include a professional code of ethics, whereas political aspects do not.</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s deal more with methods, whereas political issues deal with substanc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norms have been established, whereas political norms have not been established.</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a:t>
            </a:r>
            <a:r>
              <a:rPr b="0" i="1" lang="en-US" sz="2900" spc="-1" strike="noStrike">
                <a:solidFill>
                  <a:srgbClr val="000000"/>
                </a:solidFill>
                <a:latin typeface="Verdana"/>
              </a:rPr>
              <a:t>not</a:t>
            </a:r>
            <a:r>
              <a:rPr b="0" lang="en-US" sz="2900" spc="-1" strike="noStrike">
                <a:solidFill>
                  <a:srgbClr val="000000"/>
                </a:solidFill>
                <a:latin typeface="Verdana"/>
              </a:rPr>
              <a:t> a difference between ethical and political aspects of social research: Ethical considerations are more objective than polit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oluntary Participa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one should be forced to participat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lance of science and ethic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Harm to the Participant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ople being researched should never be injured (physically, mentally, emotionally, socially, psycholog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s: Tuskegee Syphilis Study, Stanford Prison Experim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 to eliminate 100% of ris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rmed Consent – A norm in which subjects based their voluntary participation in research projects on a full understanding of the possible risk involv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rces of ha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onymity – Guaranteed in a research project when neither the researchers nor the readers of the findings can identify a given response with a given respond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dentiality – Guaranteed when the research can identify a given person’s responses but promises not to do so public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cep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eption within social research needs to be justified by scientific or administrative concern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briefing – Interviewing subjects to learn about their experience of participation in the proje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alysis and Repor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ical obligation to colleagues in the scientific commun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results must be reported (positive and nega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limitations must be admit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36Z</dcterms:modified>
  <cp:revision>8</cp:revision>
  <dc:subject/>
  <dc:title>Slide 1</dc:title>
</cp:coreProperties>
</file>