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FC8-3BC1-4A2F-9830-674ADF7C7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815D-6E39-45B2-B71F-6E5F6AE6D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A7A-6B4E-406D-A506-C7AF55E49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1FD6-3204-4C27-A6A5-12E253A01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B0C8-175B-46D8-8645-8E80CA625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F1F4-EE92-4C03-BC02-C71B952DD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9D1D-A4E1-4E1D-B624-5FBFB9740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0473-B5FE-4A45-8EA8-A469664F1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EA4-8AE7-4F81-9879-DFC36CCC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DE2-70CD-4AFC-B821-D3A94C32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812-7A12-4843-B1A4-71293BBC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147-5E48-4750-B6E7-85C928D6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21B4-8133-439E-B438-0C1D5D92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A36D-E9C3-4FF0-9965-7CB782AC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946A-91AE-4F98-831F-12CF7B8C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C624-DA8B-4F33-B220-39CDF7D6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9D1-7DBA-4A8D-8BE8-BD85FC31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987A-4388-4EE3-9CE3-0FDD4F20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6650-8A4D-482D-9B19-154C4CC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1B4-0CBA-4DE1-AE78-BAFA9EC2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1F54-F8CA-4535-86CE-BB5630FC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0E09-4CFC-4804-A009-9AB5E3D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6C38-094B-4441-9B2B-4A502F83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8FAB-4AB8-4E5A-A0A0-AAAE25A8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0D73-0EFA-4617-89BC-012662FE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8EE19-9584-4657-8AD4-AB912279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2B8E7-12A9-4989-98E0-BD222BF0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478AA-C79D-4109-953C-E6B8D595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B5E6E-5DA9-40E0-B4FD-1DB82C9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17272-6763-4F74-AFE1-17C02EE9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527-D9B6-4AF6-AFF0-047A33EE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66982-562F-4775-8646-19D7E20F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68E43-D3EC-49F4-A8F7-590F4E0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0DE7D-194D-4DF0-823D-2F15992E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1018A-E705-4075-8033-9767655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0C52B-F6DC-42C2-B630-FC88D818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F354B-9A53-4100-B59F-B1817DB6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A48AC-0652-407D-ABB9-627FF2EA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D0C45-B52A-4589-B6C7-65EAF3D4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5EB05-689E-484E-B238-BBCB80F7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D5C06-A6F3-4024-98A0-4CD5F9D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513-2D95-4BEA-902D-5128D83E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C10E1-F555-4B41-B845-E6D64E2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0DAE4-68EC-4729-B39C-6ED418FB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77728-1EF9-4094-9B01-67F0A4B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F0245-6730-4CE9-81EE-2F183104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75C2B-379B-46F3-A0E3-C35B23A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9DD31A-71BA-4170-8580-AAD553BA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FCE45-3E14-4CDE-9186-559C005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6BB60-D22E-426B-BD77-B83DEA8F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03787-0655-4590-B52E-5B43125F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A1DAA-DDC1-43DC-81C1-1FFFE250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910-F1DA-422C-99A7-4070991F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31694-9060-4CED-B709-A4929C82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54CB4-4BB4-4DA3-9793-29FE2207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89B63-5415-4C82-B87A-3F8A3339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47056-8641-4D09-A82E-B5F1F90D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2B89E-F953-4C39-9EDC-494AA19D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D8DE5-5411-4CD7-AC06-2B9DB26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B214E-DCBC-450F-AA71-F9BDE4D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20928-1C6C-429A-9934-8C4CA6C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3E29D-30E5-4524-A9C3-7F4DBC7F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C2473-68B0-4F6C-ABC0-CDC7DCFA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93A-26DF-4906-A64D-0723BDF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02118-1C30-4058-BE8B-69DC9B5A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9A779-7CE9-43E9-8F96-95462B97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93A5A-C063-4828-8B76-ED0606FA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3BC59-CFD2-44AE-B9C6-DED6B4C3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A8CD1-B7C1-4BFC-86FD-B25D823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EE5CA-DECA-4966-9354-45AB3F1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236C8-F0C8-407A-A06B-07865B9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886E-BDED-46AE-816D-343F2E7C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E78A-102D-4085-BC50-76877BE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5C86-5AA3-42C3-8CF0-AA4B002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502-294F-4EF7-8300-05C839C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C60E-68D5-41B6-96C1-9A7483C9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C2CBD-AF8B-4026-A818-83DA8208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A7D3-7A6E-4CE0-81B0-BFC6ECAA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96FE8-1255-4E66-B0A0-DA06FA4D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4F374-AEFA-4C7F-BFA9-E9A6833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DF46D-57C3-4EB4-8F0A-3429D51B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26BD2-9750-4036-8EF4-A01D7F0A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2677D-7EB3-4572-AD8C-0C5E30C4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5C9DE-97DF-46D9-AEF8-1079C177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4432F-8095-49FD-9AC0-B4F030F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81E-B0F0-404D-98C8-5F99B51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A8283-E92E-4E2D-A7B2-0048BA7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0B397-5A81-4ED6-93A3-352FFAA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BD663-D0D9-4813-8462-49DA58D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DE1B7-57D9-457B-9DEA-8C698185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C0EA3C-1D9E-48F4-AFD6-707E782B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A4CF-0BB4-4DEE-87FB-049F47E2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FC1EC-A6B7-416E-87FA-BD2921F5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57C88-DCCD-4505-9877-E1C496F0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70123-5E66-457C-BF2D-D6177F1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61D8F-CE69-4D0F-A98E-0B1E6CE5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599-1349-4E96-B793-2E7AF7B7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44F1-CA34-4832-B3B1-1F092E6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DD54-3C8D-451E-B999-C1FA78D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2DB9-538A-4563-9445-80BA5D9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FA786-1530-49CA-AE06-2AC567AC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D584B-3AC7-428A-95D1-8E26B753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DC9FE-FDF8-42CD-BE2E-90893CF4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A9848-2515-49AB-8028-7C2ABC40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5A35-9AEE-4D13-8659-EF443C0B605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F53C-F9E1-46A5-B071-1C062DE5925C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A4A6-913C-42B0-95F4-27DC5FB87AB7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404D-0D9A-4C99-B513-A8573D69C28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67B4-29D3-4669-A506-323441840F7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D6F6-EFD1-4043-AF2E-66840459BB60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576D-1568-40E5-A24F-27BBB53D5ADD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FDB7-6FBE-478C-BEA2-D7D128FD183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15, READING AND WRITING SOCIAL RESEARCH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Writ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proper grammar and sp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yle guide (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e Elements of Sty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 functions of scientific repo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Basic Consid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and Length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 of Re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 of the Re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vide a brief statement of the purpose of the study and the main findings (in a journal article, this is the abstract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t your research into the context of existing scientific knowledg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oiding Plagiaris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giarism – Presenting someone else’s words or thoughts as thought they were your own, constituting intellectual thef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y Design and Exec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 the population, the sampling frame, the sampling method, the sample size, the data collection method, the completion rate, and the methods of data processing and analys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tation, manipulation and interpretation of data should be integrated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 significant findings in the context of the larger project and existing scientific research, review shortcomings and make suggesting for future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Guidelines for Reporting Analys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maximum data without being clutte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quantitative data, presenting data such that the reader can recompute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all aspects of quantitativ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 support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explicit conclu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out qualif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cl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ing Publ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most journals, each article beings with a/n _____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most journals, each article beings with an abstrac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d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ing the Internet Wise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ading and Writing Social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Most original research is seen as a/n _____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original research is seen as an extension of what has previously been learned abou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3. Which of the following questions might you ask when evaluating data on websit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should ask all of the following questions when evaluating data on websit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o is the author of the websit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the site advocating for a particular point of view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es the website give complete referenc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should be included in a research repor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following should be included in a research report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pose and overvie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view of the lit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sis and interpre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Reading Social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ing a Review of the Litera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keywords (a key concept or popul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riminal behavior among female college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e: Identify keywords if you were interested in cohabitation among gay and lesbian cou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uct a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y of Congress, school library, online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nowball 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urnals versus Boo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Journal Artic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bstract – A summary of a research article (states the purpose of the research, the methods used, and the major findings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kim the article, noting section headings and tables and graph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article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view the artic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ding a 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search Monograph – a book-length research repor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preface or introduc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d the book in its entire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ng Research Re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retical Ori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vey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ing Existing Stat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ative and Historical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on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sing the Internet Wisely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Useful Websi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rching the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 Engine – a computer program designed to locate where specified terms appear on websites throughout the World Wide Web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valuating the Quality of Internet Material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/What is the author of the web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site advocating a particular point of vie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the website give accurate and complete referenc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up-to-da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data offici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it a University research si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e data seem consistent with data from other sit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iting Internet Materi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ments of a Proper Cit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RL – web address (uniform/universal resources locat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ata and time when site was access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uthor and title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ublishing information, if avail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ocation in print for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20:16Z</dcterms:modified>
  <cp:revision>7</cp:revision>
  <dc:subject/>
  <dc:title>Slide 1</dc:title>
</cp:coreProperties>
</file>