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1A86-2B31-4C53-A292-01D50A9F8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0B5E-D8E0-4FD5-AC40-77ACC257E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9C1F-6F9F-4163-A27D-294BBE7A1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8A0A-CCDE-4B46-B21E-06B81EB8C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1B08-E110-4462-B6D9-87CB82881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7876-B6FD-4501-8B42-C4E2ADA30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D8C9-FE69-41C1-9E76-FF8069539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8B4C-F86A-4F0E-9F1D-614310DD11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36E9-9368-461A-85FA-9A45B4A6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AF6-F27D-47AB-BCFC-9D7623AE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1FD0-91DB-43B5-B64A-51CF1204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6F0-6D1F-470F-A6E3-0F302893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C800-B965-43D5-83E0-E607BF21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8A54-C09E-49E0-8135-47054C34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BAD1-D478-41E6-A730-C95FB4D6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ED7C-4E8E-4A5F-90B0-38D5FAFC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167F-80E9-4738-8064-D869F8B8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D410-AC7F-4273-8A13-6EC45704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3195-79BF-45DC-BE69-33DC430F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9E0-8BDF-45CC-8679-FA025BFB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50C4-944E-4072-B00B-BA1D138C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7FC5-4652-413D-B5C1-2C8F8669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D23F-9B5F-46CE-9197-E12ACF09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BDE1-BFAC-467E-90CA-C2AA9515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EE57-8A68-4D26-9214-A9649A10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FC217-6A61-4E99-AD0C-AE30B3A0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41A28-6D21-4595-9CE0-F3DC3614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AE057-4602-444D-A4CE-E88E9078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6FAE16-87C4-49F1-BE7F-94E57FC4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CB1B9A-B218-42E7-91D6-0D3F0F4E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3C52-67E1-400B-81DB-4018E356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372D1-FF68-4272-88FA-95088559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B629AA-15CB-405E-BC5C-F21DF9D9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36B7E-CE13-4F0E-91AC-931C0B46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5DC78-D2B1-4C2B-9A4A-773ED907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E3654-DB75-4DBD-B183-AEB0F893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B8F55-B68E-4DD9-956E-A853DD9E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0EAC2-3259-41B5-83FB-80D3FB3C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72D573-F0D3-4881-867E-C5353F91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1DDE5F-9B6D-4BED-A12D-710558EC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2FFACA-FDF5-4DBE-BCA5-F513A0C2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262-D70F-44ED-A87D-5C3179C3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1500D6-2524-487E-B335-177B0447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335311-4E59-475C-8AE5-6B1B8788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49C81B-179E-4B1A-9A75-2559D97C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6E27E9-AD68-491B-8DBD-52CD9431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C1E629-D797-4898-B29E-93A0EB0F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0A8CD9-06F9-42A3-AA17-8A5BB392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9DE03E-D36A-4950-B395-8694793D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402674-DB54-4952-9E37-375DE7CC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4C4025-22BF-46A3-BE7B-CE0C2C74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704124-5E58-45B3-B447-F6DF18F4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687E-260F-4CAB-9308-0033B37A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9A6EFC-EF35-46E6-BB2D-AB8ECEA8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6DD496-659C-49C9-9842-AD9B76E9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FCF152-98AC-4D04-8942-98D98571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5CE416-83EE-44E0-A45A-68E3EAEE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C99A26-5BC1-4634-8E50-F7C135F6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178E3F-5BE5-4C37-8988-E9429B6F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17557D-A657-44C1-9AA8-BA74FE9C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3CF495-014E-4632-95BB-519B250F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4320D1-02D3-4EB7-B4EB-95D41E87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7864A-85BE-4EE8-9807-6BB00FB5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66BA-CC3D-4C3F-80AD-074DA0D4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955147-1562-4862-B774-9321237E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69BAC-70B5-4D9C-95D5-A6CAE991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1C380-B2F3-4875-ADE4-AB49094E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9BB02-4389-4F07-B588-F7247D74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5953E-A550-4E2B-99FD-FCCC3D6D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0ABC8-3220-4D58-BF6D-67BD244B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33DB4-3BF8-40A7-8368-23C435C2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C464A-3089-402A-B357-A9D4305A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805BB-E8EE-4393-B088-9C110C22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15A23-51B2-43CA-A4D3-8154FBFA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2AE-4DAC-411B-A4A2-62037AC7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C4479-D265-4E4D-8AF5-E29D41F0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E374A-C0F2-4546-AD22-C72F85D7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47164-E6EC-4C5E-AADB-C6DE1B01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54A55E-7AB0-4D46-AF45-4C84FBE7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AB5229-48E0-479A-AB1E-6AD151F4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4B27EE-671B-424A-9957-F539A5BF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3891D8-268E-4E17-9D17-449C86E6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C18EAC-DB54-4E0B-8CC6-15F649B4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1A1A3F-4FA0-42E9-BAA4-8AB2DE4A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C2B13E-A081-478E-BF86-5956C06F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8C99-DC28-4678-9806-A43E2732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4B9627-987E-4B10-A6C4-B92D21D9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EC3F44-7519-498E-AA38-EB9A52B4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6A6A39-E48E-41C3-84C4-E23A376C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7A94C5-AB8E-42E7-843E-49A6EEF5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FEEF91-04FE-4CA5-A2F6-98283E0B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A7544-3010-4ED7-8E77-19A34B70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CD772-1543-4010-930C-9EACC305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BA5B7-90D2-42D3-986A-5F80595B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97B0C-CBC6-4A60-A5ED-D550A907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0F82C-3D56-405C-8E08-EF5077E8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183A-1F13-41E7-84AD-9CB4D712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68CD0-2398-4BF3-8B0D-E19E7CBD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D7DCA-1EA1-4B46-B1B8-F15E2DA3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A2FF7-5953-4867-B9DD-A980A1B8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7F41B-9FAA-4B0B-A87A-2F64FC92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178D6-4CEF-4D12-B424-3FD41AC6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ED37A-EE00-44B6-AC0D-E66C533F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8C753-9750-4D5B-B796-0DD85C90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C958-F1BB-4E25-8FB6-D43F4807A249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8E8F-7B66-4BB3-96CB-A1F8C079CCF7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7825-C70E-490C-8237-8E51D8ED35E7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E6D4-E89C-4DE7-9474-6480D130A7A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66BE-F0CB-4C27-B9A0-CD438A319F2F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8DF0-981D-443B-9880-F7FC7D218B43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8427-613D-4526-9F52-D9727BC2D881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A49A-47C9-428A-85EB-22C4346A01FE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5, READING AND WRITING SOCIAL RESEARCH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Writing Social Research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eral Guideli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proper grammar and spel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 style guide (such a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he Elements of Sty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derstand functions of scientific report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Basic Consid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di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 and Length of Re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im of Re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ganization of the Repo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rpose and Over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vide a brief statement of the purpose of the study and the main findings (in a journal article, this is the abstract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ew of the Litera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it your research into the context of existing scientific knowledg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oiding Plagiaris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lagiarism – Presenting someone else’s words or thoughts as thought they were your own, constituting intellectual thef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udy Design and Execu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lude the population, the sampling frame, the sampling method, the sample size, the data collection method, the completion rate, and the methods of data processing and analys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sis and Interpret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esentation, manipulation and interpretation of data should be integrated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mmary and Conclu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 significant findings in the context of the larger project and existing scientific research, review shortcomings and make suggesting for future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Guidelines for Reporting Analys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maximum data without being clutt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quantitative data, presenting data such that the reader can recompute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all aspects of quantitative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deta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 supporting 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w explicit conclu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out qualif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clear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oing Publ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In most journals, each article beings with a/n _____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able of cont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bstra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most journals, each article beings with an abstrac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ading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ing the Internet Wise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riting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thics of Reading and Writing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Most original research is seen as a/n _____ of what has previously been learned abo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u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lac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en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st original research is seen as an extension of what has previously been learned abo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3. Which of the following questions might you ask when evaluating data on websites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ho is the author of the website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s the site advocating for a particular point of view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oes the website give complete references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ou should ask all of the following questions when evaluating data on websit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o is the author of the websit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the site advocating for a particular point of view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es the website give complete referenc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Which of the following should be included in a research repor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pose and overvie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view of the literatu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sis and interpre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following should be included in a research report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pose and overvie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view of the literatu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sis and interpre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Reading Social Research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zing a Review of the Litera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termine keywords (a key concept or populati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actice: Identify keywords if you were interested in criminal behavior among female college stud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actice: Identify keywords if you were interested in cohabitation among gay and lesbian coup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duct a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y of Congress, school library, online search eng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nowball 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ournals versus Boo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ding a Journal Artic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 the Abstract – A summary of a research article (states the purpose of the research, the methods used, and the major findings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kim the article, noting section headings and tables and graph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 the article in its entire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view the artic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ding a Boo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search Monograph – a book-length research repor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 the preface or introducti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 the book in its entire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aluating Research Re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oretical Orien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arch De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mp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rvey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eld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ent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ing Existing Statis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ative and Historical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ion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Using the Internet Wisely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Useful Websi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arching the We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 Engine – a computer program designed to locate where specified terms appear on websites throughout the World Wide Web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valuating the Quality of Internet Material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o/What is the author of the websi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site advocating a particular point of view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es the website give accurate and complete referenc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the data up-to-da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the data officia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it a University research si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the data seem consistent with data from other sit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iting Internet Materi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ements of a Proper Cit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RL – web address (uniform/universal resources locator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ata and time when site was access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uthor and title, if availa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ublishing information, if availa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ocation in print for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20:16Z</dcterms:modified>
  <cp:revision>7</cp:revision>
  <dc:subject/>
  <dc:title>Slide 1</dc:title>
</cp:coreProperties>
</file>