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6.xml" ContentType="application/vnd.openxmlformats-officedocument.presentationml.notesSlide+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EC99-2F2C-4682-9BEA-B51A8421CDA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00CA-D333-4042-829B-B7759C37F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7AF3-08F0-4404-A862-E17FA0604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0B29-96DD-445D-9879-3B6A2EA864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80B0-5228-4C4D-B7EA-44F78393B0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4DAF-20E4-41C2-8568-68F35B745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F7C7-5361-40C9-B392-B6DDC84E90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ADB9-5B36-4F2F-812E-8D4996FB3C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0A8D-309E-4F3C-A0A9-A4906A5A9A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1CBB-94FA-4B60-839B-BED13C7B5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39FC-9E2A-4620-97E9-9C7926F41F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A0DC-01F6-4BD5-A43B-B7189A5A5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0480-F46A-4482-A377-90070C049F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418C-F443-494C-9AA2-F0C8F28F4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A463-3D8A-4ED9-857D-F570F05C2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D8BB-9197-4648-B085-B9A4B2DEC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21D1-2662-48C3-B410-7D3BEF2645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55A0C-B238-43CC-9109-F239C9596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FD4A-DAD3-41B4-BD30-2FC3BBC5E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B7BC-6538-4327-A27E-1E67AFBF4E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E762D-791C-4C64-AE02-A16B1DB9B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C33D8-2641-4540-B676-9F3490122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AB130-0665-41C3-8321-90F48040B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51BAF-3F5B-4821-9658-E043F693F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0EECF-A7BC-44E8-9019-00B8F4122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BD140-361B-4DCD-9B4B-E7EA0598B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FAE2A-C3B0-4070-A002-AC41738AE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D29F3-4167-403C-B49D-C6715E55F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333BD-E413-437B-B213-239941C8F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593E6-E3E8-424B-84D0-94CA34446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7E732-79DC-4B80-80C0-55F98B673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E5A05-53E6-4AA7-A6E4-6384EDE53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BA705-D648-4679-8CDA-5D0F7FDB5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E1F53-E4F6-40C8-86A1-418540E40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85E24-9B45-4030-AFA5-B411F3AAA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A25FE-2682-4745-B765-E9E630987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EB378-AD2D-48DB-8104-2BF0C1A8C7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742FF96-8CEB-437F-A84E-39942528E5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20FE26D-CCC2-46F6-97AD-FE8D75D570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65233BB-33C0-4BA4-8E36-8D615CD90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0C25E35-5EE2-49E8-BCBC-07556DCEB4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9CBE258-6A53-4053-B73C-997C563027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F0131-A646-49C3-9CE7-811901811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8B7E689-1C9E-4D56-AD61-FFA8BE6888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FB3A67F-348F-459E-9CD7-40E974245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975CA7-4C5D-4447-98A3-BB3D9A3327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30A1312-3857-450B-AA2E-8213950B30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C317CD-4389-4CE9-AB0F-9ABE846B04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10A1A6B-6B12-4488-A84A-408B8D2245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0B4A961-7023-4B95-AD1F-455A79D6D6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DD3498F-8D53-457D-B96B-016A242758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ECF91FC-A3EB-46CC-A8D9-4BCAEE777B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0F678E6-DA38-4D57-A485-93125A732B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00FE2-8007-4DD8-BF1B-686064258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D0DC90D-8903-470D-B27C-110F66E786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D6FE5A4-860A-4B2A-B658-ABEE89AC41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7A2E52B-C9C7-4F8D-9828-0D76CAF8B8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3E684D-BE95-4206-A10D-ECF99A44A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350DDE5-4755-4274-9B98-ABB44CD137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86CE808-DCB2-4994-97A2-A2219EFF4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4123F61-BB2E-4D33-85D3-811066DAB1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9C9ECA8-45D0-4754-AE41-127BBCBC92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CF0B2CC-2976-48DC-8887-DD1C035C9B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95018FE-85D1-4481-9171-489DD73E88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454DD-1E9D-4543-8140-29F67553C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96C3A47-62C9-4A11-969D-6F67B82453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6358614-A652-4999-9254-496E3D7EDD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3B589F0-4BC6-4166-8D41-EB4262B1C2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97EC42E-F26E-4DC1-A22D-33D782BBCC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67C948E-5116-4FBB-8F55-87C5AA2DD1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44018C-F8EC-4BF2-B421-E1FD644EE9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01C0C43-8715-45F4-9027-6F0EDF680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C61DCC6-C4B3-4028-88D3-A4A39E389E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99D5B51-9FA2-4441-8FE7-CFEE52639C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FE8ECCB-AC6E-44C7-AF45-A4A6EDE77A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5D3A7-4D66-400E-AD25-FA9AB0FBD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85A7367-1870-4005-825B-B769A22637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DF3DD0-3FA5-40E7-96B1-E1F2B5D351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536F0F-9EB8-4182-B2FA-DEEFFF430A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3D2369-BCBF-44E0-B701-BC56922048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5343E5-FF54-41D2-97B3-7937AF5004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BA7766-EB81-417C-8769-DEEF9EC0E9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204B6E-0ED5-4794-8186-69B3FF5AB5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C5AE1F-C437-42C4-A048-67EC442851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089083-62F0-46DA-9070-742327D7D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7CD263-AC62-4035-AD1D-7CE7F33E93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121C-2745-4E8D-91A4-E57044859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6B60BB-EB8B-47C5-A90D-033D237F2F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EC4B25-3A92-4DB1-BBD7-789C91CA88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8653A0-288D-469F-9086-05B49BB466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B0081F9-623F-492D-937D-5966372D62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BFF5CCD-AD46-4D20-8712-99FB000334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F417121-BC9A-4633-8344-A8A2CEAC03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C6E981B-4235-4516-8B4A-0C923789AB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075D219-DDB8-4A01-AC67-1AEC59E791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E661C46-C279-4CB2-AEEF-300C846C6C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5395260-2FCC-4B77-9C28-2AAEA64F08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550BB-86B1-4D24-ABAA-9B32925DB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0443F3C-96FA-47E4-AC3D-1F4FD11EE3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528565C-04EE-487D-A30D-4BEA388489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26D1E61-61D1-46B7-B2D3-77EB110811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019C937-188C-4837-A9E7-A3B2FC9AF1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282FAC6-14A6-459B-9EBA-CAD7BB2743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82D78B-7107-4094-B102-178DF2E31A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E2FEF2-F884-42AD-9790-8C2C6B9727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F6A279-4CA8-4217-A9F0-92372E2E93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FBBC12-8FDD-4797-93E0-60A7219014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26020C-0C24-453C-A502-EB75F09F1E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45ABC-8DF0-40CA-8BA6-7BD01DE66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727E24-3F72-4CBE-8318-DA09405BCB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5056A0-DF18-42D2-84CE-18A8019ED3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DD2517-C664-40D3-8BDF-22E9B57946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A89279-3313-425C-A5EB-04BCE44EAD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F7C530-CD06-4119-8366-E9238734C4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8C20FC-3A84-4D21-8172-00C88F749A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4EF4A1-898F-4BBD-8F6D-D30F127337A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D3E4-CC7E-41B1-8792-B9761FAB9849}"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D94D-F6DF-4682-9395-AC5D64B5570D}"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89C6-4D95-432D-83B7-3D0533F00D74}"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18FC-1A39-4C54-BA62-B3939C32936A}"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CCFE-C842-4E22-A92E-3A4A76FC61E5}"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E928-332E-40DD-AE6F-BEC060BCCED6}"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C4B2-291A-4034-8421-A28C77DD6BDC}"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8EE7-1A67-4146-B1C9-ADB056A8A687}"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14, QUANTITATIVE DATA ANALYSIS</a:t>
            </a:r>
            <a:endParaRPr b="0" lang="en-US" sz="40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ata Ent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cel</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PS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Univariate Analysis</a:t>
            </a:r>
            <a:endParaRPr b="0" lang="en-US" sz="4400" spc="-1" strike="noStrike">
              <a:solidFill>
                <a:srgbClr val="5a6378"/>
              </a:solidFill>
              <a:latin typeface="Verdana"/>
            </a:endParaRPr>
          </a:p>
        </p:txBody>
      </p:sp>
      <p:sp>
        <p:nvSpPr>
          <p:cNvPr id="38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nivariate Analysis – The analysis of a single variable, for purposes of description (examples: frequency distribution, averages, and measures of dispersion).</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ample: Gender</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number of men in a sample/population and the number of women in a sample/popula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tribution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equency Distributions – A description of the number of times the various attributes of a variable are observed in a s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3</a:t>
            </a:r>
            <a:endParaRPr b="0" lang="en-US" sz="4400" spc="-1" strike="noStrike">
              <a:solidFill>
                <a:srgbClr val="5a6378"/>
              </a:solidFill>
              <a:latin typeface="Verdana"/>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2" name="Picture 3" descr=""/>
          <p:cNvPicPr/>
          <p:nvPr/>
        </p:nvPicPr>
        <p:blipFill>
          <a:blip r:embed="rId1"/>
          <a:stretch/>
        </p:blipFill>
        <p:spPr>
          <a:xfrm>
            <a:off x="1523880" y="1600200"/>
            <a:ext cx="6629400" cy="457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4</a:t>
            </a: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5" name="Picture 3" descr=""/>
          <p:cNvPicPr/>
          <p:nvPr/>
        </p:nvPicPr>
        <p:blipFill>
          <a:blip r:embed="rId1"/>
          <a:stretch/>
        </p:blipFill>
        <p:spPr>
          <a:xfrm>
            <a:off x="1219320" y="1600200"/>
            <a:ext cx="7010280" cy="461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entral Tendenc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erage – An ambiguous term generally suggesting typical or normal – a central tendency (examples: mean, median, m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ean – an average computed by summing the values of several observations and dividing by the number of observations.</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de- an average representing the most frequently observed value or attribut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edian – an average representing the value of the “middle” case in a rank-ordered set of observation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actice: The following list represents the scores on a mid-term exam.</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0, 94, 88, 91, 75, 61, 93, 82, 70, 88, 71, 88</a:t>
            </a:r>
            <a:endParaRPr b="0" lang="en-US" sz="24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ean.</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od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edian.</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5</a:t>
            </a: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4" name="Picture 3" descr=""/>
          <p:cNvPicPr/>
          <p:nvPr/>
        </p:nvPicPr>
        <p:blipFill>
          <a:blip r:embed="rId1"/>
          <a:stretch/>
        </p:blipFill>
        <p:spPr>
          <a:xfrm>
            <a:off x="1752480" y="1143000"/>
            <a:ext cx="533412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ispersion – The distribution of values around some central value, such as an averag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tandard Deviation – A measure of dispersion around the mean, calculated so that approximately 68 percent of the cases will lie within plus or minus one standard deviation from the mean, 95 percent within two, and 99.9 percent within three standard deviation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ntification of Data</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n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ubgroup Comparison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roduction to Mult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ciological Diagnostic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and Quantitative Data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6</a:t>
            </a:r>
            <a:endParaRPr b="0" lang="en-US" sz="4400" spc="-1" strike="noStrike">
              <a:solidFill>
                <a:srgbClr val="5a6378"/>
              </a:solidFill>
              <a:latin typeface="Verdana"/>
            </a:endParaRPr>
          </a:p>
        </p:txBody>
      </p:sp>
      <p:sp>
        <p:nvSpPr>
          <p:cNvPr id="40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9" name="Picture 3" descr=""/>
          <p:cNvPicPr/>
          <p:nvPr/>
        </p:nvPicPr>
        <p:blipFill>
          <a:blip r:embed="rId1"/>
          <a:stretch/>
        </p:blipFill>
        <p:spPr>
          <a:xfrm>
            <a:off x="4038480" y="838080"/>
            <a:ext cx="4800600" cy="563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inuous Variable – A variable whose attributes form a steady progression, such as age of income.</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crete Variable – A variable whose attributes are separate from one another, such as gender or political affili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tail versus Manageabil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 reader with fullest degree of detail, balanced with presenting data in a manageable for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Subgroup Comparisons</a:t>
            </a:r>
            <a:endParaRPr b="0" lang="en-US" sz="44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scription of subsets of cases, subjects or respondent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Collapsing” Response Categorie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andling “Don’t Know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umerical Descriptions in 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Bivariate Analysis</a:t>
            </a:r>
            <a:endParaRPr b="0" lang="en-US" sz="4400" spc="-1" strike="noStrike">
              <a:solidFill>
                <a:srgbClr val="5a6378"/>
              </a:solidFill>
              <a:latin typeface="Verdana"/>
            </a:endParaRPr>
          </a:p>
        </p:txBody>
      </p:sp>
      <p:sp>
        <p:nvSpPr>
          <p:cNvPr id="41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ivariate Analysis – The analysis of two variables simultaneously, for the purpose of determine the empirical relationship between the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ructing a Bivariate Table</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ermine logical direction of relationship (independent variable and dependent variable).</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centage down versus percentage acros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7</a:t>
            </a: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rcentaging a </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able</a:t>
            </a:r>
            <a:endParaRPr b="0" lang="en-US" sz="2900" spc="-1" strike="noStrike">
              <a:solidFill>
                <a:srgbClr val="000000"/>
              </a:solidFill>
              <a:latin typeface="Verdana"/>
            </a:endParaRPr>
          </a:p>
        </p:txBody>
      </p:sp>
      <p:pic>
        <p:nvPicPr>
          <p:cNvPr id="422" name="Picture 4" descr=""/>
          <p:cNvPicPr/>
          <p:nvPr/>
        </p:nvPicPr>
        <p:blipFill>
          <a:blip r:embed="rId1"/>
          <a:stretch/>
        </p:blipFill>
        <p:spPr>
          <a:xfrm>
            <a:off x="4114800" y="1143000"/>
            <a:ext cx="4724280" cy="54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onstructing and Reading Bivariate Tables</a:t>
            </a:r>
            <a:endParaRPr b="0" lang="en-US" sz="27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Example: Gender and Attitude toward Sexual Equality</a:t>
            </a:r>
            <a:endParaRPr b="0" lang="en-US" sz="27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ases are divided into men and women.</a:t>
            </a:r>
            <a:endParaRPr b="0" lang="en-US" sz="24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gender subgrouping is described in terms of approval or disapproval of sexual equality.</a:t>
            </a:r>
            <a:endParaRPr b="0" lang="en-US" sz="24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n and women are compared in terms of the percentages approving of sexual equal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ingency Table – A format for presenting the relationship among variables as percentage distribu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8"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uidelines for Presentation of Tables</a:t>
            </a:r>
            <a:endParaRPr b="0" lang="en-US" sz="29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able should have a heading or title that describes what is contained in the table.</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iginal content should be clearly presen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tributes of each variable should be clearly indica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ase on which percentage are computed should be indica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ssing data should be indicated in the tab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Quantification of Data</a:t>
            </a:r>
            <a:endParaRPr b="0" lang="en-US" sz="4400" spc="-1" strike="noStrike">
              <a:solidFill>
                <a:srgbClr val="5a6378"/>
              </a:solidFill>
              <a:latin typeface="Verdana"/>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ntification Analysis – The numerical representation and manipulation of observations for the purpose of describing and explaining the phenomena that those observations reflec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Introduction to Multivariate Analysis</a:t>
            </a:r>
            <a:endParaRPr b="0" lang="en-US" sz="4000" spc="-1" strike="noStrike">
              <a:solidFill>
                <a:srgbClr val="5a6378"/>
              </a:solidFill>
              <a:latin typeface="Verdana"/>
            </a:endParaRPr>
          </a:p>
        </p:txBody>
      </p:sp>
      <p:sp>
        <p:nvSpPr>
          <p:cNvPr id="43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is – The analysis of the simultaneous relationships among several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3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To conduct a quantitative analysis, researchers often must engage in a _____ after the data have been collect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ing proces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ield research stud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o conduct a quantitative analysis, researchers often must engage in a coding process after the data have been collecte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Which of the following describe the analysis of more than two variabl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 desig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si-experimental desig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tative evaluatio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ultivariate analysi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es describe the analysis of more than two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The process of converting data to numerical format is called _____.</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eminist research</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fic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ntific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rocess of converting data to numerical format is called quantific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6"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Which of the following are basic approaches to the coding proces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You can begin with a well developed coding schem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You can generate codes from your data.</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oth of the abov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e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are basic approaches to the coding process: you can begin with a well developing coding scheme and/or you can generate codes from your data.</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09120" y="1589040"/>
            <a:ext cx="3886200" cy="457200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ge</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 4</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 5</a:t>
            </a:r>
            <a:endParaRPr b="0" lang="en-US" sz="26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x</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le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ale = 2</a:t>
            </a:r>
            <a:endParaRPr b="0" lang="en-US" sz="2600" spc="-1" strike="noStrike">
              <a:solidFill>
                <a:srgbClr val="000000"/>
              </a:solidFill>
              <a:latin typeface="Verdana"/>
            </a:endParaRPr>
          </a:p>
        </p:txBody>
      </p:sp>
      <p:sp>
        <p:nvSpPr>
          <p:cNvPr id="365" name=""/>
          <p:cNvSpPr txBox="1"/>
          <p:nvPr/>
        </p:nvSpPr>
        <p:spPr>
          <a:xfrm>
            <a:off x="4844520" y="1589040"/>
            <a:ext cx="3886200" cy="457200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al Affiliation</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mocrat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ublican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ependent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gion of Country</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st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dwest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uth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rtheast = 4</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A _____ is a document that describes the locations of variables and lists the assignments of codes to the attributes composing those variabl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ebook</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 stud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 codebook is a document that describes the locations of variables and lists the assignments of codes to the attributes composing those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The _____ is an average computed by summing the values of several observations and divided by the number of observatio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requenc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a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dia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d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6"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ean is an average computed by summing the values of several observations and divided by the number of observ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7. Which of the following are aimed at explan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ult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un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oth A and B</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is and bivariate analysis are aimed at explan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8. The multivariate techniques can serve as power tools for</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dicting behavior.</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diagnosing social problem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acting to issu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ultivariate techniques can serve as powerful tools for diagnosing social problem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velop Code Categorie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well-developed coding scheme.</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nerate codes from your dat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debook Construc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ebook – The document used in data processing and analysis that tells the location of different data items in a data fi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codebook also identifies the locations of data items and the meaning of the codes used.</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urposes of the Codebook</a:t>
            </a:r>
            <a:endParaRPr b="0" lang="en-US" sz="2300" spc="-1" strike="noStrike">
              <a:solidFill>
                <a:srgbClr val="000000"/>
              </a:solidFill>
              <a:latin typeface="Verdana"/>
            </a:endParaRPr>
          </a:p>
          <a:p>
            <a:pPr lvl="3" marL="1211400" indent="-343080">
              <a:spcBef>
                <a:spcPts val="400"/>
              </a:spcBef>
              <a:buClr>
                <a:srgbClr val="e66c7d"/>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mary guide in the coking processes</a:t>
            </a:r>
            <a:endParaRPr b="0" lang="en-US" sz="2000" spc="-1" strike="noStrike">
              <a:solidFill>
                <a:srgbClr val="000000"/>
              </a:solidFill>
              <a:latin typeface="Verdana"/>
            </a:endParaRPr>
          </a:p>
          <a:p>
            <a:pPr lvl="3" marL="1211400" indent="-343080">
              <a:spcBef>
                <a:spcPts val="400"/>
              </a:spcBef>
              <a:buClr>
                <a:srgbClr val="e66c7d"/>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uide for locating variabl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1</a:t>
            </a: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74" name="Picture 3" descr=""/>
          <p:cNvPicPr/>
          <p:nvPr/>
        </p:nvPicPr>
        <p:blipFill>
          <a:blip r:embed="rId1"/>
          <a:stretch/>
        </p:blipFill>
        <p:spPr>
          <a:xfrm>
            <a:off x="609480" y="1600200"/>
            <a:ext cx="815364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66320" y="914040"/>
            <a:ext cx="7543800" cy="51814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Verdana"/>
              </a:rPr>
              <a:t>ATTEND</a:t>
            </a:r>
            <a:endParaRPr b="0" lang="en-US" sz="2500" spc="-1" strike="noStrike">
              <a:solidFill>
                <a:srgbClr val="000000"/>
              </a:solidFill>
              <a:latin typeface="Verdana"/>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often do you attend religious services?</a:t>
            </a:r>
            <a:endParaRPr b="0" lang="en-US" sz="25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0. Neve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 Less than once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 About once or twice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 Several times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 About once a month</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 2-3 times a month</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 Nearly every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 Every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 Several times a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 Don’t know, No answer</a:t>
            </a:r>
            <a:endParaRPr b="0" lang="en-US" sz="2200" spc="-1" strike="noStrike">
              <a:solidFill>
                <a:srgbClr val="000000"/>
              </a:solidFill>
              <a:latin typeface="Verdana"/>
            </a:endParaRPr>
          </a:p>
        </p:txBody>
      </p:sp>
      <p:sp>
        <p:nvSpPr>
          <p:cNvPr id="376" name="Rectangle 3"/>
          <p:cNvSpPr/>
          <p:nvPr/>
        </p:nvSpPr>
        <p:spPr>
          <a:xfrm>
            <a:off x="990720" y="838080"/>
            <a:ext cx="1600200" cy="60984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1371600" y="2438280"/>
            <a:ext cx="380880" cy="342900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Callout 1 5"/>
          <p:cNvSpPr/>
          <p:nvPr/>
        </p:nvSpPr>
        <p:spPr>
          <a:xfrm>
            <a:off x="3657600" y="457200"/>
            <a:ext cx="3124080" cy="533520"/>
          </a:xfrm>
          <a:prstGeom prst="borderCallout1">
            <a:avLst>
              <a:gd name="adj1" fmla="val 18750"/>
              <a:gd name="adj2" fmla="val -8333"/>
              <a:gd name="adj3" fmla="val 107611"/>
              <a:gd name="adj4" fmla="val -29236"/>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bbreviated Variable Name</a:t>
            </a:r>
            <a:endParaRPr b="0" lang="en-US" sz="1800" spc="-1" strike="noStrike">
              <a:solidFill>
                <a:srgbClr val="000000"/>
              </a:solidFill>
              <a:latin typeface="Arial"/>
            </a:endParaRPr>
          </a:p>
        </p:txBody>
      </p:sp>
      <p:sp>
        <p:nvSpPr>
          <p:cNvPr id="379" name="Line Callout 1 6"/>
          <p:cNvSpPr/>
          <p:nvPr/>
        </p:nvSpPr>
        <p:spPr>
          <a:xfrm rot="16200000">
            <a:off x="-533160" y="3961800"/>
            <a:ext cx="2361960" cy="533520"/>
          </a:xfrm>
          <a:prstGeom prst="borderCallout1">
            <a:avLst>
              <a:gd name="adj1" fmla="val 18750"/>
              <a:gd name="adj2" fmla="val -8333"/>
              <a:gd name="adj3" fmla="val 177879"/>
              <a:gd name="adj4" fmla="val 59995"/>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umerical Label</a:t>
            </a:r>
            <a:endParaRPr b="0" lang="en-US" sz="1800" spc="-1" strike="noStrike">
              <a:solidFill>
                <a:srgbClr val="000000"/>
              </a:solidFill>
              <a:latin typeface="Arial"/>
            </a:endParaRPr>
          </a:p>
        </p:txBody>
      </p:sp>
      <p:sp>
        <p:nvSpPr>
          <p:cNvPr id="380" name="Line Callout 1 7"/>
          <p:cNvSpPr/>
          <p:nvPr/>
        </p:nvSpPr>
        <p:spPr>
          <a:xfrm>
            <a:off x="5791320" y="2666880"/>
            <a:ext cx="3124080" cy="533520"/>
          </a:xfrm>
          <a:prstGeom prst="borderCallout1">
            <a:avLst>
              <a:gd name="adj1" fmla="val 18750"/>
              <a:gd name="adj2" fmla="val -8333"/>
              <a:gd name="adj3" fmla="val -77203"/>
              <a:gd name="adj4" fmla="val 1986"/>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finition of the Variable</a:t>
            </a:r>
            <a:endParaRPr b="0" lang="en-US" sz="1800" spc="-1" strike="noStrike">
              <a:solidFill>
                <a:srgbClr val="000000"/>
              </a:solidFill>
              <a:latin typeface="Arial"/>
            </a:endParaRPr>
          </a:p>
        </p:txBody>
      </p:sp>
      <p:sp>
        <p:nvSpPr>
          <p:cNvPr id="381" name="Rectangle 8"/>
          <p:cNvSpPr/>
          <p:nvPr/>
        </p:nvSpPr>
        <p:spPr>
          <a:xfrm>
            <a:off x="1066680" y="1600200"/>
            <a:ext cx="7010640" cy="53352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9"/>
          <p:cNvSpPr/>
          <p:nvPr/>
        </p:nvSpPr>
        <p:spPr>
          <a:xfrm>
            <a:off x="1066680" y="2362320"/>
            <a:ext cx="4572000" cy="358128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Callout 1 10"/>
          <p:cNvSpPr/>
          <p:nvPr/>
        </p:nvSpPr>
        <p:spPr>
          <a:xfrm>
            <a:off x="6248520" y="4267080"/>
            <a:ext cx="2438280" cy="533520"/>
          </a:xfrm>
          <a:prstGeom prst="borderCallout1">
            <a:avLst>
              <a:gd name="adj1" fmla="val 18750"/>
              <a:gd name="adj2" fmla="val -8333"/>
              <a:gd name="adj3" fmla="val -34476"/>
              <a:gd name="adj4" fmla="val -23699"/>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riable Attrib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9:45Z</dcterms:modified>
  <cp:revision>9</cp:revision>
  <dc:subject/>
  <dc:title>Slide 1</dc:title>
</cp:coreProperties>
</file>