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E3DA-9FE5-4F16-AA7E-5D0A50E1C4E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98D3-C197-4C29-BE99-CB4FEE51A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1A05-FCC3-43E3-BCC5-B6EBEE31E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149F-6FF0-403F-880F-51DC70BBB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0471-6B4B-4A53-A107-5CCC6B130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E842-5823-4E20-B9A4-E2361646A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9A09-C284-46B2-AA3D-43D8EFCE0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FE87-BB97-45AF-A58A-57A45F4B6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A9FD-7064-4E1A-A252-2BE012BC1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4A84-0CBB-4233-AFD6-174E8860C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93EC-4AE5-437A-9B76-A89D6AB5B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6999-2C73-40D4-A6A4-7E3DE3C5E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8207-B911-4B6C-B0BD-BAE6DAAEE4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4EBA-7E93-41D6-A9E4-E82E9BFF3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E823-1FAF-46BD-A818-69B74079A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E696-4F80-4CAE-90BA-8E8E6AFCD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D291-B7E9-462E-8783-3FF46CBA0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4048-C86D-43AA-BB66-0C448F3B2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1AA5-CE02-4178-9CFE-996D1E338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A54B-5BF4-4D4A-A40D-53714405A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F1F0B-52E7-45E2-8CCE-CC891A1FE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42847-732B-40DE-8685-15394783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236D7-FDF5-4CA1-9FA8-BB0502748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27C5F-3959-4C44-8717-053D722C4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E87F4-9197-4CB2-81B7-640917799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DCD5F-7FF8-450A-B719-B6C7422A0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B4238-06A1-4067-BA59-A98D1D1DF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7F6BD-6B94-4766-97DC-63804081B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4F737-3B05-4BE8-B47D-5833FB920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750AC-0737-4B00-95D3-5462EF131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7BC2C-A8B3-4414-B671-F3747B703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A745E-7DBC-4F36-B618-BB0B09E8E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8244F-234E-4619-A0C3-ABD780AE0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787A4-70BD-4D27-AC59-0929D80A6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41AEE-21E1-41DA-A9D2-749D59525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4F620-0B83-4194-BF34-A061399F4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A40C6-DEBA-4AC1-B3B3-352F6CF32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0D6734-AD75-4E71-B5CC-CF071AD10E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BD41C8-A80C-444F-885C-E47D9065D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7B62B9-8B14-46BF-8FE7-D845D15A3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7B081DE-3F0D-4C3D-92D4-820128EAB1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BD8012-368E-4E66-8BD2-E7CA605D6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61BBA-01FE-4CD5-B76A-8B1F6C2BC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676FAC-EDEE-48C8-B83B-66E2C58DE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8892CD-C2B1-4FA6-A3F6-BD36BDFBF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27A7D6-EBF5-4611-99DA-4B79C44D1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734D78-63BD-4707-A66E-FB192C319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1AA24D-7536-4A95-A963-EC0A0AB31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401201A-0B74-4B35-BF31-D522ABBA4C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2FEC5C-1827-4D20-87B3-19D874D2F3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4A84C8F-8AC8-45A2-8B0A-09DC3A1BC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FDF8AA-33A2-47E7-8769-310F6603C0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C2E301-3423-4346-998E-8BEC63F33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73E0-F0CD-4E39-B32B-ED9D7DE00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48053B1-57B7-4D65-B53E-3BD8EED6D7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A9D07E-0047-4C38-BE42-6A966E0E0A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DE8656-8A24-4D56-96C2-99B30D974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E07D69-EE72-4C9C-B1EE-B04C8B8C6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B4A353-B78E-4990-833D-FAC3F2A33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6F3E51-B7FA-48A1-A704-A034EDC69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4D96064-EE64-4D8C-8382-1B027D910C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6800832-F7C5-4733-A744-4733651B58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04BFD5C-6B7D-4105-9307-23DEEB4F73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3CFA42-1017-492B-AD21-C1C235CE44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A4C54-35C5-486A-BCFE-18D46C108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5C9BB2-BF5A-4764-A8F3-38466D3C9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85917A-6211-4DC3-B2F7-AE3A2F6F6F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14DBFB-A2BD-4D83-B6D8-6C27BE4F26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AD1E8A9-A6D1-4CC8-A4BA-304FEB5EA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1F625C-A4AD-417F-BB43-A600442DCF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E6828F-59ED-413D-AA69-915C67741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031DF4-B7D1-4F20-87EE-D03979CC8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925D7A-E342-4A9D-9072-7620C115B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75D150-8C42-435C-985D-9496EA6A1D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785FB5C-7363-46CE-AC41-5D5EA08957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8F645-0081-49B7-B54F-998BD4F47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2CA7EFF-91A0-4303-B7EB-DAC9B4D32F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257CFB-FCC5-43D8-8B91-DE0E4FCA39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A584FD-23E4-4C3A-9362-E910CEEF65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9D93A3-248F-4DDE-9CB0-680A1A85EE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6068C1-F4E4-40F0-B6FE-E9E1F5ABDC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904CF-8A43-42DE-8E06-54BE6CB6A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9E89CF-4685-4C67-B882-71CA226235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4394A9-7185-40C8-8E60-DE34D0851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43DA3-49E5-4AB5-9979-23FCD7C7D2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13216-63FF-4A14-84F0-FF327A1AD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808AB-EECF-4BE1-A3EE-F768FEF17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EDB37B-ADA2-4E01-93B7-7F4567B2C8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1BE57B-2A54-46CB-901E-B2769106D1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322046-C219-4C4A-878D-1EF65EA07A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AF4AB9B-4B49-4F63-8C01-4A2F589F6D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21D9FC-B7C3-4255-9244-D17C7D513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BF966DA-05B2-4C71-A185-6AD7A4E2CC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1607FE-27A5-4AD5-BF35-C225DC7108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46BB339-D02A-47EC-8024-4BB320A251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A2DD12F-1003-4256-8227-28C86AE1A1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5D1CAF-760A-4D95-B313-2595185A1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86080-DF3D-4804-A2A4-BA04CACEE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1D8F767-16D3-4161-AB91-DE29A4D14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6995FFA-E754-4D76-A0C9-076DA9CC3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7CE7A4-33B8-4617-855B-EE471C84B3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EA11A1C-A481-4B2C-8C85-52F9284D51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8EA859A-C2E9-4F37-8E54-02F6ECBA0F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E91789-C60E-43C2-9D64-176CB74F7F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00CEA9-9977-4185-B95E-104204789C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ECE48D-0FB3-41BC-8337-6A3BD2B981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348B8B-386F-41F6-8184-EE93F9C642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A1EAA9-6311-45B1-AEBB-401F5F10EB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28BA-6D10-4D8C-ABC9-A7AD578FE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ACBF0-B014-44EE-AD6B-8DCF7295B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0A2EF-1BB0-4D43-B84E-EED886F19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78FBC-343C-4051-9A57-90BC718C3C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72039F-5354-491A-84ED-D3B981497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2A9008-62E8-406E-90C0-FEE0D5AD77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0D3568-2C5A-440D-87EA-EC6AD281F4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CD7B4D-313A-49C3-A1C9-529825913A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39F7-FDBB-40E9-A0C7-F7491DC8533C}"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5F00-15EE-45A3-A43A-FAB8DA121CD1}"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FDE6-0CC5-4971-A79D-5FD5938A3E9B}"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A6EB-61AE-446F-AD77-E4D431F2ED0F}"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3070-686C-45B7-84DC-1A8DDBB5C62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B43F-2B83-471F-94E3-1C76D368AF5E}"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379D-B533-4B93-82B9-F5AC5EDAC068}"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E40D-6A32-422B-9BB5-05CE1131A8E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14, QUANTITATIVE DATA ANALYSIS</a:t>
            </a:r>
            <a:endParaRPr b="0" lang="en-US" sz="40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ata Entr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l</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Univariate Analysis</a:t>
            </a:r>
            <a:endParaRPr b="0" lang="en-US" sz="4400" spc="-1" strike="noStrike">
              <a:solidFill>
                <a:srgbClr val="5a6378"/>
              </a:solidFill>
              <a:latin typeface="Verdana"/>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 – The analysis of a single variable, for purposes of description (examples: frequency distribution, averages, and measures of dispersion).</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 Gender</a:t>
            </a:r>
            <a:endParaRPr b="0" lang="en-US" sz="26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number of men in a sample/population and the number of women in a sample/popula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tribu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equency Distributions – A description of the number of times the various attributes of a variable are observed in a s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3</a:t>
            </a:r>
            <a:endParaRPr b="0" lang="en-US" sz="4400" spc="-1" strike="noStrike">
              <a:solidFill>
                <a:srgbClr val="5a6378"/>
              </a:solidFill>
              <a:latin typeface="Verdana"/>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2" name="Picture 3" descr=""/>
          <p:cNvPicPr/>
          <p:nvPr/>
        </p:nvPicPr>
        <p:blipFill>
          <a:blip r:embed="rId1"/>
          <a:stretch/>
        </p:blipFill>
        <p:spPr>
          <a:xfrm>
            <a:off x="1523880" y="1600200"/>
            <a:ext cx="6629400" cy="457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4</a:t>
            </a: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5" name="Picture 3" descr=""/>
          <p:cNvPicPr/>
          <p:nvPr/>
        </p:nvPicPr>
        <p:blipFill>
          <a:blip r:embed="rId1"/>
          <a:stretch/>
        </p:blipFill>
        <p:spPr>
          <a:xfrm>
            <a:off x="1219320" y="1600200"/>
            <a:ext cx="701028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entral Tendenc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erage – An ambiguous term generally suggesting typical or normal – a central tendency (examples: mean, median, m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an – an average computed by summing the values of several observations and dividing by the number of observations.</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de- an average representing the most frequently observed value or attribut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edian – an average representing the value of the “middle” case in a rank-ordered set of observ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actice: The following list represents the scores on a mid-term exam.</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 94, 88, 91, 75, 61, 93, 82, 70, 88, 71, 88</a:t>
            </a:r>
            <a:endParaRPr b="0" lang="en-US" sz="24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an.</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od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etermine the median.</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5</a:t>
            </a:r>
            <a:endParaRPr b="0" lang="en-US" sz="4400" spc="-1" strike="noStrike">
              <a:solidFill>
                <a:srgbClr val="5a6378"/>
              </a:solidFill>
              <a:latin typeface="Verdana"/>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4" name="Picture 3" descr=""/>
          <p:cNvPicPr/>
          <p:nvPr/>
        </p:nvPicPr>
        <p:blipFill>
          <a:blip r:embed="rId1"/>
          <a:stretch/>
        </p:blipFill>
        <p:spPr>
          <a:xfrm>
            <a:off x="1752480" y="1143000"/>
            <a:ext cx="5334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Dispersion – The distribution of values around some central value, such as an average.</a:t>
            </a: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Standard Deviation – A measure of dispersion around the mean, calculated so that approximately 68 percent of the cases will lie within plus or minus one standard deviation from the mean, 95 percent within two, and 99.9 percent within three standard deviation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of Data</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ubgroup Comparison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roduction to Multivariate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ociological Diagnostic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and Quantitative Data Analysi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6</a:t>
            </a: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9" name="Picture 3" descr=""/>
          <p:cNvPicPr/>
          <p:nvPr/>
        </p:nvPicPr>
        <p:blipFill>
          <a:blip r:embed="rId1"/>
          <a:stretch/>
        </p:blipFill>
        <p:spPr>
          <a:xfrm>
            <a:off x="4038480" y="838080"/>
            <a:ext cx="4800600" cy="563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uous Variable – A variable whose attributes form a steady progression, such as age of income.</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rete Variable – A variable whose attributes are separate from one another, such as gender or political affili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tail versus Manageabi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de reader with fullest degree of detail, balanced with presenting data in a manageable fo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ubgroup Comparisons</a:t>
            </a:r>
            <a:endParaRPr b="0" lang="en-US" sz="44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cription of subsets of cases, subjects or respondent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Collapsing” Response Categorie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ndling “Don’t Knows”</a:t>
            </a: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umerical Descriptions in Qualitative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Bivariate Analysis</a:t>
            </a:r>
            <a:endParaRPr b="0" lang="en-US" sz="4400" spc="-1" strike="noStrike">
              <a:solidFill>
                <a:srgbClr val="5a6378"/>
              </a:solidFill>
              <a:latin typeface="Verdana"/>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variate Analysis – The analysis of two variables simultaneously, for the purpose of determine the empirical relationship between th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tructing a Bivariate Table</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logical direction of relationship (independent variable and dependent variabl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centage down versus percentage acros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7</a:t>
            </a:r>
            <a:endParaRPr b="0" lang="en-US" sz="4400" spc="-1" strike="noStrike">
              <a:solidFill>
                <a:srgbClr val="5a6378"/>
              </a:solidFill>
              <a:latin typeface="Verdana"/>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centaging a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able</a:t>
            </a:r>
            <a:endParaRPr b="0" lang="en-US" sz="2900" spc="-1" strike="noStrike">
              <a:solidFill>
                <a:srgbClr val="000000"/>
              </a:solidFill>
              <a:latin typeface="Verdana"/>
            </a:endParaRPr>
          </a:p>
        </p:txBody>
      </p:sp>
      <p:pic>
        <p:nvPicPr>
          <p:cNvPr id="422" name="Picture 4" descr=""/>
          <p:cNvPicPr/>
          <p:nvPr/>
        </p:nvPicPr>
        <p:blipFill>
          <a:blip r:embed="rId1"/>
          <a:stretch/>
        </p:blipFill>
        <p:spPr>
          <a:xfrm>
            <a:off x="4114800" y="1143000"/>
            <a:ext cx="472428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onstructing and Reading Bivariate Tables</a:t>
            </a: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Example: Gender and Attitude toward Sexual Equality</a:t>
            </a:r>
            <a:endParaRPr b="0" lang="en-US" sz="27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ases are divided into men and women.</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gender subgrouping is described in terms of approval or disapproval of sexual equality.</a:t>
            </a:r>
            <a:endParaRPr b="0" lang="en-US" sz="2400" spc="-1" strike="noStrike">
              <a:solidFill>
                <a:srgbClr val="000000"/>
              </a:solidFill>
              <a:latin typeface="Verdana"/>
            </a:endParaRPr>
          </a:p>
          <a:p>
            <a:pPr lvl="1" marL="789120" indent="-51444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n and women are compared in terms of the percentages approving of sexual equ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ingency Table – A format for presenting the relationship among variables as percentage distribu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uidelines for Presentation of Tables</a:t>
            </a:r>
            <a:endParaRPr b="0" lang="en-US" sz="29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able should have a heading or title that describes what is contained in the table.</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iginal content should be clearly presen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tributes of each variable should be clearly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ase on which percentage are computed should be indicated.</a:t>
            </a:r>
            <a:endParaRPr b="0" lang="en-US" sz="26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ssing data should be indicated in the ta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Quantification of Data</a:t>
            </a:r>
            <a:endParaRPr b="0" lang="en-US" sz="4400" spc="-1" strike="noStrike">
              <a:solidFill>
                <a:srgbClr val="5a6378"/>
              </a:solidFill>
              <a:latin typeface="Verdana"/>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antification Analysis – The numerical representation and manipulation of observations for the purpose of describing and explaining the phenomena that those observations reflec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Introduction to Multivariate Analysis</a:t>
            </a:r>
            <a:endParaRPr b="0" lang="en-US" sz="4000" spc="-1" strike="noStrike">
              <a:solidFill>
                <a:srgbClr val="5a6378"/>
              </a:solidFill>
              <a:latin typeface="Verdana"/>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 The analysis of the simultaneous relationships among several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3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To conduct a quantitative analysis, researchers often must engage in a _____ after the data have been collec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ase-oriented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ield research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o conduct a quantitative analysis, researchers often must engage in a coding process after the data have been collect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3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Which of the following describe the analysis of more than two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si-experimental desig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tative evalu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es describe the analysis of more than two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The process of converting data to numerical format is called _____.</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eminist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lific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rocess of converting data to numerical format is called quantific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Which of the following are basic approaches to the coding proces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begin with a well developed coding schem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You can generate codes from your data.</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of the abov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are basic approaches to the coding process: you can begin with a well developing coding scheme and/or you can generate codes from your data.</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091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ge</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 4</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5</a:t>
            </a: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x</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le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male = 2</a:t>
            </a:r>
            <a:endParaRPr b="0" lang="en-US" sz="2600" spc="-1" strike="noStrike">
              <a:solidFill>
                <a:srgbClr val="000000"/>
              </a:solidFill>
              <a:latin typeface="Verdana"/>
            </a:endParaRPr>
          </a:p>
        </p:txBody>
      </p:sp>
      <p:sp>
        <p:nvSpPr>
          <p:cNvPr id="365" name=""/>
          <p:cNvSpPr txBox="1"/>
          <p:nvPr/>
        </p:nvSpPr>
        <p:spPr>
          <a:xfrm>
            <a:off x="4844520" y="1589040"/>
            <a:ext cx="3886200" cy="457200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Affiliation</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mocra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ublican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gion of Country</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st = 1</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dwest = 2</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th = 3</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rtheast = 4</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A _____ is a document that describes the locations of variables and lists the assignments of codes to the attributes composing those variabl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ross-cas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debook</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stant comparative metho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nitoring stud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 codebook is a document that describes the locations of variables and lists the assignments of codes to the attributes composing those variabl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The _____ is an average computed by summing the values of several observations and divided by the number of observation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frequenc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a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od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ean is an average computed by summing the values of several observations and divided by the number of observ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7. Which of the following are aimed at explan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ult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univariate analysi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both A and B</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ultivariate analysis and bivariate analysis are aimed at explan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2"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8. The multivariate techniques can serve as power tools f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dicting behavior.</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iagnosing social problem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acting to issu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ultivariate techniques can serve as powerful tools for diagnosing social problem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velop Code Categorie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well-developed coding scheme.</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nerate codes from your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debook Construc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debook – The document used in data processing and analysis that tells the location of different data items in a data fi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codebook also identifies the locations of data items and the meaning of the codes used.</a:t>
            </a: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indent="-228600">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urposes of the Codebook</a:t>
            </a:r>
            <a:endParaRPr b="0" lang="en-US" sz="23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guide in the coking processes</a:t>
            </a:r>
            <a:endParaRPr b="0" lang="en-US" sz="2000" spc="-1" strike="noStrike">
              <a:solidFill>
                <a:srgbClr val="000000"/>
              </a:solidFill>
              <a:latin typeface="Verdana"/>
            </a:endParaRPr>
          </a:p>
          <a:p>
            <a:pPr lvl="3" marL="1211400" indent="-343080">
              <a:spcBef>
                <a:spcPts val="400"/>
              </a:spcBef>
              <a:buClr>
                <a:srgbClr val="e66c7d"/>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uide for locating variab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14.1</a:t>
            </a: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74" name="Picture 3" descr=""/>
          <p:cNvPicPr/>
          <p:nvPr/>
        </p:nvPicPr>
        <p:blipFill>
          <a:blip r:embed="rId1"/>
          <a:stretch/>
        </p:blipFill>
        <p:spPr>
          <a:xfrm>
            <a:off x="609480" y="1600200"/>
            <a:ext cx="815364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66320" y="914040"/>
            <a:ext cx="7543800" cy="51814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ATTEND</a:t>
            </a: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often do you attend religious services?</a:t>
            </a:r>
            <a:endParaRPr b="0" lang="en-US" sz="25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0. Neve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Less than on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bout once or twice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 Several times a year</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 About once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 2-3 times a month</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 Nearly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 Every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 Several times a week</a:t>
            </a:r>
            <a:endParaRPr b="0" lang="en-US" sz="2200" spc="-1" strike="noStrike">
              <a:solidFill>
                <a:srgbClr val="000000"/>
              </a:solidFill>
              <a:latin typeface="Verdana"/>
            </a:endParaRPr>
          </a:p>
          <a:p>
            <a:pPr lvl="1" marL="78912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 Don’t know, No answer</a:t>
            </a:r>
            <a:endParaRPr b="0" lang="en-US" sz="2200" spc="-1" strike="noStrike">
              <a:solidFill>
                <a:srgbClr val="000000"/>
              </a:solidFill>
              <a:latin typeface="Verdana"/>
            </a:endParaRPr>
          </a:p>
        </p:txBody>
      </p:sp>
      <p:sp>
        <p:nvSpPr>
          <p:cNvPr id="376" name="Rectangle 3"/>
          <p:cNvSpPr/>
          <p:nvPr/>
        </p:nvSpPr>
        <p:spPr>
          <a:xfrm>
            <a:off x="990720" y="838080"/>
            <a:ext cx="1600200" cy="60984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1371600" y="2438280"/>
            <a:ext cx="380880" cy="342900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Callout 1 5"/>
          <p:cNvSpPr/>
          <p:nvPr/>
        </p:nvSpPr>
        <p:spPr>
          <a:xfrm>
            <a:off x="3657600" y="457200"/>
            <a:ext cx="3124080" cy="533520"/>
          </a:xfrm>
          <a:prstGeom prst="borderCallout1">
            <a:avLst>
              <a:gd name="adj1" fmla="val 18750"/>
              <a:gd name="adj2" fmla="val -8333"/>
              <a:gd name="adj3" fmla="val 107611"/>
              <a:gd name="adj4" fmla="val -2923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breviated Variable Name</a:t>
            </a:r>
            <a:endParaRPr b="0" lang="en-US" sz="1800" spc="-1" strike="noStrike">
              <a:solidFill>
                <a:srgbClr val="000000"/>
              </a:solidFill>
              <a:latin typeface="Arial"/>
            </a:endParaRPr>
          </a:p>
        </p:txBody>
      </p:sp>
      <p:sp>
        <p:nvSpPr>
          <p:cNvPr id="379" name="Line Callout 1 6"/>
          <p:cNvSpPr/>
          <p:nvPr/>
        </p:nvSpPr>
        <p:spPr>
          <a:xfrm rot="16200000">
            <a:off x="-533160" y="3961800"/>
            <a:ext cx="2361960" cy="533520"/>
          </a:xfrm>
          <a:prstGeom prst="borderCallout1">
            <a:avLst>
              <a:gd name="adj1" fmla="val 18750"/>
              <a:gd name="adj2" fmla="val -8333"/>
              <a:gd name="adj3" fmla="val 177879"/>
              <a:gd name="adj4" fmla="val 59995"/>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umerical Label</a:t>
            </a:r>
            <a:endParaRPr b="0" lang="en-US" sz="1800" spc="-1" strike="noStrike">
              <a:solidFill>
                <a:srgbClr val="000000"/>
              </a:solidFill>
              <a:latin typeface="Arial"/>
            </a:endParaRPr>
          </a:p>
        </p:txBody>
      </p:sp>
      <p:sp>
        <p:nvSpPr>
          <p:cNvPr id="380" name="Line Callout 1 7"/>
          <p:cNvSpPr/>
          <p:nvPr/>
        </p:nvSpPr>
        <p:spPr>
          <a:xfrm>
            <a:off x="5791320" y="2666880"/>
            <a:ext cx="3124080" cy="533520"/>
          </a:xfrm>
          <a:prstGeom prst="borderCallout1">
            <a:avLst>
              <a:gd name="adj1" fmla="val 18750"/>
              <a:gd name="adj2" fmla="val -8333"/>
              <a:gd name="adj3" fmla="val -77203"/>
              <a:gd name="adj4" fmla="val 1986"/>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finition of the Variable</a:t>
            </a:r>
            <a:endParaRPr b="0" lang="en-US" sz="1800" spc="-1" strike="noStrike">
              <a:solidFill>
                <a:srgbClr val="000000"/>
              </a:solidFill>
              <a:latin typeface="Arial"/>
            </a:endParaRPr>
          </a:p>
        </p:txBody>
      </p:sp>
      <p:sp>
        <p:nvSpPr>
          <p:cNvPr id="381" name="Rectangle 8"/>
          <p:cNvSpPr/>
          <p:nvPr/>
        </p:nvSpPr>
        <p:spPr>
          <a:xfrm>
            <a:off x="1066680" y="1600200"/>
            <a:ext cx="7010640" cy="53352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1066680" y="2362320"/>
            <a:ext cx="4572000" cy="3581280"/>
          </a:xfrm>
          <a:prstGeom prst="rect">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Callout 1 10"/>
          <p:cNvSpPr/>
          <p:nvPr/>
        </p:nvSpPr>
        <p:spPr>
          <a:xfrm>
            <a:off x="6248520" y="4267080"/>
            <a:ext cx="2438280" cy="533520"/>
          </a:xfrm>
          <a:prstGeom prst="borderCallout1">
            <a:avLst>
              <a:gd name="adj1" fmla="val 18750"/>
              <a:gd name="adj2" fmla="val -8333"/>
              <a:gd name="adj3" fmla="val -34476"/>
              <a:gd name="adj4" fmla="val -23699"/>
            </a:avLst>
          </a:prstGeom>
          <a:no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riable Attrib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9:45Z</dcterms:modified>
  <cp:revision>9</cp:revision>
  <dc:subject/>
  <dc:title>Slide 1</dc:title>
</cp:coreProperties>
</file>