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BDAF4-9F51-4A63-BEF2-7168C4509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1DBFD-4AFA-4A1B-AF73-ADC9C3FE7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431D2-CE58-4ED4-B87E-D49EDB075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93FB4-A164-4398-B72F-4BBCED143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EB9C9-C8C0-4428-B7F4-221E22391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99A79-2725-47DE-B8E5-5E943F76F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F58CD-E6C1-4D38-8ECC-9B619A455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A16C7-E01D-4CB1-8474-FEE1E5D14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0A6A2-8793-41BD-85AE-FA4C3BA5E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7E35F-EAA7-4599-8977-F1AB0964C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096BC-9608-45A0-ABA1-E023228C6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4B191-C7C9-47D8-B948-55A99124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F7595-B6A9-4F1F-BB91-0094F688C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851AE-025D-47ED-A4E5-E1CCECA93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5062E-49D0-4460-B102-F0C768B42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14D76-8B8B-45B8-88FD-B3937007E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17872-38A9-450C-A6D0-F730D20DC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47D7A8-0CB1-48B0-9CD6-CEE71FD795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409340-D11F-4159-AF35-A94B7C4AD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7B8185-3A71-4039-9658-19039D920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BF9DF1-F25F-4DF5-A943-36A22B57C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48C7BA-0584-4301-B262-EAF471B97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CDFD7-1B5C-4030-BAE8-251CD63D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8E754B-301B-402F-9781-2BFA6C835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F4D585-A77D-4CC0-96B9-9AB828DBC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62004E-8EDE-4391-A76E-1A83CBDA6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2A55AF-1DAF-4A61-A991-AD15ACF56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6E069A-9B37-496A-BD75-CB100ADF3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F261B87-557B-4DDE-80AA-D719F664F4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8D74A2-164B-409D-A8E2-9304EA768A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1A5237-45CF-4770-BB54-D463D02498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F9BEA6-2531-456C-9867-2BFBD61C3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F037D3-370C-4D0D-8CA7-5B166DD45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DD0C3-9F9A-4A93-B902-0ABAC8544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60D80A-A167-48E4-80C3-CC473D85D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E93DAA-99E4-4CB1-A263-20247DB30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F3761E-160D-4373-B33A-05D3DAFBD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53F682-4B2D-44AC-99AF-0F60A9F7E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0185DF-8573-4F44-84E5-D8226D60F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D9CD19-190F-4DB4-85FC-FB136C822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3782F7-81E9-40A4-A1DE-B87BCBC231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26597F-FF34-4710-B70F-69B143316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8509C72-B7D9-474E-ACD2-9654E8055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FB94783-9AB2-460D-8E7E-4C5D4C440C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C0311-376E-4761-8A1F-38E277C14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A556A1-74B9-4E95-907D-76FD50637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4BA6C0-0FDD-4217-8B4E-C52485E2D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EA43F3-57BF-44D6-8C83-B13072BF5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6737A0-A855-4B08-BBBA-FCD2DCFF8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03EEA9-AFC4-487D-97A7-FFACFE841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E967E7-AA54-4DCF-919F-E1ED0EA7B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E6AB82-C1A3-4EF5-9B0A-C501E9A56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864DC8-89DB-4AFA-8657-1F73CCEC6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F7997F-63A7-4854-95DE-6F77FBAE2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51E71C-5797-4E95-AE8A-C5AE79ADC3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7707F-5121-4F5C-A915-0C0745E6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C75712D-610A-492F-8F9F-CB811ABE79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F1A558-D585-4489-A901-7C469A5AE5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AD2EF-979C-49A6-AC2C-B2A70F3E5B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4A7F0-B3B6-46DB-B37A-42C8CE937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E78E5-ABB9-494B-B2D1-CA4DF72EA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B4E6C-FE6B-41E9-B972-EABC38C24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8D993-A72F-4F2A-9925-85AA77209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4AECA-F42D-4F17-8D1C-FEDA7892B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BA761-7755-464F-8AD4-E55E5A2B4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A63CD-2E78-462B-BF27-1C2C4D3AF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CEAE-6081-4DAF-B89A-499693EB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79617-BA85-4992-9A59-D82C75E88B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B96572-E2C7-4547-8754-564BFC1594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771EA7-B7AA-4889-B482-AD360B9A0E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142F663-56DB-4A3B-94C5-E6C597E546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237893-E855-4961-8C92-EBB1E81CD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D4FAD2E-A7CD-4B63-AD4C-95C17A6FE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440FC1-49C1-4D71-A64D-2A1E81004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474C19-BA6C-40F2-9DF7-E3CCB0DDA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2D7565-ACB2-42E3-8A9C-5BCA4C8E6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AFDF9F-3D36-47F0-810F-3A257AFF9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5735-DDE1-4D04-969B-122B63FB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851832-9B52-452A-9187-075C31D8E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C69AD6-7987-4AAD-B0D9-43EFBB5B4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5AFB731-4CA7-4A66-BF79-99B7890C5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80DFB5E-C38A-488C-A471-0274A81FCF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DE3F50-0E25-4882-9284-0EB77C894F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8D346C-22B0-4D32-89C6-8650188204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85947-BFE9-4A0B-AF6D-789C3DEDD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A0ED94-8C86-4DB4-9DF0-F74C85B867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1EF707-3C8B-40CF-A0EA-25A33543C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2E41AA-8581-4ECB-8147-45C08E540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3283-17A4-4BD8-BB22-727B8F897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06ECA2-04D5-48B2-AA5C-856DA22DAF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1381B-FB4A-4695-BF56-78DC8DB43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A7D99-B4F7-4F17-99AD-57F8E26F9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8E158-AA74-4DD9-A44E-A6F5C76912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E558D-1763-429A-B0A8-3E6B2CE882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F4E70C-F639-429B-AC95-3914116EB4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3054E8-4795-4F8F-B741-8CD9C9ACA5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7549-7DBB-4B7A-9AA7-F9E58F78DA92}"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F91A-6B60-4FE6-8D6F-6F376D162394}"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F753-89EA-485D-A38F-BCDDFEB091DC}"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0801-500B-40F4-B61B-767A40EBF195}"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1DE8-1499-4B6D-B33E-8B57DAED487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DEF7-CF87-4D57-A482-7A48988071C1}"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6F08-402B-467D-A3AA-8EB855244C01}"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D7E6-525B-4D99-BA49-7D4F26CB63D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3, QUALITATIVE DATA ANALYSIS</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damental Assumptions</a:t>
            </a:r>
            <a:endParaRPr b="0" lang="en-US" sz="26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 is a socially constructed activit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s must be understood contextuall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al analysis aims to understand the structure and meaning of conversation through excruciatingly accurate transcripts of conversation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litative Data Processing</a:t>
            </a: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ing – Classifying or categorizing individual pieces of data, coupled with some kind of retrieval syste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Unit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as a Physical A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Codes</a:t>
            </a:r>
            <a:endParaRPr b="0" lang="en-US" sz="24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Coding – the initial classification and labeling of concepts in qualitative data analysi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xial coding – a reanalysis of the results of open coding in the GTM, aimed at identifying the important, general concept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ive coding – in GTM, this  builds on the results of open coding and axial coding to identify the central concept that organizes the other concepts that have been identified in a body of textual material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moing – Writing memos that become part of the data for analysis in qualitative research such as grounded theory. Memos may describe and define concepts, deal with methodologies issues, or offer initial theoretical formulations.</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rational No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pt Mapping – The graphic display of concepts and their interrelations, useful in the formulation of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3</a:t>
            </a: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0" name="Picture 3" descr=""/>
          <p:cNvPicPr/>
          <p:nvPr/>
        </p:nvPicPr>
        <p:blipFill>
          <a:blip r:embed="rId1"/>
          <a:stretch/>
        </p:blipFill>
        <p:spPr>
          <a:xfrm>
            <a:off x="574560" y="1600200"/>
            <a:ext cx="4835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Computer Programs for Qualitative Data</a:t>
            </a:r>
            <a:endParaRPr b="0" lang="en-US" sz="40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DA Program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Leviticus as Seen Through NUD*I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Using NVivo to Understand Women Film Direct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5</a:t>
            </a: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Picture 3" descr=""/>
          <p:cNvPicPr/>
          <p:nvPr/>
        </p:nvPicPr>
        <p:blipFill>
          <a:blip r:embed="rId1"/>
          <a:stretch/>
        </p:blipFill>
        <p:spPr>
          <a:xfrm>
            <a:off x="609480" y="160020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valuating the Quality of Qualitative Research</a:t>
            </a:r>
            <a:endParaRPr b="0" lang="en-US" sz="40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lidity</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abil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ing Theory and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Data Processing</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Programs for Qual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Qualitative Analysis of Quant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aluating the Quality of Qualitative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litative Data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599840"/>
            <a:ext cx="8153280" cy="48006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Questions/Assessments for Evaluating Qualitative Research</a:t>
            </a:r>
            <a:endParaRPr b="0" lang="en-US" sz="27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redible are the findings?</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has knowledge or understanding been extended by the research?</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oes the evaluation address its original aims and purpose?</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is the scope for drawing wider inferences explained?</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lear is the basis of evaluative appraisal?</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efensible is the research design?</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efended are the same design/target selection of cases/docu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3" name=""/>
          <p:cNvSpPr txBox="1"/>
          <p:nvPr/>
        </p:nvSpPr>
        <p:spPr>
          <a:xfrm>
            <a:off x="612720" y="1599840"/>
            <a:ext cx="8153280" cy="4800600"/>
          </a:xfrm>
          <a:prstGeom prst="rect">
            <a:avLst/>
          </a:prstGeom>
          <a:noFill/>
          <a:ln w="0">
            <a:noFill/>
          </a:ln>
        </p:spPr>
        <p:txBody>
          <a:bodyPr anchor="t">
            <a:normAutofit/>
          </a:bodyPr>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is the eventual sample composition and coverage describ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was the data collection carried out?</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the approach to, and formulation of, analysis been conve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are the contexts of data sources retained and portra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iversity of perspective and content been explor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etail, depth, and complexity of the data been convey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599840"/>
            <a:ext cx="8153280" cy="4724280"/>
          </a:xfrm>
          <a:prstGeom prst="rect">
            <a:avLst/>
          </a:prstGeom>
          <a:noFill/>
          <a:ln w="0">
            <a:noFill/>
          </a:ln>
        </p:spPr>
        <p:txBody>
          <a:bodyPr anchor="t">
            <a:normAutofit/>
          </a:bodyPr>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links between data, interpretation, and conclusion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nd coherent is the repor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assumptions/theoretical perspectives/values that have shaped the form and output of the evaluation?</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vidence is there of attention to ethical issu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adequately has the research process been docum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n analysis that aims to understand a particular case of several cases by looking closely at the details of each.</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tion</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 is an analysis that aims to understand a particular case of several cases by looking closely at the details of ea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is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is an inductive approach to research in which theories are generated solely from an examination of data rather than being derived deductiv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key process in the analysis of qualitative social research 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alyz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ri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key process in the analysis of qualitative social research is 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analysis – The non-numerical examination and interpretation of observations, for the purpose of discovering underlying meanings and patterns of relationshi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Methods for examining social research data without converting them to numerical format are referred to a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tative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thods for examining social research data without converting them to numerical format are referred to as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Which of the following are different ways a researcher may look for patterns in a particular research topic?</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i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gnitud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researcher may look for patterns in a particular research topic in the following ways: frequencies, magnitudes, and structur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_____ is an analysis that describes and/or explains a particular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 is an analysis that describes and/or explains a particular variable.</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_____ is a component of the GTM in which observations are compared with one another and with the evolving inductive theor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 is a component of the GTM in which observations are compared with one another and with the evolving inductive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_____ is commonly defined as the science of signs and has to do with symbols and meaning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Kines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miot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apholog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is commonly defined as the science of signs and has to do with symbols and meaning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Linking Theory and Analysis</a:t>
            </a: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overing Patterns</a:t>
            </a:r>
            <a:endParaRPr b="0" lang="en-US" sz="29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i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gnitud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ructur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u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9. In _____ coding, codes are suggested by the research’s examin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pe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x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lect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open coding, codes are suggested by the researcher’s exami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ase analysis – An analysis that involves an examination of more than one case; this can be either a variable-oriented or case-oriented analysis.</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able-oriented analysis – An analysis that describes and/or explains a particular variabl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se-oriented analysis – An analysis that aims to understand a particular case or several cases by looking closely at the details of each.</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GTM) –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ant Comparative Method – A component of the Grounded Theory Method in which observations are compared with one another and with the evolving inductive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 Stages of Constant Comparative Method (Glaser and Straus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ring incident application to each categ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ing categories and their properti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imiting the the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 The study of signs and the meanings associated with them, “the science of sig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meaning of:</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blue ribb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ay chee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cros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horsesho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versation Analysis – A meticulous analysis of the details of conversation, based on a complete transcript that includes pauses, hems and haw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19Z</dcterms:modified>
  <cp:revision>6</cp:revision>
  <dc:subject/>
  <dc:title>Slide 1</dc:title>
</cp:coreProperties>
</file>