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7012-004D-4B93-91FB-FBF907F3D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9B00-F35B-492A-BDBE-F33B5B493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46299-AF23-4622-8D66-80F66A735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F8A4A-54CD-4FDC-AE46-62A335E8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F1676-8951-40B0-BB08-822DFA755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BCAB5-CAE8-4020-90EC-8A92868A1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4BF5B-3A45-4F7E-98BD-E93C7823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982E1-4822-43AC-8708-EFF506E6B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028AC-CC13-412F-AE3D-6E27A683C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93C0F-9EE3-4C8D-83AD-AA5D2A851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35B8A-E766-4ACE-B3C4-BFE21D213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4373-D1D8-4160-A9CF-4BE093B4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A69B6-41E1-4EAF-8225-B9C5859F7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7E938-BCD9-479B-A482-1EB7FDE1D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AC752-A19D-4CD6-B572-F39E50325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A558E-41BE-4CAA-B886-28D35750A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1437B-9625-4B98-8F46-A8E0F5F77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2A5886F-A3F3-4512-AE8B-65712FDF9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243C12-46F4-4800-A9D7-21BDFA66C7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84A371-AC52-434D-A397-568CA501B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7B84FA-8EFF-4A51-BE3D-7F74898E8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8F1BAF-2CB5-48D4-8888-A815DDC93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DC592-2370-4335-AAA9-D4CF885E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BCD449-94F1-4731-9F3C-7814981D5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347FAA-424C-42AB-A250-AE4D059D6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9F9A61-AF7C-4BCC-92EA-B60C837A0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35EF31-3B26-4978-8ACC-D5E5ED8C2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4A398C-A4B6-44AD-AB2A-A2EB5E2E38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58FD4A-E7A8-4BD4-8660-0EB00F58D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ECE376-7319-4E79-AE5F-DF32862E5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69F3B87-D75A-4A6D-813F-F762164A43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289754-6627-4168-8868-174B99126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B88CA1-22F7-465B-898C-03BF0F8A0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15C3A-71B0-4918-9AA3-5FB0F5EC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C91CEB5-44C2-4478-AE66-0FF973DB4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D86915-A178-4148-ADDE-49CC581C3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9C6178-A986-425B-9EAA-AA145299F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150388-DE26-4372-B064-085613676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BF5D7C-B49B-4700-A898-65D885C1D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89BF00-11EC-4B45-A1FB-2ECB5B009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E0FED2-5611-42D8-BEE5-3326F717D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E30A8C-430E-4657-B608-706836C494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4B45C23-97D8-4547-A3C5-A64E8E0D5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C86D6D4-D3C1-436A-B84E-4977C2670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3616D-504D-43DC-8259-34FFDC39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294CA8-5876-41B9-A166-E1C858D48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3D7E6B-7FB2-4CB2-8369-4D1A07435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9635DC-EE20-4CA1-85B9-528992882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21E289-90C7-4A6C-B128-818468446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912B19-EE40-44A2-BCFA-DB4FF607F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8880F38-2AE9-4EE9-B66B-B79F3263A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DDA959-45F3-4F41-A011-0B85A1084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6EB187-DD87-4D18-9471-143CEA6B8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E3F61E-9E3A-4BE1-AD7F-A91BFBD3DC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2FF665-EA4E-428F-9221-D4D62DB6E1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F118D-7F5F-467E-8936-23DD7DEBF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E4E6EC-7B88-46DB-A35E-4A7F8EF255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714FBB-EA2B-4B5A-88BE-7C4EEBB90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F7F2C-CB9E-4001-B5FF-AC656B803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3AFD5-4A5D-4B68-AB86-261CECC55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B0C6CA-51EE-4634-A0A3-DEDEE97BA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EF2C7-0F5C-49A8-9193-C31E3190E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40CDC-6576-4883-8143-2F9FD9472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464A5-204D-4F34-BA6A-104E2396A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39937-EA62-4665-9A8F-5CF720811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A3D7F-9889-46D2-95C0-14F42CFD8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0219B-7804-47E2-B004-4FE294AE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233860-CEA9-41AA-B274-B75AEBB9C7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AD2EAA-B6D0-444C-B487-4E6CD8ED1A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60E49D-DD4F-42B1-B513-702E9D1D69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E41C18E-85DE-4EA3-85A3-75F5DADB47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DCBAB37-5805-4806-B7A4-C602BE9AB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A13CA22-50AC-4019-84B0-CFEB89A7B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2C32E5-31EF-463E-A467-692272F894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790C61-272A-4268-840C-51657A000B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7A14E1-9434-4E86-92E2-E19F231C6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DBD034-D1C0-48D1-83B8-213AF7A0D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929C3-2137-4276-8E76-3DEDCADC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F9ACD9-29A8-43ED-B048-7B3CBD470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2E210BF-7978-484A-B7E7-D91884B06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D71BF3-D15B-4B87-BE7B-36D1C1E6F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34BFDF-D50B-4BD1-8A4E-1F4F63B3E4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7A1098D-6A31-489C-BD15-15EDCC8389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C60D37-CA89-406F-8614-C6AEDF7E13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453E40-B1D5-4469-9B48-0DF2341C6F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DE6AE9-6A98-4CA0-8354-1E1F154E7A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4441E1-8FCA-4646-B621-56FC4D476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4441F-A1B2-412F-846A-CB26FB43A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7F25-88C3-4CE9-8A34-B5499184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365CF5-E001-4466-8BA2-1A2DEFBFF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9EF8B-1FEF-4B57-AF2A-8176B902A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3E0E4-700B-444E-B9FE-B1880B1AB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40C9B-306F-4F10-ADA5-0AB6B9E11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05AF3-F69E-4B68-875B-EE148FC19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08AA80-AA18-40DB-8FF6-0EABDA1E3C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9A5F1-8499-4811-9FDC-B45AC0D808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D454-038D-4D06-A671-31937B63DFD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1BD2-C9C5-404C-80CC-52CCCFBF6279}"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33F8-E158-4A3F-9637-D65F9A9D4E7D}"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DDD5-00F9-4683-97E0-A00D11F63EF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1928-585F-40CB-B539-FD1DEEDA074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5A161-32AD-47B1-860E-5E17164656FE}"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BF97-ED75-4F7F-8E81-697F14DFCF48}"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55AC-5034-4500-9645-A74D6B4ECD8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3, QUALITATIVE DATA ANALYSIS</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ndamental Assumptions</a:t>
            </a:r>
            <a:endParaRPr b="0" lang="en-US" sz="26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 is a socially constructed activit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s must be understood contextually.</a:t>
            </a:r>
            <a:endParaRPr b="0" lang="en-US" sz="2300" spc="-1" strike="noStrike">
              <a:solidFill>
                <a:srgbClr val="000000"/>
              </a:solidFill>
              <a:latin typeface="Verdana"/>
            </a:endParaRPr>
          </a:p>
          <a:p>
            <a:pPr lvl="2" marL="1006560" indent="-457200">
              <a:spcBef>
                <a:spcPts val="499"/>
              </a:spcBef>
              <a:buClr>
                <a:srgbClr val="60b5cc"/>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versational analysis aims to understand the structure and meaning of conversation through excruciatingly accurate transcripts of conversation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litative Data Processing</a:t>
            </a: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ing – Classifying or categorizing individual pieces of data, coupled with some kind of retrieval system.</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Unit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ing as a Physical A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ing Codes</a:t>
            </a:r>
            <a:endParaRPr b="0" lang="en-US" sz="24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n Coding – the initial classification and labeling of concepts in qualitative data analysi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xial coding – a reanalysis of the results of open coding in the GTM, aimed at identifying the important, general concepts.</a:t>
            </a: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2" marL="914400" indent="-228600">
              <a:lnSpc>
                <a:spcPct val="9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ive coding – in GTM, this  builds on the results of open coding and axial coding to identify the central concept that organizes the other concepts that have been identified in a body of textual material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moing – Writing memos that become part of the data for analysis in qualitative research such as grounded theory. Memos may describe and define concepts, deal with methodologies issues, or offer initial theoretical formulations.</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oretical Notes</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erational Not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pt Mapping – The graphic display of concepts and their interrelations, useful in the formulation of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3</a:t>
            </a: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0" name="Picture 3" descr=""/>
          <p:cNvPicPr/>
          <p:nvPr/>
        </p:nvPicPr>
        <p:blipFill>
          <a:blip r:embed="rId1"/>
          <a:stretch/>
        </p:blipFill>
        <p:spPr>
          <a:xfrm>
            <a:off x="574560" y="1600200"/>
            <a:ext cx="48355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Computer Programs for Qualitative Data</a:t>
            </a:r>
            <a:endParaRPr b="0" lang="en-US" sz="40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DA Program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Leviticus as Seen Through NUD*I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 Using NVivo to Understand Women Film Directo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3.5</a:t>
            </a: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Picture 3" descr=""/>
          <p:cNvPicPr/>
          <p:nvPr/>
        </p:nvPicPr>
        <p:blipFill>
          <a:blip r:embed="rId1"/>
          <a:stretch/>
        </p:blipFill>
        <p:spPr>
          <a:xfrm>
            <a:off x="609480" y="160020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valuating the Quality of Qualitative Research</a:t>
            </a:r>
            <a:endParaRPr b="0" lang="en-US" sz="40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lidity</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abil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ing Theory and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Data Processing</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Programs for Qual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Qualitative Analysis of Quantitative Data</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valuating the Quality of Qualitative Research</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litative Data Analysi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1" name=""/>
          <p:cNvSpPr txBox="1"/>
          <p:nvPr/>
        </p:nvSpPr>
        <p:spPr>
          <a:xfrm>
            <a:off x="612720" y="1599840"/>
            <a:ext cx="8153280" cy="480060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Questions/Assessments for Evaluating Qualitative Research</a:t>
            </a:r>
            <a:endParaRPr b="0" lang="en-US" sz="27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redible are the findings?</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has knowledge or understanding been extended by the research?</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oes the evaluation address its original aims and purpose?</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is the scope for drawing wider inferences explained?</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lear is the basis of evaluative appraisal?</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efensible is the research design?</a:t>
            </a:r>
            <a:endParaRPr b="0" lang="en-US" sz="2400" spc="-1" strike="noStrike">
              <a:solidFill>
                <a:srgbClr val="000000"/>
              </a:solidFill>
              <a:latin typeface="Verdana"/>
            </a:endParaRPr>
          </a:p>
          <a:p>
            <a:pPr lvl="1" marL="731880" indent="-457200">
              <a:lnSpc>
                <a:spcPct val="8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ell defended are the same design/target selection of cases/documen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3" name=""/>
          <p:cNvSpPr txBox="1"/>
          <p:nvPr/>
        </p:nvSpPr>
        <p:spPr>
          <a:xfrm>
            <a:off x="612720" y="1599840"/>
            <a:ext cx="8153280" cy="4800600"/>
          </a:xfrm>
          <a:prstGeom prst="rect">
            <a:avLst/>
          </a:prstGeom>
          <a:noFill/>
          <a:ln w="0">
            <a:noFill/>
          </a:ln>
        </p:spPr>
        <p:txBody>
          <a:bodyPr anchor="t">
            <a:normAutofit/>
          </a:bodyPr>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is the eventual sample composition and coverage describ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was the data collection carried out?</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the approach to, and formulation of, analysis been conve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are the contexts of data sources retained and portray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iversity of perspective and content been explor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well has detail, depth, and complexity of the data been convey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599840"/>
            <a:ext cx="8153280" cy="4724280"/>
          </a:xfrm>
          <a:prstGeom prst="rect">
            <a:avLst/>
          </a:prstGeom>
          <a:noFill/>
          <a:ln w="0">
            <a:noFill/>
          </a:ln>
        </p:spPr>
        <p:txBody>
          <a:bodyPr anchor="t">
            <a:normAutofit/>
          </a:bodyPr>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links between data, interpretation, and conclusion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nd coherent is the repor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clear are the assumptions/theoretical perspectives/values that have shaped the form and output of the evaluation?</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evidence is there of attention to ethical issu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ow adequately has the research process been documen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97"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n analysis that aims to understand a particular case of several cases by looking closely at the details of each.</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tion</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ase-oriented analysis is an analysis that aims to understand a particular case of several cases by looking closely at the details of ea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is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marL="609480" indent="-609480"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is an inductive approach to research in which theories are generated solely from an examination of data rather than being derived deductiv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7"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key process in the analysis of qualitative social research 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alyz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ri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key process in the analysis of qualitative social research is co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litative analysis – The non-numerical examination and interpretation of observations, for the purpose of discovering underlying meanings and patterns of relationshi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Methods for examining social research data without converting them to numerical format are referred to a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tative research.</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thods for examining social research data without converting them to numerical format are referred to as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Which of the following are different ways a researcher may look for patterns in a particular research topic?</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i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gnitud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tructur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researcher may look for patterns in a particular research topic in the following ways: frequencies, magnitudes, and structur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_____ is an analysis that describes and/or explains a particular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Variabl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ariable-oriented analysis is an analysis that describes and/or explains a particular variable.</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_____ is a component of the GTM in which observations are compared with one another and with the evolving inductive theor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ounded Theory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5"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ant comparative method is a component of the GTM in which observations are compared with one another and with the evolving inductive theo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_____ is commonly defined as the science of signs and has to do with symbols and meaning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Kines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miotic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Grapholog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is commonly defined as the science of signs and has to do with symbols and meaning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Linking Theory and Analysis</a:t>
            </a: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overing Patterns</a:t>
            </a:r>
            <a:endParaRPr b="0" lang="en-US" sz="29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i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gnitud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ructur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uses</a:t>
            </a:r>
            <a:endParaRPr b="0" lang="en-US" sz="2600" spc="-1" strike="noStrike">
              <a:solidFill>
                <a:srgbClr val="000000"/>
              </a:solidFill>
              <a:latin typeface="Verdana"/>
            </a:endParaRPr>
          </a:p>
          <a:p>
            <a:pPr lvl="1" marL="87948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9. In _____ coding, codes are suggested by the research’s examin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pe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x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elect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3"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open coding, codes are suggested by the researcher’s exami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case analysis – An analysis that involves an examination of more than one case; this can be either a variable-oriented or case-oriented analysis.</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ariable-oriented analysis – An analysis that describes and/or explains a particular variable.</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se-oriented analysis – An analysis that aims to understand a particular case or several cases by looking closely at the details of each.</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rounded Theory Method (GTM) – An inductive approach to research in which theories are generated solely from an examination of data rather than being derived deductively.</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tant Comparative Method – A component of the Grounded Theory Method in which observations are compared with one another and with the evolving inductive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 Stages of Constant Comparative Method (Glaser and Straus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ring incident application to each categ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grating categories and their properti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limiting the theory</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theo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miotics – The study of signs and the meanings associated with them, “the science of sig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is the meaning of:</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blue ribb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say chee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cros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a horsesho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versation Analysis – A meticulous analysis of the details of conversation, based on a complete transcript that includes pauses, hems and haw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19Z</dcterms:modified>
  <cp:revision>6</cp:revision>
  <dc:subject/>
  <dc:title>Slide 1</dc:title>
</cp:coreProperties>
</file>