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AB6-F5BB-4DCC-89D1-8E4D662A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B6A-35B7-4E6D-8BAD-08F0567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CC3-72C3-45CC-9FBC-A1A590AE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357-31B2-4515-B194-CF0C0B2E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C667-1CB0-4FB3-906D-FA67DFBA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650-F4C8-49C1-A089-C4608A30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C486-7825-44AC-9ADE-074981D6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1D6-25E5-4ACF-BC3E-F4ECEADA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F86B-C65D-443A-B9E2-ECC5CD4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8586-3D47-45FC-816E-48E567FF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3B22-0C04-4137-AA3D-F4FAB3B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3EC-7DE9-4098-A153-2693EFD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B5E4-9517-4C69-A24E-03BD75F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CCE-94C4-4DD9-91BC-351EC19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C511-8A50-4E97-8DE3-C27099E5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6957-D77C-4975-9128-39FE68CC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55AD-3A7E-45A5-BDD2-BA3F5051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72941-EBFD-49D0-8532-B9A8FAF3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70947-207D-424B-ACC7-DC2D7C79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ADA88-A6E9-4E62-B4DD-DE3D2FAF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CD1BF-E7FB-488F-ADD4-04A92E5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377D9-CD3F-4913-B698-22321D5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2F1-15D2-4A17-B302-60530799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2FBDC-D2A7-46C4-901F-4C812C9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78C52-7AF6-4D80-98A1-81A024C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C01D4-62DC-4AB4-B072-72FDB9F8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5D4C9-838D-4736-9980-7306CE95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92F0E-2028-4B64-B6A2-4473F564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10DE7-335B-45A0-9FF2-7849539B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C8867-F03E-413F-B895-E975808B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DF4D4-CD08-4C9B-AB83-526C1A49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7FE93-FEC6-4C27-97CE-CFCC6EC4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4A4D4-1858-4114-BEE0-501F78E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C8C-00F7-471F-A3EF-A5FFFF5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143FB-4EBA-4423-B403-AA28FE60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3EC8E-A787-4F6C-A721-564EDB52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49D33-EB3E-40F7-B8ED-DDA7B99F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488AA-E97A-43E6-A5C6-9DB3E821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E5ECC-CA5B-470A-A12D-DF8619D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D8F29-2747-4A94-9B3A-EECD9D1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7C59D-AF0B-4E20-A687-397B7F3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9EE8B-5B95-4C58-AAF1-2D145C1C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91BF2-A973-4778-BAFD-E594355E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D4DCA-BDB6-4B6B-A8C7-BCA1D117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048-D102-4A57-92C2-A5479EE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3F9BE-0DEB-4662-AA13-05325FC6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C1815-AF29-4CA9-A41C-CD97668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6601F-3348-4412-AF88-C361896A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1E49A-00A4-4989-B13C-1C3C6A8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C5E76-322E-48D7-8CCD-8D2E1DCF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C6DDD-4074-46DA-AF10-B1395EB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BFD57-47F4-4ACC-BC2E-1284502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0FBC1-3E94-4EE1-AE57-26C6F6B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526C3-0EB4-4992-8B0C-4FFAC34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BD916-D51E-492E-839F-659A2A9B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C85-8B8A-4345-B66C-CFEE526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3884C-2058-4766-BCEC-794BC1C3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B348-44E9-4356-9B95-07E86AE8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3AD51-540A-41C2-85EC-87235542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66B48-3E4D-49C3-ADCD-A3B4E62F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E6CE9-E8CB-4CA7-96B4-1982821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015BE-5152-4502-BD4A-F7CFFBA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6094-141B-45A0-9DBD-25E9B790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CAEC1-D41C-4B98-94DD-8A10F3B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DF71-4670-4AC4-A266-C4FE050E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E015-3F31-40D1-B532-B81015F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05C-64C5-427F-873A-64F227F4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C558E-5309-4A84-BAE0-8A1A3EAB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5DC1-92C7-4C76-BA2F-5651BEC6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9817-5A64-48CD-817A-6CC05E0C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87C8F-01F1-423C-A24D-799702E6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4B7AF-CA6E-4EB8-8234-7307018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7C493-2B84-4DAC-BCF2-B53E8F7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821DB-8157-4C45-9E38-E2175CCA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73418-5673-4013-AF3F-68063575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DEA16-A97E-451E-9A04-E50C618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BE9D3-5420-4042-B4C6-1D4B680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D87-8B19-4F97-AAFA-AA3796C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1EA29-AFC2-44A6-9D31-0F1BF4F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594CC-0EF6-4CA8-ABDF-4C5DEB6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4A260-C257-48FB-A521-D5D0307D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53FCA-AC8F-49C0-A92A-52300F67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E2240-C42A-4622-AE0A-DD4969F2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056B8-EFBC-4DFD-BDD4-B09B69B7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C1178-86FE-4A82-959E-8EB6CBD1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8831-7048-4E49-9AC1-B1637985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83F94-762A-429F-A9F4-60B01656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D66F7-3A03-4F0B-B0FB-799EE58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B01-AE2F-4D34-A74A-0B3F12BF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204F-5A9E-4D80-B283-F4DA85E6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20BE7-2255-4316-BAE0-1434A4F8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F1264-99A5-4843-BBF1-1C1E87A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99EB-EC23-4AC6-AF02-83BEC6E7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48DA4-04C4-45E7-8E3D-DFA0E4C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4DC6-B7F5-4D24-B91F-3DEBC253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02C9F-B7B5-484B-B5FC-1F7A168B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E64-B837-4F94-89BA-3701F314895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20F4-393F-4DAC-AEE1-F9142FC099B4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8556-96D3-47D5-812F-21B4E472AAE3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F38F-65B5-42F7-A02B-69C16A12D03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25A8-3DE9-4ACF-B4F6-09229EA4E80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CCA0-AFC3-487C-BF23-0212F8513648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36BA-9DF0-433A-AAED-0CBC5AE66AD0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84C3-700E-48F7-8DD7-11780CEC651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2, EVALUATION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stical Problems – Getting subjects to do what they are supposed to 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ion research occurs within the context of real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of Research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evaluation research results are not always put into practi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ications may not be presented in a way that is understandable to the non-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ults may contradict deeply held belief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ers may have a vested interest in the resul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ocial Indicators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– Measurements that reflect the quality or nature of social life. Social indicators are often monitored to determine the nature of social change in a socie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ath Penalty and Deter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Sim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y has evaluation research grown in popula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ederal requirements demanding program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vailability of research funds to fulfill federal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has grown in popularity because of federal requirements demanding program evaluations, and the availability of research funds to fulfill federal requirem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Appropriate to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ing the Problem: Issue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Evaluation Research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Besides making measurements relevant to the outcomes of a program, research must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 eff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ides making measurements relevant to the outcomes of a program, research must measure the program interven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A research design that involves measurements made over some period may be defined 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esearch design that involves measurements made over some period may be defined as time series desig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key variable for evaluation researchers is to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key variable for evaluation researchers is to measure the respons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– Research undertaken for the purpose of determining the impact of some social intervention, such as a program aimed at solving a social probl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_____ are distinguished from “true” experiments primarily by the lack of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 are distinguished from “true” experiments primarily by the lack of a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0. Professor Yee wants to do an evaluation study of the effects of a patient education program on patient anxiety. He uses one wing in a hospital for the experiment and compares the results with a similar group of patients in a similar wing in another hospital. Which design would be bes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assic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quivalent control group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ime-ser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sttest-only control group desig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or Yee wants to do an evaluation study of the effects of a patient education program on patient anxiety. He uses one wing in a hospital for the experiment and compares the results with a similar group of patients in a similar wing in another hospital. The nonequivalent control group design would be b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. Evaluation researchers encounter more logistical problems than other researchers because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s long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more cos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more measurement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s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ers encounter more logistical problems than other researchers because evaluation research 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Evaluation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eeds assessment studies – Studies that aim to determine the existence and extent of problems, typically among a segment of the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st/Benefits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ppropriate topics are those with practical signific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ormulating the Problem: Issues of Measuremen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the “Unmeasurable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xperimental Con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Interven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the Pop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us Existing Meas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ionalizing Success/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ypes of Evaluation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-Experimental Designs – Nonrigorous inquiries somewhat resembling controlled experiments but lacking key elements such as pre- and post-testing and/or control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-Series Design – A research design that involves measurement made over some peri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equivalent Control Groups – A control group that is similar to the experimental group but is not created by the random assignment of subje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Time-Series Designs – The use of more than one set of data that were collected over time, so that comparisons can be m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ost effective evaluation research combines qualitative and quantitative compon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51Z</dcterms:modified>
  <cp:revision>8</cp:revision>
  <dc:subject/>
  <dc:title>Slide 1</dc:title>
</cp:coreProperties>
</file>