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2ED-4F42-4EFD-A63D-A21D2C04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9E4-D2A1-4CA1-97C7-81F020B8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171-F90C-4AA6-B4A7-DDD9A1DA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C2F-CF3D-4A1D-8702-0F3252F6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756F-498D-46CA-8FF3-13A430AE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B9F9-4624-4BBC-BE6A-76967046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1F5D-4637-4B87-8F17-1EDAC5BB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1D16-3017-49FF-A3D8-BF97854D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B45D-C0BD-4DBE-8A62-E4C51F25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EFF3-F62A-4208-8733-178A2C6B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EE8E-1395-429E-9E5B-BE873B9D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52B-02D2-4D59-A381-598E6B36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5D26-7977-4736-A1EE-DB24DF2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E5E4-C18E-428F-B019-B7940AB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471-29CC-4662-814E-EE5046C4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C5FD-2AC7-4612-AE3B-D67A920D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044E-135C-4111-A564-F57D0367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EC663-9464-4324-8D7B-9B02680D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C863C-F084-49EC-9935-B6BE9E01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4CE18-3C31-4D92-B1E6-CB5623F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BBFC8-F358-4E19-90FF-1593EA2E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FE964-53D5-4843-8D54-B331EAEE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682-D813-44D2-93F4-E6A81802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2C2E1-4792-47CF-9D02-1F7EF5B5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CDD7B-85CD-4761-90E0-C6858BDB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1814C-8C74-44A3-BBDF-2AD5A57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75687-7209-47B6-854D-CD5838F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D919E-F7EE-4B42-BA4E-997F8D19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1CF8F-AC80-4F0A-A07E-ED3D71C6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1363D-3182-4F41-8E53-28ECF687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BB62F-AF4E-473F-AC9A-23431439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AA092-C435-4AE4-842D-9BD9600F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41797-B9E8-48A0-97CA-E757E72B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179-BB43-4C49-BC64-AF092244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1E8CD-E39F-4604-B6C7-5E8318D8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F99B8-8A61-4068-B774-31594D8E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33D5F-EE27-4A65-AEE3-006BD38C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0CD37-A955-42ED-B284-CF738ED0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205E5D-D278-4F08-AAA4-35FAE7F6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655592-B266-4437-8DF9-8F79E8A2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C78FC-5FDE-4A82-9384-CFC83372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DDF38-E4DC-4A97-ADD3-20792177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F4D56-D2FF-459B-B934-6CDCC800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EE4BE-BDFF-4618-9537-A52B3280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94A-C3B2-4FA5-B26A-EAB2090D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E0DE4-5DF7-4C71-9EFC-471CE207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644C8-D97B-49D2-8AA4-88BF451D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01854-B158-4B42-A68C-51D3517F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5969C-8F23-4AFD-A234-A38748E9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D6CF3-5C4E-4A2C-80FC-D7C584C5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5E24E-E54C-4668-A63A-C3902168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59CBC-931A-4EB4-B2F5-D6F63905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85D64-35E2-46BA-BC95-726553BA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652E3-7778-49D2-AE8F-3CB9F448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F1D0A-6C31-4C7C-AD1D-84D80DB0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2E8-FD6E-427A-BAE2-4022961C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53BA8-8664-4B2C-B733-58A42751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F1873-301C-4D23-81E0-18565253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187FB-0D86-4AC2-B16C-C1E12B71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F674E-7349-46E0-AFC4-8CBF84E8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6A846-8E99-4533-8C6A-2EE59EE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E03CE-3ED1-468F-9110-D3261693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15A9-A55E-4EFB-AC7A-E66002BD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30F5C-8F4E-43F6-8E06-D712E7D3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1122-87F8-4C78-899E-7EEFF3F9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110A7-A839-485E-AEA0-078DCBAA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94C-00FD-42BD-B5F5-71D0549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DE7E6-E162-4F62-B82E-47359E6B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C49AD-3EC7-4640-A940-174F2DD1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77E90-8CD3-4E8C-BC76-277A2EC9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2EF4C-92A3-40C9-8E56-10CDECFB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AB7D3-37D1-460F-BC76-E28D9973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529D4-6428-4A3D-901C-E2AEB6B4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50E04-9168-422F-B31E-7966B4E4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B231D-890E-45A1-B70A-8F815C63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8608C-4387-4AA6-8CB2-2E4A2E19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F21FE-AEE8-4027-A813-869950C8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35C-ADE6-4F8A-A6A1-E4278E1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AA8B7-662C-4620-AB3A-19E09417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2214A-DF61-4798-AA2C-5FFB83B4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8A091-BC2F-407B-9A43-135AE39D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6F22D-883A-4AA4-9082-62BA4994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2BFFC-9271-47CB-9828-FCD40F3C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3B818-3B58-4C4B-B117-92A5ACB9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369F9-5254-4013-8AE9-F895EDE2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B2C5F-59A7-45C2-86A4-1F50FC4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ED5C1-17C9-4FA2-AA0F-1611B833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3255C-4B9D-41E5-A851-B2D7AC5D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E53-1E86-4865-9AB7-645BD0C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E46F4-DBE8-4A40-8B82-13C010FD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0DC24-8438-4669-A511-DFA8BEF3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00CC-E207-433D-A21E-159B9FBF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29338-6A41-42DC-9BA2-EFCC863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428BA-2F4C-4439-BB4C-B0A120DA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0014C-DF86-4E8C-9EB5-CD0F1455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7A677-14AD-489C-8794-BFD51450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E78B-28FE-4CA0-A68A-6FA9D46748F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6283-1663-437A-9475-D10CE6F1E576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DC52-DDE1-430A-85CC-13E8D1361AD7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DB50-1D18-48BD-B2B5-ABBEA2E479B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F75A-89AB-4843-BA70-8ED3354CF77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A1CD-5881-475E-A9A2-5358A28BB5AB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C976-EE1B-4A9B-835B-9CA765ED39F7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1582-E459-4405-90E9-E12E4BF6F54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2, EVALUATION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gistical Problems – Getting subjects to do what they are supposed to 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ion research occurs within the context of real lif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of Research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evaluation research results are not always put into practic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ications may not be presented in a way that is understandable to the non-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ults may contradict deeply held belief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ers may have a vested interest in the result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ocial Indicators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– Measurements that reflect the quality or nature of social life. Social indicators are often monitored to determine the nature of social change in a socie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eath Penalty and Deter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Simu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y has evaluation research grown in popularit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ederal requirements demanding program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availability of research funds to fulfill federal require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has grown in popularity because of federal requirements demanding program evaluations, and the availability of research funds to fulfill federal requirem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 aim to determine the existence and extent of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_____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 provide a steady flow of information about something of inter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ics Appropriate to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ulating the Problem: Issue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Evaluation Research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dicators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thics and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Besides making measurements relevant to the outcomes of a program, research must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m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gram interv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rtiary eff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ides making measurements relevant to the outcomes of a program, research must measure the program interven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A research design that involves measurements made over some period may be defined a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research design that involves measurements made over some period may be defined as time series desig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_____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is a form of applied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eds assessmen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st-benefit studies determine whether the results of a program can be justified by its expe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key variable for evaluation researchers is to measure the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key variable for evaluation researchers is to measure the respons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 – Research undertaken for the purpose of determining the impact of some social intervention, such as a program aimed at solving a social probl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. _____ are distinguished from “true” experiments primarily by the lack of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time series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 experiments are distinguished from “true” experiments primarily by the lack of a random assignment of subjects to an experimental and a control grou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0. Professor Yee wants to do an evaluation study of the effects of a patient education program on patient anxiety. He uses one wing in a hospital for the experiment and compares the results with a similar group of patients in a similar wing in another hospital. Which design would be best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assical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quivalent control group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ime-ser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posttest-only control group desig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fessor Yee wants to do an evaluation study of the effects of a patient education program on patient anxiety. He uses one wing in a hospital for the experiment and compares the results with a similar group of patients in a similar wing in another hospital. The nonequivalent control group design would be be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. Evaluation researchers encounter more logistical problems than other researchers because evaluation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s long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more costl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more measurement problem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s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researchers encounter more logistical problems than other researchers because evaluation research occurs in the context of real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Evaluation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eeds assessment studies – Studies that aim to determine the existence and extent of problems, typically among a segment of the popu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st/Benefits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nitoring Studi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ppropriate topics are those with practical signific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Formulating the Problem: Issues of Measuremen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the “Unmeasurable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asuring Experimental Contex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Interven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fying the Pop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us Existing Measu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ionalizing Success/Fail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ypes of Evaluation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 Desig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si-Experimental Designs – Nonrigorous inquiries somewhat resembling controlled experiments but lacking key elements such as pre- and post-testing and/or control gro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-Series Design – A research design that involves measurement made over some peri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equivalent Control Groups – A control group that is similar to the experimental group but is not created by the random assignment of subje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ple Time-Series Designs – The use of more than one set of data that were collected over time, so that comparisons can be ma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alitative Evalu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ost effective evaluation research combines qualitative and quantitative componen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8:51Z</dcterms:modified>
  <cp:revision>8</cp:revision>
  <dc:subject/>
  <dc:title>Slide 1</dc:title>
</cp:coreProperties>
</file>