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D33-D362-435A-9E94-9E1289AE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8C6-36A4-45C7-83CA-EF81D656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177-8ECC-4512-AA29-812D2A90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A22-C07B-437E-8ABA-0C6EC5CE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13D-A71D-49C4-B24A-660B5DE7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3670-2A49-4DF8-9F65-9D381793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EC7-D85B-4BCE-AAD2-C424F813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6810-94B0-4037-B3B0-133A77DD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FCF3-8095-43F1-8D32-6252B9D9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0C39-C18A-4AF8-B3A4-6DC2E238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7012-8571-4BB8-BE69-F726BB82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0DA-7A29-4D2B-9DB5-B165B493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E63D-2ECC-4B7E-8591-F0BCF77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B798-18BA-4861-8C7A-3742B69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D214-4029-4EE0-B6F6-D1EDA316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7F51-F06E-482F-95FA-BF254461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DC5A-888E-4C0D-8633-F86163B8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87FE6-8EF5-4067-9FAC-C766332A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4229A-4ADA-4386-8C6C-0E3B5DC1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4B9FA-5481-4373-B8CD-3D838AA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416A5-BB4D-40B3-BC70-1ACF9E03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89FE5-5AE1-42E7-8CC4-36694962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61F-C64B-4056-958C-962FE305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52610-67ED-426D-8501-B05E374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56D6C-5F4A-4848-9264-16294A94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1C2A2-2492-40CD-A42D-43920646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EE65D-F4DB-4CF4-92DB-3CDD903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B3FA0-53D1-41AE-A630-3D2F4CEB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FD341-4D8F-453A-A82E-3EB749B6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24729-73F3-44BF-8822-87E80210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6745C-E8CF-44E7-8935-A5E396F9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D0B9A-4224-4F3B-86C1-746FCC6D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A0444-5F3F-4905-BE45-281FE890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335-4534-44E5-9D6A-6EC311EC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27732-1ABB-42C0-8933-8F349EE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212A9-0389-4B13-BD8A-A80055F3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251FA-62E9-47E1-856C-A9D1AD72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0E495-F440-4513-ACE9-96171729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1B3E4-1401-478A-8519-FEDF5F80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9F4D8-00C5-4380-8094-08365E10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873BD-1681-4436-8A3E-F284DF43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79DB0-B4F1-4527-ADAE-561D0D5C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5CF28-A450-4EF9-B89A-4FE3C4E5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0474A-E89E-4985-A6B9-AFF0C154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2F2-1139-47F5-820C-8FE0CA67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FB710-1B83-4D28-A2C7-B1A0BF3D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2DFDD-5D52-498C-87AF-647F2144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4E190-7432-44D5-A05E-D4B66F48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6F166-D87C-43ED-AF03-B1AD4124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6D561-BD8C-42A2-8B0C-B5976043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B0E33-60B9-4860-AC7D-BB5135A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0170E-A05E-421A-A8D7-846449FF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C95F0-91DD-4BE7-BECE-DF30C2E3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DD75B-F203-4821-AE16-928BA54F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65B1D-D8D7-4994-A0E6-F678D49B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7DD-3231-4026-9D2E-7794719F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FE199-314D-4C37-9FFC-23ADE312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781CE-4CDB-43FA-9D25-51C9E4EA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91B3B-7944-475F-ADF2-2C89F309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22E0E-73EA-4E35-B12C-DC83C461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5D5FD-A570-43D1-9EE2-74E0DA5E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EBED9-C4A3-4EF7-92A6-0AFA2935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9F4C3-2BE5-42A1-9CCB-D8261AFD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44856-C595-40D6-9A21-F8B4263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7A162-E61D-4A0C-8117-446F7C17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292FF-6418-4CA2-8438-446BFFC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508-6CEE-439B-806C-8137EFA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7D034-C796-4F11-9363-B5A205E5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31017-AC5A-4AB4-B474-12F26050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5E971-8258-4396-9958-C9A23EEA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3FFDB8-6459-41D0-8490-4AA984D9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9A604-FB73-4B2D-B87C-AAD9EBED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E9412-CEEB-4C8B-957F-45F53A9B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06F47-8FF4-4311-BC45-EE1AA5E3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D0AB1-3AE4-4527-869B-92035850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0FCF34-30F9-4EAD-BA0C-F1007A9D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AC22B-4127-4AF3-85DD-93255264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11B-ECA8-44FF-85FB-F5B9E0C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C4722-7260-4A38-8A2B-F52AC4C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2F3C8-D109-41BC-A5A9-1B1EE3A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BE8B7-8DAB-4760-A7F0-1A267E25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5D312-D181-44E7-860D-7515EF63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DE13E-D021-4F27-AEB4-DCC25519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61569-F36B-47DA-88D3-DF799A58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A4A5-2E84-4669-B768-B07955CD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45005-0F1F-4EFF-87CC-F940A23B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D953A-2E47-48C1-BAFB-64CBA377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F202C-B15C-4791-9D00-511CE1DF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289-6922-40B7-9F79-17ABA0B5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55A3B-2CBD-440B-8219-3DAF346E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E21D0-1E67-48DE-A008-0624FF8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D1FB3-12DD-48AC-B2EE-94DBE04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8EB44-3BF7-4FC8-B592-31C632AF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24967-DC32-47EB-86EA-47AF833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1B77A-1FED-40AD-819C-34AD5CDC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626BF-8FB4-44CD-A1D2-A2EECBBC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5BB2-20B4-427C-BD9D-3B974AF8E4B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EA52-598B-40E0-ACEB-B5C3B84E5786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294E-1EB4-4E73-97BB-BDE0EE6752A7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2241-1855-4290-891B-10AEAF52AE0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D6C0-5D57-41AE-B1B3-49478DF3226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FAA2-4D4B-4D36-8D00-E73224D5C718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5FBB-FCF3-4A47-B92C-7C69537EEA34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7D4F-411E-443E-B5D9-13D89F6BA87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2, EVALUATION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stical Problems – Getting subjects to do what they are supposed to 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ion research occurs within the context of real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of Research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evaluation research results are not always put into practic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ications may not be presented in a way that is understandable to the non-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ults may contradict deeply held belief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ers may have a vested interest in the resul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ocial Indicators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– Measurements that reflect the quality or nature of social life. Social indicators are often monitored to determine the nature of social change in a socie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eath Penalty and Deter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Simu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y has evaluation research grown in popula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ederal requirements demanding program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availability of research funds to fulfill federal requir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has grown in popularity because of federal requirements demanding program evaluations, and the availability of research funds to fulfill federal requirem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Appropriate to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ulating the Problem: Issue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Evaluation Research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Besides making measurements relevant to the outcomes of a program, research must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 interv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 eff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ides making measurements relevant to the outcomes of a program, research must measure the program interven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A research design that involves measurements made over some period may be defined 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research design that involves measurements made over some period may be defined as time series desig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key variable for evaluation researchers is to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key variable for evaluation researchers is to measure the respons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– Research undertaken for the purpose of determining the impact of some social intervention, such as a program aimed at solving a social probl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_____ are distinguished from “true” experiments primarily by the lack of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 are distinguished from “true” experiments primarily by the lack of a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0. Professor Yee wants to do an evaluation study of the effects of a patient education program on patient anxiety. He uses one wing in a hospital for the experiment and compares the results with a similar group of patients in a similar wing in another hospital. Which design would be best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assic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quivalent control group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ime-ser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sttest-only control group desig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or Yee wants to do an evaluation study of the effects of a patient education program on patient anxiety. He uses one wing in a hospital for the experiment and compares the results with a similar group of patients in a similar wing in another hospital. The nonequivalent control group design would be b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. Evaluation researchers encounter more logistical problems than other researchers because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s long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more cost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more measurement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s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ers encounter more logistical problems than other researchers because evaluation research 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Evaluation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eeds assessment studies – Studies that aim to determine the existence and extent of problems, typically among a segment of the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st/Benefits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ppropriate topics are those with practical signific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ormulating the Problem: Issues of Measuremen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the “Unmeasurable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xperimental Con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Interven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the Pop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us Existing Meas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ionalizing Success/Fail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ypes of Evaluation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-Experimental Designs – Nonrigorous inquiries somewhat resembling controlled experiments but lacking key elements such as pre- and post-testing and/or control 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-Series Design – A research design that involves measurement made over some peri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equivalent Control Groups – A control group that is similar to the experimental group but is not created by the random assignment of subje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ple Time-Series Designs – The use of more than one set of data that were collected over time, so that comparisons can be ma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ost effective evaluation research combines qualitative and quantitative compon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51Z</dcterms:modified>
  <cp:revision>8</cp:revision>
  <dc:subject/>
  <dc:title>Slide 1</dc:title>
</cp:coreProperties>
</file>