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01B-F91E-4A63-924B-ED354590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1B0-326F-4491-AFEB-583CB116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FF4-3D47-49E3-9097-91C8AB59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7DC-583E-4CB0-A7A6-E2F86C11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2674-A629-4C49-984D-FE48FC2A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70A4-28B5-4833-92A7-8DC480C3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54EA-38F6-4FF6-9A71-9D7827E2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C583-A149-4C0B-9261-8D740149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2590-1D4D-46F4-878E-2DA6B180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E330-03B6-4C48-94E3-C71F9642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2587-C84E-426A-BF0A-140229B0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8EC-C121-46BA-9803-012343F9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7A97-91CD-4D31-9ECD-EE736A91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0C27-AF25-4D64-8040-667D2881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C6BB-0C53-40C9-962A-077C7D9C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155C-CBAF-4677-91A0-4931E9A2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4D40-3DC0-4DCD-9395-C9D92706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017C2-F7B2-49E4-9BFF-B3C3ABA5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AF0B6-C811-48A6-9C14-CC2444C2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7FF7D-81E8-4C3D-83C0-39DC9C10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49388-0B41-47A4-8516-B25B64E1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61267-61C2-47CA-8C63-0DB9BDD6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C68-1721-41F8-9A54-63BACC2F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318C1-8E18-4514-88F5-C5EB84FB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D5152-77B1-4A03-9712-DA1D89EA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31088-7359-43C1-A7F8-8AA21E4E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B967C-EC0B-4544-84CB-136E7157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771F9-79FF-4973-900E-1CC7B00B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538D7-EE64-4AD4-A89D-F379AAE9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172F5-667C-4264-8CE9-4C409BAE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FFC827-B71D-49B4-9040-45282B87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CBAFDF-30E2-47B1-BF19-DDF3DD20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875988-31B2-4DEE-A1AF-BEF019D3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A28-24BF-4FEF-9EC0-8D96D6A4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495EB-E598-4EFF-A407-92EF2BFC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765B24-996C-4296-AAF7-D24378B9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44E30F-299A-400C-8721-AAC755F3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E66EE2-CB35-47F0-BC79-625CAC3A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CF5C9-13F1-4A0E-91E8-B43F5A4C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813FCE-CCB7-47A8-B1F3-BE2287E2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8056EA-AED6-49AE-85B9-55A04F50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CF0411-0F2F-4EF7-B1A4-B913C2E0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73276-697D-47E2-9B02-B9AA465A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A4632-E1BF-4920-AA0F-B49AD57A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196-7EF0-4C95-8B06-03A4886B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25AE6-7EA4-4EBC-B5DA-EF27F0A8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62A4A-868A-44ED-9099-9F331D38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D58EDE-C4C1-49E0-91ED-4EBD1031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B4616-B2A6-43D3-994E-7ECC385F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977457-8F4C-426A-82C7-1A046992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9C971-454B-4711-846F-FADA6E25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3EF5C-0822-4B5D-9179-4F965349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E4322-2AC9-4EF1-AC05-027321F6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0D5D8A-A62B-42BE-A7A1-20EA57F6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06FE8-79FA-4798-A447-2B95DCAE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D30-0214-45FE-9302-40F74097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020E5-B8FA-4FDA-A1CA-10F86F43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BCB54-124D-4D59-A9C4-319E0FAA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95BD9-7EE9-4125-AAB7-D4AB5BA3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DE3E4-A219-42D8-A450-EE78A009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B4254-94A9-4A90-A909-A71C41FD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ECF9E-B0A8-46B0-9EDC-A17747BF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CB596-A938-48A4-896D-1BE07544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C2BA3-ABEB-4763-9788-18085C7B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609AC-86CE-48E1-A9E7-3F78A3BF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B2FE7-517A-40F9-900C-55F108BC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B24-6085-4EEC-A934-08BCA37F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CB2F2-D4A5-46B7-9359-0866B37C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B4F6C-A1D8-4BB9-9248-160368DF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FC855-00A6-434B-A630-06FAE64F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F3FA1-D59F-4E02-8755-8296162A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FA691E-80DC-4FAC-9421-51F58E2D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E794B-38D1-4450-9F67-A2E903B3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3F356-970E-4F0F-83A7-2EF583E9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C34DB-203A-40B0-955A-90DC1528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A9FCE3-92E3-452F-A742-93D0C680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E3270B-BA98-4593-9A04-E6260B76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9A5-E355-4C53-8A5E-743DB737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9375AA-5A1F-43C4-8295-C75F2141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F68BC5-336E-439E-8209-2CD1A923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3D90CD-81C3-40B2-A06C-C0C6D834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F7665-9811-41B3-B62B-01C55A0D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D2E67E-4C40-4F2A-BDAF-A26DBD68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B874B-4BDE-4E3F-825D-B659E183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C9D6E-AFCC-449C-99F7-1E49405F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6E272-CE29-4B89-93E4-EA3D0E51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9F2EE-7F3A-48D0-8B22-3977B50E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B3FA1-1DCB-411E-B13C-5BD78D2B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F43-DDE2-4DBB-B822-C631D04A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4076A-8B8C-4E75-A2C4-0C63F0B2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97EAE-6C68-45FE-8FD6-C40D1F74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3EC53-CC50-4690-8E4E-D5EE9842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67A91-E520-4666-B673-FA876A79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73D84-7CFC-4D0E-9084-6DB54487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49FE5-B38B-4272-ABD0-00DA4BC6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19496-9FD6-4DBE-BA04-63BA35C7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889B-0DEC-464B-8858-401483D1118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BC5B-C481-4DA2-80DD-9708B555506E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2E78-084B-4A80-8591-90906C3864FB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FF28-BBE0-4F84-8046-7AE3AE79EAC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74BD-8388-44F6-90BD-1247136F6630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33C4-B418-4715-A5A4-F7B55A88F57F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DD45-37FB-45EF-8D77-BCF7336B456C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3B70-F018-4089-91A2-052E93E91A7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2, EVALUATION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stical Problems – Getting subjects to do what they are supposed to 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ion research occurs within the context of real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of Research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evaluation research results are not always put into practic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lications may not be presented in a way that is understandable to the non-researc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ults may contradict deeply held belief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earchers may have a vested interest in the result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ocial Indicators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dicators – Measurements that reflect the quality or nature of social life. Social indicators are often monitored to determine the nature of social change in a socie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eath Penalty and Deterr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Simul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y has evaluation research grown in popularit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ederal requirements demanding program evalu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availability of research funds to fulfill federal require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 has grown in popularity because of federal requirements demanding program evaluations, and the availability of research funds to fulfill federal requirem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aim to determine the existence and extent of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 aim to determine the existence and extent of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provide a steady flow of information about something of inter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 provide a steady flow of information about something of inter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pics Appropriate to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ulating the Problem: Issue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s of Evaluation Research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dicators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ics and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Besides making measurements relevant to the outcomes of a program, research must measure the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imary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am interven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rtiary eff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sides making measurements relevant to the outcomes of a program, research must measure the program interven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A research design that involves measurements made over some period may be defined a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research design that involves measurements made over some period may be defined as time series desig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is a form of applied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view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is a form of applied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_____ determine whether the results of a program can be justified by its expe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 determine whether the results of a program can be justified by its expe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A key variable for evaluation researchers is to measure the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key variable for evaluation researchers is to measure the respons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 – Research undertaken for the purpose of determining the impact of some social intervention, such as a program aimed at solving a social probl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. _____ are distinguished from “true” experiments primarily by the lack of random assignment of subjects to an experimental and a control group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 are distinguished from “true” experiments primarily by the lack of a random assignment of subjects to an experimental and a control group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10. Professor Yee wants to do an evaluation study of the effects of a patient education program on patient anxiety. He uses one wing in a hospital for the experiment and compares the results with a similar group of patients in a similar wing in another hospital. Which design would be best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lassica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quivalent control group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ime-ser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osttest-only control group desig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fessor Yee wants to do an evaluation study of the effects of a patient education program on patient anxiety. He uses one wing in a hospital for the experiment and compares the results with a similar group of patients in a similar wing in another hospital. The nonequivalent control group design would be b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1. Evaluation researchers encounter more logistical problems than other researchers because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ccurs in the context of real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kes long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more cost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more measurement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s mor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ers encounter more logistical problems than other researchers because evaluation research occurs in the context of real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Evaluation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eeds assessment studies – Studies that aim to determine the existence and extent of problems, typically among a segment of the popu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st/Benefits Stud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ppropriate topics are those with practical significanc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Formulating the Problem: Issues of Measurement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asuring the “Unmeasurable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asuring Experimental Contex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cifying Interven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cifying the Popul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us Existing Measu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ionalizing Success/Fail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ypes of Evaluation Research Desig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l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-Experimental Designs – Nonrigorous inquiries somewhat resembling controlled experiments but lacking key elements such as pre- and post-testing and/or control grou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me-Series Design – A research design that involves measurement made over some peri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equivalent Control Groups – A control group that is similar to the experimental group but is not created by the random assignment of subjec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ple Time-Series Designs – The use of more than one set of data that were collected over time, so that comparisons can be mad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Evalu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ost effective evaluation research combines qualitative and quantitative compon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51Z</dcterms:modified>
  <cp:revision>8</cp:revision>
  <dc:subject/>
  <dc:title>Slide 1</dc:title>
</cp:coreProperties>
</file>