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D82F-0FF5-407E-9949-60BEBD036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DD5E-2A2D-46A4-840B-05AA63D3C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699-9A1C-4E90-8B2F-A88AB36A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C82-E872-486D-9F2B-DAB6EFCD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505-B8F8-48CB-B225-C139C8E7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858-ED76-48DC-88F6-48D53877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5FB7-F30F-45FA-AAD7-BAF7F8EC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A259-F083-42A5-9FE6-1D362717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6547-1315-479B-B0A2-7295B579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241D-85DA-40B6-9464-A9837769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A964-D02B-4374-804A-864CB075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2678-092B-4702-B643-6C54826D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9D12-8CBC-46C8-BDCA-FBDFF667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BC9-2F37-427E-9948-DB24CCDE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559D-F057-4176-8040-CF5A437B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B3BB-859F-402A-9F04-82F9D454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710E-5B63-45F0-A8FE-90A40C87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C321-7741-4FB7-BFE5-1CBE3DD6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0903-1151-4718-A835-8116279E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11E43-0B48-480B-98C9-F97A08EB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0B286-7201-4B20-8ED2-BFBE9E35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3A898-14DF-45C3-9F6B-EDCBF1CC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115E8-960C-4EC8-8EBA-2ABDC322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9C576-D86C-4364-A68C-9752A68E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4F3-D191-40E9-B757-A76F20B5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B86A0-C106-434E-A2B1-B4F8FF06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8E838-562C-48E8-9624-AAD71090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AAEAF-A075-4C61-A48C-8CDAB85C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63398-3A30-4E69-96BF-6107CF6B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9669E-7E96-439B-AD90-0770E063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8327F-C6DA-44B7-B77E-71C0FB75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E7592-60FB-4340-B30F-EB15BE14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28B529-B5EB-45B1-9A23-15415A6D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E60F0-1DAC-47EC-8FD9-B7534671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84320-D71B-49AA-88FE-FE461232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56C-2217-4710-990A-C50DBEAD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0127B-7527-4571-8D2E-948195A3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FF831-0447-4503-8BB1-75935263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1F9C4D-01BD-4AFE-AE79-3D8304EE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D3D0AE-7210-4532-A1BD-05DB6D84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37DD1-2F83-48E3-B40C-1935E096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AF196C-B886-4DA2-9F44-981B2B92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3DD7A-B1E7-4AE0-8655-9209AA24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EA1C5-4995-42EF-86C4-04585A48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E7723-7B8F-4326-905B-19787EC8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4C5B81-A4CB-404E-AC73-F093250E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BC0-886E-43CE-B66F-F761F238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61CA0-2FD4-471C-97BB-189B0FB0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AA599-8A36-4174-ADF3-83C7B955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1601D-42A3-4C35-9A23-68B19292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22248-9C7D-4F23-B6AC-F3B64FF8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30E1A-FD02-4EA9-8B63-5938A62E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46DF2-9CE0-4970-B327-F8483192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2EC53-6BA4-4119-B2EA-C07038DB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60E92-E416-4450-BC9D-80166F11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8341D-1021-47E4-8D3E-7857BE83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D89C0-6CFE-4CB5-BC55-393FFCB0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27A-F4F1-45B2-B9CE-75209A00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E43B4-C5C6-40D2-B324-D6B887C9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B9A62-F182-482B-AF0F-2256AA21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2F27B-DB55-4A10-BA76-72D77F2C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3FAC0-0154-4340-A3AA-5E98DEE4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6FA5C-FE1E-466A-A346-0AD91C93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00280-167E-4D1E-B58C-0DD28519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72680-0C04-4E6B-8E8B-4997435C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FB2DD-15E2-47D0-B753-5EF84336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8C8CC-D5D9-4DC0-A304-D97325BB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0DD42-EE8E-4F48-930F-1D20C6EB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563-FBE6-430D-A7BB-5D704AAD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F8377-2A26-4600-A334-874C6D97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23125-B751-4C7F-9A0C-F3ED3378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4606A-FBF5-4CE9-B383-925D7639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E74D2-D8F3-4A88-AF8F-B1ECC3C6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4B17F-112B-4DBF-B7D4-16586AA0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9CF4D-5057-487C-9124-A52777B9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A1D7BC-E58D-4EE1-B2B7-C735358A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5402A-067E-4685-AB42-80181DB2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B23EC-7EA0-4A2C-BD5F-517300A9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5E625-580B-43FE-92B1-24BAF418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549-E7ED-4318-9F9D-900D28B4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21A1B-7A5B-4E99-941F-B7448C2B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85F159-100C-476D-A205-1512A543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EA937-8F59-4C57-BD42-43929C71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8A752F-AE9D-4462-B4EA-A900C009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25444B-B026-402A-AB97-D574577B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84B94-65C8-43BD-AC25-9963A186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B05B1-0A61-4BA1-90CE-AB2A21B9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927D9-1BD3-47D9-A160-D0E0C90A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12B2C-C001-4BBF-B015-E752E561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8F916-3CB2-43C0-B4FD-822A7AB2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C0A-07DC-411D-B0D3-CC2E7240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5C76B-64F3-460E-8B49-54C7E0A3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0031F-6F55-4009-8554-95D7F1E2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56140-B74B-483A-A7D2-D916771B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1FC74-4B41-4C8B-890F-069A6309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CA68D-DAC0-4389-90A1-B985121F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45D3E-9F96-4FD1-A687-69177570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4582B-7CC5-4DF7-B0FE-E739B36C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EBA8-B936-4280-B8AC-1D9C8F992BA2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F96F-769F-4D98-AAB8-ABA68E569974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A8A9-30C5-4BE8-B1C7-0E9B72FA774F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3FFB-96A1-4244-9027-5A133ECEB49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75C4-6580-4311-A552-A6641BAA38C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8653-B941-4508-A130-79FF8770A6DF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E636-E32A-40C1-A364-ACA4705EE88F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7AAE-0443-4170-9290-2E3656F99AB2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1, COMPARATIVE AND HISTORICAL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ding in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ding – The process whereby raw data are transformed into standardized form suitable for machine processing and analys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ifest Content – The concrete terms contained in a communic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tent Content – The underlying meaning of communic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8440" y="1600200"/>
            <a:ext cx="4227480" cy="3657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4645080" y="1725480"/>
            <a:ext cx="43466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 and the Creation of Code Catego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rational Defini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evels of Measuremen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unting and Record Kee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d product of coding must be numeric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cord keeping must distinguish between units of analysis and units of observa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cord from the base from which the counting is don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28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ative Data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egative Case Testing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ips for Avoiding Dang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cases at rand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t least three supporting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 others to review interpre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 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457200">
              <a:spcBef>
                <a:spcPts val="4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llustrations of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trengths of Content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y of time and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ing for the correction of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its the study of processes occurring ov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has little (if any) effect on su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aknesses of Content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ed to recorded commun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Analyzing Existing Statistic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analysis of existing statistics is not the same as secondary analysi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isting statistics may be the main source of data or a supplemental source of data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ample: Durkheim’s Study of Suicid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xample: Kentor’s Consequences of Globaliz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y nature, existing statistics describe group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cological Fall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zing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ics and Unobtrusive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lems of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gical Reas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l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blems of 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 of Existing Statist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rces of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istical Abstract of the United St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ographic Year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mparative and Historical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 – The examination of societies (or other social units) over time and in comparison with one an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 of 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ber and the Role of Id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panese Religion and Capital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rces of Comparative and Historic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305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tic Techniq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ich type of research does not require the researcher to intrude on what s/he is study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ntitat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ey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 does not require the researcher to intrude on what s/he is study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Which of the following may be examined in content analys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gazi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bsi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obtrusive Research – Methods of studying social behavior without affecting i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: Durkheim’s analysis of suic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es of Unobtrusive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alysis of Existing Statist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arative and Historical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, magazines, and websites may be examined in content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ich of the following occurs when you obtain a copy of someone else’s data and undertake your own statistical analysi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quasi official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official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ary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ary analysis occurs when you obtain a copy of someone else’s data and undertake your own statistical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are types of unobtrusive research method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of existing statistic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, analysis of existing statistics, and comparative and historical research are types of unobtrusive research method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 following are usually qualitat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 and comparative and historical research are usually qualitativ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are the individual units that we make descriptive and explanatory statements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 are the individual units that we make descriptive and explanatory statements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In the content analysis of _____, sampling may occur at any or all of several leve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ten pro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levi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ontent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Analysis – The study of recorded human communications (i.e., books, websites, paintings, laws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ropriate Top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o says what, to whom, why, how, and with what effect?”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e content analysis of written prose sampling may occur at any or all of several leve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Existing statistics should always be considered a _____ source of dat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m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pplemen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rti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isting statistics should always be considered a supplemental source of dat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 When we base research on an analysis of data that already exist, we face problems of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eatabil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we base research on an analysis of data that already exist, we face problems of 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violence on TV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operational defin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ide what to obser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ide how to code/analyze 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 in Content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30481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unit of analys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how children’s literature portrays gender ro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popular film’s use of drugs and alcoho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sociology textbook’s definition of rac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are interested in the content of Internet Blog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11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609480" y="1562040"/>
            <a:ext cx="68630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pling Techniq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y conventional sampling technique may be used for content analysi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28Z</dcterms:modified>
  <cp:revision>11</cp:revision>
  <dc:subject/>
  <dc:title>Slide 1</dc:title>
</cp:coreProperties>
</file>