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3D52-EDDC-4148-A377-F2DBB28F1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EEC9-812F-452F-86D4-0C99CA8A2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3E6C-82F3-4CE6-AA86-52E7938B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F14-53F3-4BD9-B365-7E3E25DA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9A0C-C746-48B7-B868-BAE73212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717-D0A9-4B11-9A97-CF6F19A0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0477-B333-4761-A86B-5E089DBB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4890-1E80-4B97-8F3A-0CA064E3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F918-4D45-4DDC-AC0C-3FA7CF6F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3A2C-F24C-4254-A6E6-278C6377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A756-B2C2-4587-8208-ADF1191C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6183-4225-4981-8E5A-3ADD4CDD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0732-8442-4714-807C-3BF50646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5D5-C91F-4A41-87AF-DC5684AE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6E4F-5277-43DD-BD96-FA129D02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DF4A-898A-4F7A-B56F-53B3344D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D526-A6BF-4360-967E-65E94223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3400-D247-4DC5-AE78-26090138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91FD-DF87-4478-AEAF-E59037F7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0BCDB-AA80-4701-833F-F9BA3463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09384-7A8A-4542-97FD-509C7BCD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ECF59-BB58-45B7-BBA8-07698791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3C5DF6-FFEA-4806-8493-C26E138D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6F8A5-EE19-40C4-AECB-1BAC11EC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1F9-E16C-4680-AA85-4A08768B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15FE0-B1A6-4535-81AE-056A9090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E8412-8C6E-4337-98B6-5170240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DAF5E-EE64-41F8-9E42-2DE17ED0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287FE-20EE-404C-A419-30C418F1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DD007-CA2A-4789-9D61-EF2F30E3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5F3CB-8E91-4FEB-B40A-930FDF4B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91AE2-0694-40E1-B32A-EE7BEBBF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DF2F5-ECC0-481B-B054-3B3F01DB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7BF2E1-8B87-4602-8B69-D58CABE7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E811CA-2F23-4D27-9779-068730F3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79C-D3D8-470A-9375-0909E5A8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CCC14-F9E7-4475-B173-02EFCDD8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0E286-F78A-4A1A-8351-2A5851C6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D83C38-B303-4704-B24E-3E568390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247416-1E6E-402F-927F-8CB3CAFB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8CFF8D-4B5B-4C7E-A246-32C613B7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19DAC2-81F6-42ED-8F57-0CA34F92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EFA918-F1D8-4BC2-88B9-1AE9E192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1C5C03-8FFD-4EA3-883E-D42E1663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8D1FD-891E-4BBF-BD87-3D761730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B777AE-4841-4EBF-8D18-4A3BE05B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272-2617-4408-A206-D7C6EFEF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D0807-4E94-4E6A-9286-5CD02587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666CC-BFEF-46FE-9D2B-AE6FF3C5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23FBE-038E-4572-BA45-4263528C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068C5-ECA4-401D-83EB-2D51C233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E3400-46F8-4C0C-8FF3-8E66553C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0D46B-0BA4-4B2B-B67E-265CBD56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C401E2-D72B-4E96-99E5-8842F447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919B6-1EE0-4BBC-A15F-D06AADD9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E1DB7-4CC9-497A-AE36-B28BDB28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B4DAB-5341-44C4-9835-D6EB21CE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97E-DAC4-4DCC-9690-345B32DA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4A0B4-9E98-4F3B-A976-FCC46BD3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08833-B1C1-4AAD-8C5D-4DA082FB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253C9-1899-44E4-8DFC-9234574A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6BD4C-043C-416C-A60B-3DE3D1AF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B4C9A-A56B-47C3-9EEE-984C23F6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2AA2F-731A-462E-A3EE-B9AF883E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906B0-055A-4BE7-87EA-7023D5D1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C3336-2FC2-400F-97ED-E3472CB7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8688F-AC27-4A69-950F-F42DDCFF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660CF-3278-447A-87F6-F54AD35E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4FC-7437-40C1-ACB1-CF505E88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C8D32-5679-4F5C-9D42-A4C3B0A6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4DB61-B47C-4E77-9AA1-A12423E3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104AE-BC5E-4563-99A5-07C045EE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58217A-BF29-48F2-B437-0F6DF186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1DCFCB-560F-4AE0-9431-A8A9B92E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FED59A-D6CA-406E-9CFE-7ACBD559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97ADDC-4EC9-496F-870C-6C5B0909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269E8-E3D4-4D11-82B5-7F46EFA9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6FAEC-735A-4D92-9667-A1C8CCE4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7777AB-D69F-4CB9-B219-92B8CD1D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8C2E-3D82-4B76-8C10-4E5A6366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E844BB-CAEB-4C18-88A5-67F36304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4C21F2-CB54-4F3D-85D8-63B82EC5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899855-A7C6-43EE-9726-D597ABE1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8470BA-EA6A-4143-B94A-6A6C7850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48DFEC-7D2B-4F58-9766-0FFAA8F5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8EEB7-176F-4A4D-95CC-003273C3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CDD56-FDA7-43AD-BB12-2E31DF10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10192-269A-4444-BA1A-082DD3D3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FA8BE-0DA2-4FFB-9726-EDDA0C45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6E3E8-4E63-4935-899A-91170530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CC0-A0FB-4BFC-B581-680DC279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66FC7-69DD-482F-9464-AE2689C3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85C87-ECA0-4E12-A578-124F52B1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F524C-185F-4D47-8C11-485DDFC9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289E7-9AC5-4758-B122-76C7EDED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7ACC2-8DFC-4845-8497-BE9ED9EA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B7A97-BE68-4478-AD6C-70F76FEE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164AC-6752-4259-9F47-0A565FFE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A87A-F8DF-4CFC-8D0D-C612A2F0BE8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53FD-6ED7-46B6-89C3-F81827AF9B26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A3C1-3680-4112-AB5B-DFD273FD00B1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B180-B098-4410-84B3-9B8C1840DFA7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B2B9-D729-41D7-9439-9451E6F75D6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A896-3153-4739-9884-87143C38BC29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79FD-6C80-4555-95C9-24D2FBD015DC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6380-EC1B-4F07-B3C3-6FE2FD4A1115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1, COMPARATIVE AND HISTORICAL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ding in 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ding – The process whereby raw data are transformed into standardized form suitable for machine processing and analys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ifest Content – The concrete terms contained in a communic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tent Content – The underlying meaning of communic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3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28440" y="1600200"/>
            <a:ext cx="4227480" cy="3657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4645080" y="1725480"/>
            <a:ext cx="434664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ualization and the Creation of Code Catego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erational Defini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evels of Measuremen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unting and Record Kee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d product of coding must be numeric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cord keeping must distinguish between units of analysis and units of observa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cord from the base from which the counting is don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28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ative Data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egative Case Testing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ips for Avoiding Dange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 cases at rand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at least three supporting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k others to review interpre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 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llustrations of 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trengths of Content Analysi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y of time and 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ing for the correction of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its the study of processes occurring ove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has little (if any) effect on su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eaknesses of Content Analysi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mited to recorded commun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Analyzing Existing Statistic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analysis of existing statistics is not the same as secondary analysi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isting statistics may be the main source of data or a supplemental source of data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ample: Durkheim’s Study of Suicid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ample: Kentor’s Consequences of Globaliz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y nature, existing statistics describe group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cological Fall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zing Existing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ics and Unobtrusive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lems of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gical Reaso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l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lems of 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 of Existing Statist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urces of Existing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tistical Abstract of the United St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ment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ographic Year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N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omparative and Historical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 – The examination of societies (or other social units) over time and in comparison with one anoth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 of 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ber and the Role of Id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apanese Religion and Capitalis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urces of Comparative and Historical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3056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tic Techniq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ich type of research does not require the researcher to intrude on what s/he is study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ntitative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litative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rvey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obtrusive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obtrusive research does not require the researcher to intrude on what s/he is study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Which of the following may be examined in content analysi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gazi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bsi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obtrusive Research – Methods of studying social behavior without affecting i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: Durkheim’s analysis of suic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es of Unobtrusive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alysis of Existing Statistic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mparative and Historical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, magazines, and websites may be examined in content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Which of the following occurs when you obtain a copy of someone else’s data and undertake your own statistical analysi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ing quasi official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ing official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ary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ary analysis occurs when you obtain a copy of someone else’s data and undertake your own statistical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 following are types of unobtrusive research method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sis of existing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, analysis of existing statistics, and comparative and historical research are types of unobtrusive research method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of the following are usually qualitativ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 and comparative and historical research are usually qualitativ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_____ are the individual units that we make descriptive and explanatory statements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tifa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 are the individual units that we make descriptive and explanatory statements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In the content analysis of _____, sampling may occur at any or all of several level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ritten pro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levi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ter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ontent Analysi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 – The study of recorded human communications (i.e., books, websites, paintings, laws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ropriate Top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o says what, to whom, why, how, and with what effect?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e content analysis of written prose sampling may occur at any or all of several level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 Existing statistics should always be considered a _____ source of dat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im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pplemen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rti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isting statistics should always be considered a supplemental source of dat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. When we base research on an analysis of data that already exist, we face problems of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eat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we base research on an analysis of data that already exist, we face problems of 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violence on TV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operational defini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cide what to obser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cide how to code/analyze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 in 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30481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unit of analys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how children’s literature portrays gender ro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popular film’s use of drugs and alcoho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sociology textbook’s definition of rac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the content of Internet Blog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609480" y="1562040"/>
            <a:ext cx="68630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mpling Techniq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y conventional sampling technique may be used for content analysi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8:28Z</dcterms:modified>
  <cp:revision>11</cp:revision>
  <dc:subject/>
  <dc:title>Slide 1</dc:title>
</cp:coreProperties>
</file>