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65B0-F3A1-45FB-AF7D-ED2F93EBD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A55E-D438-4123-8C62-8445142E3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2D7-6AF2-4C7A-86A0-3597D24C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DB8-97E9-4A0A-B99C-B461CC5D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67F-FCF9-4DDB-A551-783518EA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4CB-5FD2-47E7-B7E3-EC76BC0B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CAA8-1B73-439C-8DA3-76FADB7B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5BF5-B1BF-4872-9CD6-84834E21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9B4D-69B1-429B-ADDE-6DAFCF37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489C-D74D-43BB-ACB8-14CCDF37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71C1-AEF0-469C-8B3B-7F3A195B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0D8C-134E-4F8A-A4E6-C00F2BFF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9CDE-7549-4756-948A-B5E71FDF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5F6-900F-404F-8134-18EDC799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53AF-991D-45BF-A9ED-CA43879F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969C-29CE-427F-9C04-F5117E08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1193-80CE-45EC-A85A-6C0DEA24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A165-0789-40F7-BEA3-B9EF6FFA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16D6-9830-49AD-8143-50DADF6D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26396-9C1F-4FF3-8BE4-4AFBD452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7EED7-9E6D-4E43-9CE6-8B975C62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4A8E1-5266-4269-8E5E-2D1C1EA8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3E158-D8F5-4FA7-8585-42EF22E3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A9790-6220-4B73-922F-6122AD4D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7E2-7AEF-4101-9467-B98572B5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4D231-E952-4F01-9912-B554D724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8D87C-6A4B-4259-9211-D1029278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BF738-FD17-474C-A2DB-BDAAFC13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B605F-EA32-4092-B8EB-807467D4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43177-4503-4BF6-86F7-F5E97A1D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2ACD7-74EB-4285-996A-B3D1236A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8039B-85A7-4DDC-8996-B6C70F11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4E564-424E-42DB-B222-659665F6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9A62A9-DF28-4645-B6B5-3E38CCEE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C0455E-3D37-44BC-AC62-97540870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308-87DE-4F14-8C6E-A10EC7B0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D30408-783D-41A5-B553-1D5C5762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16DCF1-0C01-447F-8AD9-265A350E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CF9972-50E7-40A5-AF4D-BFC14115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14EBC1-B15C-496E-A4E3-FFC0207B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37B97C-39F8-48E2-B0CB-B67F5C13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E39535-5712-427F-BD40-151354F8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457F2C-4839-4922-8E25-59447851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32DA7-8952-43EE-B2DB-49DBD8FB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EC8BD4-7D0A-4CC3-8F53-244BA185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07A421-FBC2-42C2-BDC3-4DDD6D34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9A8-4125-41F7-86EC-ECD3357E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0FAE04-C47F-4C71-9F8C-B589234E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FAB00B-C438-4D47-86E6-2EFBF3EC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B7F85E-BA03-4BD6-B623-78E61AEA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AAE94F-1249-49CC-A3E3-1A15D4B3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6F55C-727D-47F5-9E6B-644E89FE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A5449A-2C59-4052-A608-4202A287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2071D9-71A8-4C90-949B-CB595E0F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A6923-72B8-41C3-8A09-C2210D39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2CA01-2768-4B21-BA8F-A4C4730C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3C8F2-FAC1-4348-8C24-6D7D705A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ABF-E990-43FD-A999-C9BA6D96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E13BE8-2209-494B-83CB-46F7AC83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5B42C-B1DD-40AF-A57E-A2CF2ACA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D7484-6AFD-44F6-AA59-376203F3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43699-E1BF-4956-9B21-B5E58FD6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93D88-39A6-450B-8E69-9AEE9ECB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B9252-A2AE-427E-A4AF-980421BC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8BB13-26FF-4796-9343-E584998F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7EA06-9E5E-4622-99BC-750EE151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C21E5-4E24-4BBB-B5B5-B08438E3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60378-8C44-4692-A013-28C072EE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9E5F-A97B-4550-BD87-AD5B1A7A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89D19-846A-4FE4-B507-BB13052D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F4A32-8B9E-4F95-9D33-0084CF78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B19E7-2407-4A4D-9590-67C06724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A4A11A-1D0F-4DC7-9745-C5DE811D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ED5BDA-E558-4766-A53B-B14E3646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3AAA30-BAB5-453C-97DC-A01CDA31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03CC21-0CC0-4E20-B077-A35D2341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70A541-F929-467B-BA17-339BCADF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BAF3FF-E42B-4989-B7C6-6ED5A515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F348CB-99A5-4C66-A3B7-39E06B26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0743-3280-44C4-842B-DDC67855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D2F72-FD94-4584-9B8A-582AD09F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7E759B-DA6A-455E-A08D-A7CC2B1A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079FF1-28E8-42D0-80CC-46E9754F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B9C0C-5CA5-4430-8C33-D89DC115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33BA43-862C-41E3-8E10-D7454E0C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75A09-C194-4C02-9D09-FB5F97F2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B080A-46DE-4618-99D8-3F2C46C1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9EFB9-F9A1-43AA-BD82-391375DB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63E81-B258-4D09-B210-359187AD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9AB85-3E4E-4874-AA74-813F2F8E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921-35F3-4FEB-9380-ADCD7AE6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C1560-0A50-422D-9912-405AFA15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4452A-5E39-4C10-A746-108DF5F1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F6535-C955-4CC2-BC5B-B8D8F855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E462F-CFC6-46E0-8422-F0134A19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54113-4DBE-4F4B-AE4A-8325F31A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ED644-42C3-4CE0-92C7-3EB2A5BE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5A06D-9E96-4912-A1E3-E50E40E9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8A22-66EE-4738-B4EE-BF9DD1B6DC95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5196-2431-44CB-9455-47071EDA9D90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83A9-C8AD-4B58-B34D-762A6A47CD54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3EFD-464B-4834-AA06-F162F2AB4B0B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21E8-6958-4B67-9D5A-5FE5C79B683A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9C24-7ADA-43F4-ABA2-DB0713B4921D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C54A-1CDF-4553-8B20-338922BC036E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93F3-304E-4D99-A832-AC5DFA104FC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1, COMPARATIVE AND HISTORICAL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ding in 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ding – The process whereby raw data are transformed into standardized form suitable for machine processing and analys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ifest Content – The concrete terms contained in a communic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tent Content – The underlying meaning of communic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3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28440" y="1600200"/>
            <a:ext cx="4227480" cy="3657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4645080" y="1725480"/>
            <a:ext cx="434664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ualization and the Creation of Code Catego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perational Defini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evels of Measuremen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unting and Record Kee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d product of coding must be numeric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cord keeping must distinguish between units of analysis and units of observa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cord from the base from which the counting is don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28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ative Data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egative Case Testing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ips for Avoiding Dange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 cases at rand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at least three supporting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k others to review interpre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rt 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llustrations of 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trengths of Content Analysi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nomy of time and mon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ing for the correction of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its the study of processes occurring ove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has little (if any) effect on su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eaknesses of Content Analysi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mited to recorded commun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Analyzing Existing Statistic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analysis of existing statistics is not the same as secondary analysi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xisting statistics may be the main source of data or a supplemental source of data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xample: Durkheim’s Study of Suicid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xample: Kentor’s Consequences of Globaliza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y nature, existing statistics describe group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cological Fall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zing Existing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ics and Unobtrusive Meas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lems of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gical Reaso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pl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lems of 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 of Existing Statist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urces of Existing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tistical Abstract of the United Sta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vernment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ographic Yearbo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N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omparative and Historical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 – The examination of societies (or other social units) over time and in comparison with one anoth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s of 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ber and the Role of Id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apanese Religion and Capitalis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urces of Comparative and Historical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3056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tic Techniq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ich type of research does not require the researcher to intrude on what s/he is study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ntitative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litative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rvey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obtrusive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obtrusive research does not require the researcher to intrude on what s/he is study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Which of the following may be examined in content analysi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gazi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bsi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obtrusive Research – Methods of studying social behavior without affecting i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: Durkheim’s analysis of suic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es of Unobtrusive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alysis of Existing Statistic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mparative and Historical Analys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s, magazines, and websites may be examined in content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Which of the following occurs when you obtain a copy of someone else’s data and undertake your own statistical analysi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ing quasi official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ing official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ary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ary analysis occurs when you obtain a copy of someone else’s data and undertake your own statistical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 following are types of unobtrusive research method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sis of existing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, analysis of existing statistics, and comparative and historical research are types of unobtrusive research method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of the following are usually qualitativ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 and comparative and historical research are usually qualitativ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_____ are the individual units that we make descriptive and explanatory statements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tifa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 are the individual units that we make descriptive and explanatory statements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In the content analysis of _____, sampling may occur at any or all of several level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ritten pro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levi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nter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ontent Analysi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 – The study of recorded human communications (i.e., books, websites, paintings, laws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ropriate Top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o says what, to whom, why, how, and with what effect?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e content analysis of written prose sampling may occur at any or all of several level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. Existing statistics should always be considered a _____ source of dat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ima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pplemen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rtia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isting statistics should always be considered a supplemental source of dat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. When we base research on an analysis of data that already exist, we face problems of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eat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r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we base research on an analysis of data that already exist, we face problems of 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violence on TV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 operational defini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cide what to obser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cide how to code/analyze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 in 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30481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unit of analys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how children’s literature portrays gender ro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popular film’s use of drugs and alcoho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sociology textbook’s definition of rac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the content of Internet Blog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609480" y="1562040"/>
            <a:ext cx="68630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mpling Techniq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y conventional sampling technique may be used for content analysi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8:28Z</dcterms:modified>
  <cp:revision>11</cp:revision>
  <dc:subject/>
  <dc:title>Slide 1</dc:title>
</cp:coreProperties>
</file>