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266-452E-41CB-A4FF-21383D7D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667-605F-462A-99F9-85631ADD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7C4-2B8E-4247-9734-7FBA6604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CC7-4740-40EF-AA8E-EED41938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BC09-783C-4BC4-8717-142992FE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F00-B600-429F-9EF8-FE06D6BD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E557-D733-4C36-8D52-430362D7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ADF-8F5C-40C5-8E2F-3CC9F28B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33E5-F5F4-4A60-8A1F-B231835E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CFA1-D22E-4719-8568-19E4F649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9437-BF99-4D64-B53E-1E2DB74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EE2-67E7-425B-8D28-158EB44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32CD-614D-4A11-AFD7-90D99C73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74B9-5E1C-44CB-A8E9-92AA97B5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418D-534D-4CD3-974F-787C5071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AF58-903C-4819-9C7E-99444EF3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A5B9-D8D6-4354-8B01-525DF1BE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348F9-88C3-4CC5-A493-30040B6B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BCEE3-072B-4CFA-A945-6191722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1C3E9-5832-4BBC-97B2-FE07DC2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AAC25-23E3-4E14-9973-69D43BCA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39D06-4B82-4576-936B-8932C5FA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148-38A6-4AA9-8D7D-1DEB993C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9DCB6-D1B9-45BD-8DAD-B215E0FF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FF63B-D5A1-4EE0-8210-720EF2D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F1373-864A-4FF7-95A8-4F80EDE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67E61-8C0A-4F29-BEC3-AD65A05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B069A-DF81-4FB4-AAC4-E918A06A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1C37A-1434-4856-94A9-98B4F607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75758-2B76-4E49-829F-5D12F6D1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56659-9F27-400D-A2F4-A9391557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D60A6-5C1B-4F1A-9A62-C6E0482F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625F4-16E7-4E65-8E48-7E41AAEF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CB1-85CE-4A07-AEAF-3231EC8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6E024-636D-4329-99D0-2C882932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BDE02-E9E9-4F01-B5D5-9240EA7D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2890C-8105-480A-895F-40E1A0B5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47E35D-4EB6-4E90-83FF-E5A0DBC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BD941-5117-444D-8C12-A9256D37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24EAF-3BB6-4B23-9B98-7B68EAE9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AE592-994A-41F0-A4CE-C0C62681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9B627-2EBF-4760-82F7-E3BF175D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82B651-CEA6-4066-9066-2820217C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B55E6-7917-442D-8DDF-9C4CC829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306-CFBB-413D-A10E-81281A7A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70F93-74A4-41DB-AD02-FB5CA1B6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25A3E-3C7A-405D-9FBE-DC75A7E6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98877-03DE-4B8F-A404-0C7EF4FB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7E875-F1A1-4D5A-82DC-D42EAA4E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22B52-3DCB-4680-AADF-F0D7E9C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2A04D-93E2-4166-8C50-6C07CCF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35A3B-E982-4C1B-A1F9-0E222F2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6AF6F-95AC-4F6B-A4E1-DEDCDC72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41C1C-37A9-42C9-94A6-6CAEC1C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D170E-129B-45E2-829F-3BD00B6D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AAD-77CF-4643-9150-A977BF6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3AEEB-13CB-42A1-8920-31D9998B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EA32-E2A2-42B2-8327-E83BB7FB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38CB9-3D85-4CCA-8DEF-C90B345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1EE5-2850-49E2-8B17-EBD9B41D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801B-994C-4555-8F30-C511FA9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0A780-DAFB-4CB7-B527-54B0F801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F9B60-ED18-4378-A349-7B2944F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2209-FE22-44CE-92C6-77BE708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96DAE-CAA3-4D5F-9A08-0AEDB3A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7A2F-E0E9-4CA8-8267-FB1D7C4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C4C-0252-4472-AF07-0ADC62F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03FA-F346-4026-88B1-928DA09D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3E3A-3C95-4036-BD20-4DF56481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1C715-EB87-42E6-BB75-1A621541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C6765-5533-449A-B561-58F5810F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8AF2B-B547-4279-A84D-659038A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E1255-CFF3-4AFB-8D8B-DEF8183E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C974A-626F-402A-AB0E-A12DA62F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E4F33-58B6-4EA0-B489-BA4663A6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C2C7E-2ECF-411D-98CB-942DFCDC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6D4E63-C79C-4A32-AD0F-45EF841B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252-96EF-4F74-9A60-654BA9A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A8BB2-1EB6-47BF-B775-CC2EB562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71D02-17B2-4005-B25B-4A10E0F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9881F-3599-4213-A7A8-6CC88DB4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26118-B5E0-40F0-8059-55F42FCC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7A694-3B21-41C9-B91B-CB8CAE90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CDECE-9739-4C09-AE61-6F314450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29DE-FDC5-4D7A-BC9E-C15391E1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5650-A2CB-4F19-A7B7-DAE85DFD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EA16-73FC-4F6F-947D-65B4200E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35808-84C8-4331-8C80-075345A1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5E9-2675-48AC-A9C4-B2726BD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862C3-1A02-4073-ADD1-93A8DF9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3904-DC29-4A1F-92EE-034B992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66353-0961-4C8D-8DF2-72972262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F168-7860-418C-9B72-5A80BB9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98F7F-5E61-4EB7-B237-E4420865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1F9C2-938D-4DCB-95F5-98A7236D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0ED0B-14CD-47E4-B302-8FE90B96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7BE6-7331-4E60-A16A-5D0EA2ACC36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0DD-C18C-4683-83F4-29CF40935523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CF77-F96E-4D60-81BA-2B2D38B82928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92F-28E5-499E-85AD-34D9A0B0404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60EA-6E32-4433-BD1E-DB727E4BC88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C3CA-8C32-4635-951F-C4D8B3E83414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B5E3-F04D-4954-8186-1D6B90D06BE7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1E75-7894-46B5-88F7-433A0259BFD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HUMAN INQUIRY AND SCIENCE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962520" y="220680"/>
            <a:ext cx="5181480" cy="61038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533520" y="17524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cience = Theory + Data Collection +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, Not Philosophy or Bel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theory  has to do with what is, not with what should 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ory – A systematic explanation for the observations that relate to a particular aspect of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science can help us know what is and wh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gula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n’t rule out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ajority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 cas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: cousin’s brother’s sister’s aunt’s uncle’s nephew’s third cousin twice removed best fri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regularities represent probabilistic patte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, Not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llective actions and situations of many individu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cus of social science is to explain why aggregated patterns of behavior are regular even when individuals change o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nd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– Logical groupings of attributes. (ex: sex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ributes – Characteristics or qualities that describe an object (ex: male or fem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848040" y="307800"/>
            <a:ext cx="514368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a6378"/>
                </a:solidFill>
                <a:latin typeface="Verdana"/>
              </a:rPr>
              <a:t>Figure 1.6 – Two possible relationships between variables</a:t>
            </a:r>
            <a:endParaRPr b="0" lang="en-US" sz="3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930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 Variable – A variable with values that are not problematical in an analysis but are taken as simply gi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t Variable – A variable assumed to depend on or be caused by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urpose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pping out a topic that may warrant further study later (explor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ing the state of social affairs (descriptiv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ing reasons for phenomena, in terms of causal relationships (explanato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oking for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ation of Social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Dialectics of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ome Dialectics of Soci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graphic and Nomothetic Expla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iograph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exhaust the idiosyncratic causes of a particular condition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io” means unique, separate, peculiar or distin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mited to the case at h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mothe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n approach to explanation in which we seek to identify a few causal factors that generally impact a class of conditions of ev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eral rather than idiosyncr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conomical” uses fewest explanatory facto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uctive and Deductive 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uction – The logical model in which general principles are developed from specific observ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duction – The logical model in which specific expectations of hypotheses are developed on the basis of general princi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allace Wheel of Scienc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4" descr="wheelofscience"/>
          <p:cNvPicPr/>
          <p:nvPr/>
        </p:nvPicPr>
        <p:blipFill>
          <a:blip r:embed="rId1"/>
          <a:stretch/>
        </p:blipFill>
        <p:spPr>
          <a:xfrm>
            <a:off x="114300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and Quantitat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– non-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tative Data – numerical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e and Applie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e Research – Gaining “knowledge for knowledge’s sake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ed Research – Putting research into pract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 (Chapter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 of the Literature (Chapters 2, 15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y the Problem/Question/Topic (Chapters 5, 6, 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Design (Chapter 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Collection (Chapters 4, 8, 9, 10, 1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ction of Subjects (Chapter 7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hical Issues (Chapter 3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alysis (Chapters 1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bliography (Chapter 17, Appendix 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The two foundations of science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 and observ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c and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wo foundations of science are observation and logi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ce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what should be and </a:t>
            </a:r>
            <a:r>
              <a:rPr b="1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ith what 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settle debates on val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exclusively descrip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disproving philosophical belief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Looking for Realit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nowledge from Agreement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ertions must be both logical and empir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greement rea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things we “know” as part and parcel of the culture we share with those around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pistemology – The science of know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thodology – A subfield of epistemolog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ce has to do with how things are and wh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en social scientists study variables, they focus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scientists study variables, they focus on relationshi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_____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 ta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istemology is the science of kno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true of tradition and autho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assist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both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ither of the above are tru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 and authority both assist and hinder human inqui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explanations seek to exhaust the idiosyncratic causes of a particular condition of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t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if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iographic explanations seek to exhaust the idiosyncratic causes of a particular condition or ev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ry Human Inqui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mans want to predict the future.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recognize that the future is caused in part by the presen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use and effect patterns  are probabilistic in natur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iction versus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d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ho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rors in Inquiry and Some Solu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accurat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asurement devices offer accurac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generaliz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 tend to assume that a few similar events are evidence of a larger patter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 and representative samples are a safeguard against overgeneraliz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275480" indent="-212400">
              <a:lnSpc>
                <a:spcPct val="90000"/>
              </a:lnSpc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50320" indent="-2124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plication – Repeating a research study to test and either confirm or question the findings of an earlier stud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ive Ob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void looking for “deviant” case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oes “the exception prove the rule”?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r does this make no sense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ambler’s fallacy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veryone “knows” that a consistent streak of either good or bad luck foreshadows its opposite!  Duh…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’s Really Real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remodern View – Things are as they se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odern View – Acknowledgement of human subjectiv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ostmodern View – There is no objective rea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Verdana"/>
              </a:rPr>
              <a:t>Figure 1.1 – All of these are the same book, different “points of view”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6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Foundations of Social Scienc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oundations of (or pillars of) social science are logic and observ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understanding mus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) make sense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) correspond with what we obse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2:44Z</dcterms:modified>
  <cp:revision>31</cp:revision>
  <dc:subject/>
  <dc:title>Slide 1</dc:title>
</cp:coreProperties>
</file>