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7B6-01B4-4066-A2D2-DA367AAA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19E-3D0C-4E24-A5D0-0FE52836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B30-571D-43E5-88D8-E763E8B2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349-89CE-4252-A7AE-9F46FAF2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D154-B30B-4E69-9943-DB7C0618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B8FA-B2E4-4427-BF53-5740786C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1FB7-11BB-4D33-9403-8FFFCC42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E69A-6157-4268-97D0-5AE86BCA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9EBD-7A43-4B3E-BA75-4BDADB43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91FF-C405-4699-8628-93837AA0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12ED-78AD-4DEB-960D-23603EE2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CB7-17A9-4841-9212-1C08B115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86EF-4AA0-48AF-A861-36003236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D054-4DA2-4047-B9B2-DE3354C5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850A-E857-4B37-9E40-CC9F3E7F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29E5-60A4-463B-AF24-AB212347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ECF4-5AAC-42D0-B04C-0ABE3001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D258E-79FD-4742-B4C9-790C77A2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B76BD-2FBF-494C-B379-8BFFD514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E5B08-8B75-4C52-A963-E522CC0A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BF66C-6C6D-4881-9D45-A05DAEB5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9C161-2972-4695-888F-863A46F7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8F0-074A-49B9-9D8C-18CEECF0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7A564-8D2D-453F-8F3F-96043CB8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F183F-168C-4F7B-908C-D10B329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DDC8B-2ED4-4C63-857B-648FAFC4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534EE-7059-4E62-9FFE-2A4F1CE1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3F75C-1F9C-43C0-B0BE-3A38FC2D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08445-568D-487F-B500-53692EA1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55AA4-2727-425D-9B12-31491C98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89D22-D11E-446E-8662-FE160F94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0F612-62B7-47A1-9C1B-9FF8B83B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737C2-321B-4DD6-91B7-0C66B5F9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49E-DCBD-46F3-88D0-5EAD8E05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0F14C-F178-459B-8983-777F472D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5D76D-1CAD-4CEE-A872-6EF91519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AE102-05EA-4888-AA34-2C2A3633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05121-F5C0-405C-B112-0C9E375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7B604-F3FC-4D77-9885-40E02672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CA12B-0C29-4767-BEEA-29DB287D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33C2C-11BC-40E8-BAE4-E883DDF7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94914-BEA4-4B30-B891-427A36B5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E270A-27F0-4B75-9C9F-D878AA19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BF1AB-6E07-497B-B4DB-DD57C384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D12-2343-4DFD-942A-5613822C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B93CA-4339-49AC-AE9D-524AE8E2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C8A27-BE69-46DE-B18E-11AA4C40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EB098-5D5C-44E9-BF65-CB537846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12D96-C333-4374-937D-DC07B489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0E467-0209-4A4C-810B-86F811A5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026D5-7828-40F7-88EB-D6F7D2FD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DA326-9F43-45DE-9B14-FF211D1B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6C066-784D-487E-9C34-66450AF3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0CB79-4077-4142-96F0-BD3987CC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E8FE0-6BD3-4324-A5FC-635BE31B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781-05E0-495A-9F89-0D343AD1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563B0-A21D-4D56-8EE7-37594826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321C8-BE64-45A5-AF77-208C4961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AD237-27C4-467A-AC5C-03ED18B3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476FB-9175-4AE2-8DD8-AEA45765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68EB-C375-44C9-A6BD-F8B75911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6BD2A-C425-4FE3-A40B-29E6CEAD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5C482-129B-4C84-88F9-52245D1D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8667B-16C0-44E8-A968-AA2EA62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37083-8E18-4424-9D02-5D2C0E6F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F4E54-60C8-4ACF-A93C-85D295E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17C-09F1-4DF0-B30A-461DBB94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DB83-8F4E-46EB-92D0-6F205E95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BB7B5-2A95-4D66-B202-BDE430FD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F62D0-22E9-43D8-BF8F-DE5E2AFA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7BFD0-42B7-4F22-B81E-E9D2957D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F1C719-A820-4709-88D0-DA5432CE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F7595-71F0-4185-B7C3-61432EEF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583C01-018C-43DF-B23E-A4298781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188A5-C129-407D-AB67-2C663A9E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CBC36-E071-4540-88DD-CE3D04D0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C3D7C-69A7-4A67-B1BA-C8F60840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61D-7BFC-4CE2-B045-D57B9C50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4024D-E9C8-4A1C-8197-2BCF8C2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5CFB3-CF70-4552-8DE3-09A375C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1865A-5EF6-4672-9A3E-7E813B52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CDAE9-C969-430C-BEB2-B3E78E54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7008EE-D783-4943-91B0-A2A2E76C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5ACF3-E005-49F1-B970-423AD42A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05D12-EE8F-41A5-BDD8-A2F353E4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C406B-4397-483E-9508-6B41426C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D3063-D7F9-4548-ACC7-9E82B84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652E1-9C41-4B74-AB7D-9773A00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EA9-2299-494F-98FB-47AA773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348B0-A870-4AD0-81F1-BF8E73E2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D77A3-07DE-4422-9ED3-70F7514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0CDCA-39CE-4DA2-8471-0A4D4B4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2073E-92C7-48BE-AE0A-EACC98D1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0B75E-06CE-4D58-9520-3E2183FB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6CA6A-DBB7-4114-BDCC-7D0C963F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E8AF7-E383-4708-9721-0FC34E2B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EBCC-6618-43D2-AB54-315480175D5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49FA-E688-4DCA-8DD4-F42D9973BE03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95CA-8CC6-4368-A3F3-072892A757F4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5FBA-C209-4D8F-9D0D-541E4BBB560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891B-5D08-431B-BE0D-7765792F61C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7CA9-E3ED-4463-8311-F84EE0B07CAA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F16B-9486-42D2-ACF5-F9B3763003DF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64F8-FF72-4147-8F08-4DFBBCB445A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HUMAN INQUIRY AND SCIENCE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962520" y="220680"/>
            <a:ext cx="5181480" cy="61038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533520" y="17524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cience = Theory + Data Collection +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, Not Philosophy or Bel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theory  has to do with what is, not with what should b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ory – A systematic explanation for the observations that relate to a particular aspect of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science can help us know what is and wh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gular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n’t rule out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ajority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cas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: cousin’s brother’s sister’s aunt’s uncle’s nephew’s third cousin twice removed best fri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regularities represent probabilistic patter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, Not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llective actions and situations of many individu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cus of social science is to explain why aggregated patterns of behavior are regular even when individuals change over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nd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– Logical groupings of attributes. (ex: sex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ributes – Characteristics or qualities that describe an object (ex: male or fema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3848040" y="307800"/>
            <a:ext cx="514368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a6378"/>
                </a:solidFill>
                <a:latin typeface="Verdana"/>
              </a:rPr>
              <a:t>Figure 1.6 – Two possible relationships between variables</a:t>
            </a:r>
            <a:endParaRPr b="0" lang="en-US" sz="3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3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 Variable – A variable with values that are not problematical in an analysis but are taken as simply gi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t Variable – A variable assumed to depend on or be caused by ano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urpose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pping out a topic that may warrant further study later (explor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ing the state of social affairs (descriptiv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ing reasons for phenomena, in terms of causal relationships (explan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oking for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undation of Social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Dialectic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Dialectics of Soci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graphic and Nomothetic Expla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iograph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exhaust the idiosyncratic causes of a particular condition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” means unique, separate, peculiar or distin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mited to the case at h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mothe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identify a few causal factors that generally impact a class of conditions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eral rather than idiosyncra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conomical” uses fewest explanatory facto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uctive and Deductive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uction – The logical model in which general principles are developed from specific observ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duction – The logical model in which specific expectations of hypotheses are developed on the basis of general princip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allace Wheel of Scienc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4" descr="wheelofscience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and Quantitativ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– non-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titative Data – 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e and Applie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e Research – Gaining “knowledge for knowledge’s sake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ed Research – Putting research into practi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tion (Chapter 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of the Literature (Chapters 2, 15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y the Problem/Question/Topic (Chapters 5, 6, 1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Design (Chapter 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a Collection (Chapters 4, 8, 9, 10, 1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lection of Subjects (Chapter 7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thical Issues (Chapter 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alysis (Chapters 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bliography (Chapter 17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The two foundations of science ar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wo foundations of science are 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ce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what should be and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with what 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settle debates on val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exclusively descrip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disproving philosophical belief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Looking for Realit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nowledge from Agreement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ertions must be both logical and empir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greement realit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things we “know” as part and parcel of the culture we share with those around 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pistemology – The science of know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thodology – A subfield of epistemolog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ce 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en social scientists study variables, they focus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scientists study variables, they focus on 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_____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llig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 ta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true of tradition and autho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assist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authority both assist and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explanations seek to exhaust the idiosyncratic causes of a particular condition of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t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if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 explanations seek to exhaust the idiosyncratic causes of a particular condition or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ry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mans want to predict the future. 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recognize that the future is caused in part by the presen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use and effect patterns  are probabilistic in natur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diction versus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d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ho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rors in Inquiry and Some Solu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accur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asurement devices offer accurac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generaliz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tend to assume that a few similar events are evidence of a larger patter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arge and representative samples are a safeguard against overgeneraliz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275480" indent="-212400">
              <a:lnSpc>
                <a:spcPct val="90000"/>
              </a:lnSpc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plication – Repeating a research study to test and either confirm or question the findings of an earlier stud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iv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void looking for “deviant” case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oes “the exception prove the rule”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r does this make no sense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mbler’s fallacy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veryone “knows” that a consistent streak of either good or bad luck foreshadows its opposite!  Duh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’s Really Re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remodern View – Things are as they se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odern View – Acknowledgement of human subjectiv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ostmodern View – There is no objective rea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Verdana"/>
              </a:rPr>
              <a:t>Figure 1.1 – All of these are the same book, different “points of view”</a:t>
            </a:r>
            <a:endParaRPr b="0" lang="en-US" sz="36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6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Foundations of Social Scienc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undations of (or pillars of) social science are logic and observ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understanding mus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) make sense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) correspond with what we obse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2:44Z</dcterms:modified>
  <cp:revision>31</cp:revision>
  <dc:subject/>
  <dc:title>Slide 1</dc:title>
</cp:coreProperties>
</file>