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0CB-AABF-4DF1-90FE-571C18BD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228-FAE4-4132-A4A3-7DCD9CBE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581-FAB9-4501-AD17-AA2B256D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17A-B98F-41DC-9F48-7937B059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BE2C-FE3B-49A6-A8DD-90937F03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B968-E218-445C-B1B9-002E9B61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3DD1-B9DF-4D4C-99DB-1C5C5E7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66A9-D4C4-4002-9207-24DF11D9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EFDB-D31D-4510-A5DF-D4CE7F75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47B2-EDDD-4EE5-A043-848DBFBA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76EC-AF41-4739-9C33-E7B7655D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B0A-BF25-425D-8B23-0E22D3DB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C0D9-2E8E-4BBF-BC77-BE3A3F2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BA49-5EB9-4CD5-80C6-86EBF35A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7319-6590-4BB0-B7CE-1AF767AA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9C16-DD7B-453A-86A1-CE4A29DC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8B2-AFA6-4135-A832-037DD5A9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3EE95-BE6E-4071-B6C2-9DE7663D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03B7C-C5C0-4E63-B24C-39DC87C3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59F1A-A93A-4D36-BEB8-EC117156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CADC3-AB2F-4C24-9DB0-F59205E1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BD739-9F72-4BE9-99EC-D16E5726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437-1A33-4B51-A7B6-BE84246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47C76-74DB-400E-A7BB-213D8F77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21F82-879A-4D3D-AC1A-E79C7F0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1211B-B1AA-4827-A645-5BB1ED4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602D4-3BDF-4411-B15E-E4C87640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11C7F-69AE-4A98-B988-1B8CBFB0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D6FA4-3DEF-4B49-BA35-90412407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17C7E-DD1A-4B39-9D98-A839D097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DA230-6F82-4FD0-B11D-972758AC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BC7BD-018D-4265-970C-FE04C74C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27053-7E98-4ED4-AD05-A5F7C6F3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02F-9E85-4532-B4AE-D488DD2E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B2DE1-C8E1-4E8E-B35A-171C98A9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0545F-F985-4E84-AF22-CF0CD87D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320BF-5F07-4A17-A695-A5A6553E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5795D-5BB9-4E54-B395-74634C7C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BC401-CCBB-4058-A8E0-6FB02DE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E74F7-11AD-471C-9155-74E38C1F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59F03F-7A05-44E8-8B38-790B27F2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7A32D-D051-406A-B8D6-DF19183E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F3C8D-800D-4BF4-A487-716F9AC9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09784-4F79-4C08-BC86-64EB804A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F91-79C4-4987-9532-E525E48D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D644D-3E70-4636-9E54-8E3981CB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0ADB4-D066-460D-8823-45832912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22A60-2DC2-4B92-BA12-6899ACC5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8DF22-88E9-420D-9538-D5D35C9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626C2-0DEB-4E95-82D7-B9888346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20BE3-54BF-4DB0-A0DD-AEB3FE7E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52382-E3A2-4B72-8E35-597C2DB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CE755-9FD0-4ACF-9A84-313EFC5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E9091-C189-4697-B8C7-9F27DB9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D84A9-E79B-4158-8116-DA3669F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3C6-4AAD-4F04-88BA-0E594FC6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4A1CC-44C9-4D69-8932-84D7CCC3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96956-0BE4-438F-897D-021D1AD0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5ED3C-F628-4624-ABE3-524D71B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026A4-3B3A-4A00-8921-0EB8818D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5A44-29B3-4C58-9121-1E675CBC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F91D1-9A34-44CF-9477-AFFA1E8D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6748-150F-40CF-BDB0-CDD8191F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91D4-AD06-4BA6-BBF8-03ED0E6A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D085-7557-4256-8879-D78E58A1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5F5D6-9177-4526-B2F2-DD2D602B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4B9-CF39-467C-9304-34CEBEB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DF61-9D07-4602-AA2D-594ECE74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BC4F-006C-4F40-8A85-E1C8DA6D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B102B-27DF-4884-A724-0BE11AF7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90463-18A3-45BA-B1FD-35D1CA34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9DF56-B841-4D31-95EE-0512B3D9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9CD8FB-20C2-4005-A505-931FAF3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4B3F9-32B7-45ED-A81C-A7D28E14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F0232-18D8-42BB-9BA7-9EAC1F1B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B0E07-47A4-4CC1-98FF-AA4D2587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BE73C-3542-4FA5-80A9-31A7183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D44-E4F7-4CD3-ABA1-0DCA832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7DA1F-BF0A-43A6-85D8-6E7AC01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4D080-77B8-4AC3-99D2-77CF634E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3B000-62A8-4330-A7BA-5E97D22D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EB2FC-46F8-4E54-B162-FD1E0E03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1E3A3-D77C-43CB-804A-CF9579D8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E602-2670-484E-A5A9-14E78043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C9C9A-0E17-46E8-BCD2-6559BD9C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73FAA-710E-481C-ACBC-795ABA7A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1410-8164-4647-909B-EB995FD0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D121-D864-4170-81A6-C09BF51F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C8F-E0FE-49E8-AFA8-92960AF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C762D-0A7D-4427-AC2E-E690B78C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4C7D-7839-462E-B3E4-BAD7118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DCB7-C5C1-4595-820F-A7ADEB2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F245D-79B9-4C4A-A9D6-7DA7EE4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46A5D-0AA6-4C31-A0EF-64C5F4F5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D14AC-C2B0-4ECB-AA9E-C38B29D9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17E4-3B8D-4FEB-A67C-CA3033C7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24B8-DF34-4A2C-9D19-7AEB83D2EC5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AFB-BA92-4DD7-A7D3-F3A99BD26772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BDFE-AE1F-4717-92BB-5EE26CE78C19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24AD-B002-4E56-B4EB-8A5F211D274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EB7F-D488-4736-9E2C-7726501BD4F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C80E-6670-426D-9D9F-CF75D4BCD8CB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685-5D2A-4056-8F95-4999DE7F2A72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22FC-8087-4777-8EBE-95AC29C55D6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HUMAN INQUIRY AND SCIENCE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962520" y="220680"/>
            <a:ext cx="5181480" cy="61038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533520" y="17524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= Theory + Data Collection +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, Not Philosophy or Bel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theory  has to do with what is, not with what should 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ory – A systematic explanation for the observations that relate to a particular aspect of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science can help us know what is and wh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gula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rule out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jorit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cas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cousin’s brother’s sister’s aunt’s uncle’s nephew’s third cousin twice removed best fri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regularities represent probabilistic patte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, Not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llective actions and situations of many individu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cus of social science is to explain why aggregated patterns of behavior are regular even when individuals change o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nd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– Logical groupings of attributes. (ex: se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ributes – Characteristics or qualities that describe an object (ex: male or fem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848040" y="307800"/>
            <a:ext cx="514368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Verdana"/>
              </a:rPr>
              <a:t>Figure 1.6 – Two possible relationships between variables</a:t>
            </a:r>
            <a:endParaRPr b="0" lang="en-US" sz="3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3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 Variable – A variable with values that are not problematical in an analysis but are taken as simply gi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t Variable – A variable assumed to depend on or be caused by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urpose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ping out a topic that may warrant further study later (explor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the state of social affairs (descriptiv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reasons for phenomena, in terms of causal relationships (explan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ing for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ation of Social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Dialectic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Dialectics of Soci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graphic and Nomothetic Expla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iograph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exhaust the idiosyncratic causes of a particular condition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” means unique, separate, peculiar or distin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mited to the case at h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mothe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identify a few causal factors that generally impact a class of conditions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eral rather than idiosyncr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conomical” uses fewest explanatory fa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uctive and Deductive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uction – The logical model in which general principles are developed from specific observ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duction – The logical model in which specific expectations of hypotheses are developed on the basis of general princi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allace Wheel of Scienc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4" descr="wheelofscience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and Quantitat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– non-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tative Data – 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e and Applie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e Research – Gaining “knowledge for knowledge’s sak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ed Research – Putting research into pract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 (Chapter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f the Literature (Chapters 2, 15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the Problem/Question/Topic (Chapters 5, 6, 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Design (Chapter 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ollection (Chapters 4, 8, 9, 10, 1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ction of Subjects (Chapter 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hical Issues (Chapter 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(Chapters 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bliography (Chapter 17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The two foundations of science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wo foundations of science are 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c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what should be and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ith what 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settle debates on val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xclusively descrip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disproving philosophical belief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Looking for Realit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nowledge from Agreement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ertions must be both logical and empir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greement rea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things we “know” as part and parcel of the culture we share with those around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istemology – The science of know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thodology – A subfield of epistemolog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ce 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en social scientists study variables, they focus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scientists study variables, they focus on 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_____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 ta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true of tradition and autho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assist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authority both assist and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explanations seek to exhaust the idiosyncratic causes of a particular condition of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t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if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 explanations seek to exhaust the idiosyncratic causes of a particular condition or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ry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mans want to predict the future.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recognize that the future is caused in part by the presen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use and effect patterns  are probabilistic in natur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iction versus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d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rors in Inquiry and Some Solu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cur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asurement devices offer accurac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generaliz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tend to assume that a few similar events are evidence of a larger patter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 and representative samples are a safeguard against overgeneraliz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275480" indent="-212400">
              <a:lnSpc>
                <a:spcPct val="9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plication – Repeating a research study to test and either confirm or question the findings of an earlier stud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iv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void looking for “deviant” cas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es “the exception prove the rule”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 does this make no sense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mbler’s fallacy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eryone “knows” that a consistent streak of either good or bad luck foreshadows its opposite!  Duh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’s Really Re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emodern View – Things are as they se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dern View – Acknowledgement of human subjec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ostmodern View – There is no objective rea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Verdana"/>
              </a:rPr>
              <a:t>Figure 1.1 – All of these are the same book, different “points of view”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6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Foundations of Social Scienc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undations of (or pillars of) social science are logic and obser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understanding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) make sense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) correspond with what we obse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2:44Z</dcterms:modified>
  <cp:revision>31</cp:revision>
  <dc:subject/>
  <dc:title>Slide 1</dc:title>
</cp:coreProperties>
</file>