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512-6017-4A34-8C8A-CC35216E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5B7-9621-446E-B5EE-4AA207C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740-0533-4398-A977-8D8F27E5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BAF-0D9B-4EC0-99D4-6D80A6E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EBD1-EED2-4CA8-99A8-A711101B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1395-BCCB-4A2E-9DA3-7C6F265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4AB-895C-4E19-8E55-3F5FEF5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CD4-A3B0-4CF9-995C-EB8F6C49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4761-D489-4518-A30F-3C94D3C3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FC3-0545-48AD-8DB6-5C6D28B0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0AB4-C0AE-4174-B127-DBDA51A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522-662C-4677-BECF-62C2BEA8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5558-86F5-4AD1-9B7B-96DD5AA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3E2F-3EBE-4ADF-991D-0ADF823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B299-2331-4769-BD7B-40FCB576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B78B-802B-4470-8436-1C1921D6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C478-F6B6-46F7-9952-C8D33791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1871C-10EC-48B5-9E7E-6753BEF7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8D86F-3EE4-4C57-A611-D2C5B1C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45F8B-22ED-4FAA-8058-A180DBC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518E2-2351-4601-BF14-E61529B7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445D3-5002-4DF8-BB06-DC41333B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EFD-E9EE-4167-8595-2AB72B7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01ACB-A0E7-4819-8549-BAD03802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5D3F1-55EA-44FB-B898-4B8F1A5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A7880-FB7E-49F1-97F2-04556AE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53744-B324-48FE-BFB6-02CB8E4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4C3C1-33B8-4A80-8027-6639171A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B9E4D-5BBB-4E65-A4FB-02221418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67DDC-E1C6-41D8-A135-A21CCC18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09B0C-1F62-4A08-84B6-47455684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43D7F-5ACA-4535-AF8D-39A5457C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D3C74-C233-4A61-8527-19A1437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B4F-AE38-40AB-B978-0E8C5E1D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191EE-E824-4228-90CD-3AE06A52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3599C-5F3F-4403-8754-9C0C7E4F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CCAE6-4F92-4AFF-966B-7F973984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7073A-8538-4974-8816-4017B1C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90E9D-564B-4B88-9832-FA6CC7B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3D6A1-8EE7-48BA-A294-3663F57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FCFC5-CD28-43C5-BEE2-6BB2655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19CC1-1AFC-4692-92D9-54649B8D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C61EA-C315-448F-AC9F-85C392E6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23536-19CB-4A85-A54B-4FB626B7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946-71E3-4FD4-86C2-3A17FA0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B749A-F99A-4119-840E-B11C8CF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5BE7A-2A35-4620-87F0-9744B682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18839-DB59-4736-8442-00EB4C16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E4C60-A3F8-44BC-B800-01FD21E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C5F1D-B4F5-46DC-A223-320C4D6E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2EAF7-5E96-495F-AD8F-1E4D6E8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D9AC6-C20A-46C8-9A06-0281299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F8182-D6F4-45B9-8E40-429F41B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0673B-1DA4-4AB8-BFDC-EFE65279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2FECD-C630-4698-9591-CDE20772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058-7325-492A-9678-49D8080B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3AF9E-963A-48DB-A7AE-B7AE3F72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9A540-DF93-4EF8-9A12-9F75FADB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9B153-F01B-40F1-AC2A-0E680094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F1AC-41AC-4E20-8CC3-8CB1BCB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7F667-5D3F-4031-80C9-666804C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0A4B-D3BE-4470-A95C-85608D0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93680-5966-4AE0-9132-1CCA7800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D9913-4D84-48C7-B647-D9AAADE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FD34-DA47-4A4E-AF4C-D699EC1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1BA8-CBF2-476B-B631-14940FB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7A2-CC14-4779-AE38-8F9A9D0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F43C-E246-4139-8B87-3B0EF35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E892-A668-4694-875A-471FB4F5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445FB-0478-4EBD-BFF1-2376DBB0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55395-CABF-436C-B5FB-3D2293C3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75C35-C6C0-46FC-8A8B-C58C2181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7197F-29FD-4301-ACA5-D6E28B1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658A4-FA25-4E2F-9129-4DC4001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833C2-2D80-4634-91A8-4D123FA6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D073B-F81E-4160-BE65-E74797F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6846B-45C1-4B72-A2AF-91F8F0F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767-06DE-498B-BBB3-CE3784E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43CDC-15D9-4772-BF13-1D287FE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26453-6E37-4081-9F71-C2AEC94A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447C6-47B9-4526-B546-108A7348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E0F92-20EE-4315-998D-1A8B06C9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CC927-3F11-4BB1-9360-F6680072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9644-C923-4B12-984E-DBDE69B0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5FD8-FCDF-4599-9FEF-8E3E4571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6687C-94A2-4EE4-8420-82D96961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157E-416E-4498-80AB-B290D37F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5DA7-BAB6-4965-9333-7CA269E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8B5-AA5C-4898-B88F-3A1D47BD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AB3B-0A5D-4CEA-A2D9-3BACB99E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0ED78-79F7-44AD-A1F2-4941B99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FD61C-4048-41F0-8C34-0DC9227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0666B-D799-45E5-8528-AC287BA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99E06-EDE3-4ABD-BCF0-6D23C858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D652-C4A0-4252-A789-C8314594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7E34-02EB-4D82-B900-D301159C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E91-2E7E-4367-89A0-19853222AD6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67B2-AD6E-4613-BCFB-BC5511C398A8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B1B-68BC-48F8-93D3-81A866AD941B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078D-95BA-46F7-95B4-40533F03564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239-D5FE-4009-8E20-A4D024A59EB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4A5-7B92-473C-A728-AFC4446DB30D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CF6B-366F-439C-B022-09374F6B63F0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97EE-7E81-43FF-80DC-0E020C15D4A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HUMAN INQUIRY AND SCIENCE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962520" y="220680"/>
            <a:ext cx="5181480" cy="6103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33520" y="17524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= Theory + Data Collection +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, Not Philosophy or Bel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theory  has to do with what is, not with what should 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ory – A systematic explanation for the observations that relate to a particular aspect of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science can help us know what is and wh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gula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rule out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jorit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c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cousin’s brother’s sister’s aunt’s uncle’s nephew’s third cousin twice removed best fri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regularities represent probabilistic patte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, Not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llective actions and situations of many individu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us of social science is to explain why aggregated patterns of behavior are regular even when individuals change o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nd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– Logical groupings of attributes. (ex: se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ributes – Characteristics or qualities that describe an object (ex: male or fem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848040" y="307800"/>
            <a:ext cx="51436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Verdana"/>
              </a:rPr>
              <a:t>Figure 1.6 – Two possible relationships between variables</a:t>
            </a:r>
            <a:endParaRPr b="0" lang="en-US" sz="3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3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Variable – A variable with values that are not problematical in an analysis but are taken as simply gi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 Variable – A variable assumed to depend on or be caused by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urpose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ping out a topic that may warrant further study later (explor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the state of social affairs (descriptiv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reasons for phenomena, in terms of causal relationships (explan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ing for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ation of Social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Dialectic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Dialectics of Soci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graphic and Nomothetic Expla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iograph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exhaust the idiosyncratic causes of a particular condition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” means unique, separate, peculiar or distin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to the case at h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mothe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identify a few causal factors that generally impact a class of conditions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rather than idiosyncr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onomical” uses fewest explanatory fa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uctive and Deductive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uction – The logical model in which general principles are developed from specific observ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duction – The logical model in which specific expectations of hypotheses are developed on the basis of general princi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allace Wheel of Scienc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4" descr="wheelofscience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and Quantitat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– non-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tative Data – 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e and Applie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e Research – Gaining “knowledge for knowledge’s sak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ed Research – Putting research into pract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(Chapter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f the Literature (Chapters 2, 15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the Problem/Question/Topic (Chapters 5, 6, 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Design (Chapter 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ollection (Chapters 4, 8, 9, 10, 1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ction of Subjects (Chapter 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hical Issues (Chapter 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(Chapters 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bliography (Chapter 17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The two foundations of science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wo foundations of science are 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c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what should be and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ith what 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settle debates on val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xclusively descrip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disproving philosophical belief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Looking for Realit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nowledge from Agreement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rtions must be both logical and empir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greement rea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things we “know” as part and parcel of the culture we share with those around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istemology – The science of know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thodology – A subfield of epistemolog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ce 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en social scientists study variables, they focus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scientists study variables, they focus on 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_____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 t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true of tradition and autho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assist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authority both assist and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explanations seek to exhaust the idiosyncratic causes of a particular condition of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t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if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 explanations seek to exhaust the idiosyncratic causes of a particular condition or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ry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mans want to predict the future.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recognize that the future is caused in part by the presen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use and effect patterns  are probabilistic in natur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ion versus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d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rors in Inquiry and Some Sol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cur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asurement devices offer accurac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generaliz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tend to assume that a few similar events are evidence of a larger patter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 and representative samples are a safeguard against overgeneraliz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275480" indent="-212400">
              <a:lnSpc>
                <a:spcPct val="9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plication – Repeating a research study to test and either confirm or question the findings of an earlier stud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v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oid looking for “deviant” cas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es “the exception prove the rule”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 does this make no sense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mbler’s fallacy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eryone “knows” that a consistent streak of either good or bad luck foreshadows its opposite!  Duh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’s Really Re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emodern View – Things are as they se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dern View – Acknowledgement of human subjec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ostmodern View – There is no objective rea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Verdana"/>
              </a:rPr>
              <a:t>Figure 1.1 – All of these are the same book, different “points of view”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Foundations of Social Scienc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undations of (or pillars of) social science are logic and obser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understanding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 make sense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) correspond with what we obse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2:44Z</dcterms:modified>
  <cp:revision>31</cp:revision>
  <dc:subject/>
  <dc:title>Slide 1</dc:title>
</cp:coreProperties>
</file>