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1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1B56-6250-499A-84F0-E34757A59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891D-8FEA-4584-9AA7-92CBA8FB6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44D5-552D-4624-92AA-C264A00DF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E5D1-8E23-49FE-B0F4-0497EEDAA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EB14-4D54-4982-A3E4-A351C39EF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114F-C278-4BC8-A9C2-BD1C2C063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7AA7-F348-4DB5-937A-26F32613D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656F-9F0E-4FB3-B275-2E37684F0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C4B4-542B-4C0D-9DFC-AE62FCA36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DC3E-B903-4931-99F9-FBCF5E40C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9A6F-A3CD-4E74-A84A-7B0E7C76B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A6BB-4CBD-4DF4-8EED-346524D77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C34D-FAC8-4905-BF6F-BE44BF0F9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68DD-E20A-4CC1-BF55-C2E320779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08D5-8E4D-4AB5-A804-1C698A0A3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D7E2-1778-4A53-B9AE-54CE8DCE6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A03-F4EA-42C6-A01D-71474259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D0F-8027-4D34-A375-D3284DF7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BC1-DC26-465C-A983-B00EB8C1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B9F-C622-45E5-B22D-46B776A0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8879-EDC5-4007-A53D-EB017FED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AD52-6D47-4225-A8F1-D01BB7F6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324B-3C6E-4030-AAB5-3D9D978F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65FA-54BC-4379-8DB0-A8DD8E4A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636A-39C6-49F7-A480-082F199D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3E38-D2AC-4156-B308-7F7FD97B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2EA3-3008-4F19-AF38-0B016E79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71A-33CA-46C0-9645-BF584365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1016-DD6A-4CCA-86AC-ECF1106A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A480-A63C-4E6E-A6C4-13052CB4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B25D-5E0A-47FE-A34F-879C7D9E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9D97-1E15-4516-8A69-83AC7CBD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617D-5749-42A9-94CB-D87AD156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4BEEB-2515-4C46-9993-A4807B31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29E6C-88AC-4F79-9D1D-DBBA17C1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05227-61A8-4772-BCC0-9AE7ADB8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DFE05-3318-49D8-8885-C2A480B9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8F3F3-8D53-4EC2-8C7E-4EE04861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762-1880-405A-9CE9-C0759B83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4B936-49E6-4F28-BCC8-4DD7C1F3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411D1-7C1D-44D2-8A2B-F26D02D9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F5F6A-4727-40AF-9B74-962DDF3C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C114E-5EB7-4468-83EF-7B6EF4EC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755C2-6DCB-4A8D-B75B-F78DB4CF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1E2DD-93BC-4AB7-9603-59367723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FED35-BEED-443D-8054-49580286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6732E-507C-4BE5-8535-B5088314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E8409-1B5D-41ED-874A-E6B84253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11452-3EB8-42B1-B00D-C2941A20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948-6373-457D-9300-124F0957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54F78-075C-4FD5-B95F-4A0D55C0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6214DE-36B2-4A4C-AEEB-C2007A71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948192-7050-4B4F-9646-C6565804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DB084-3C88-4FE7-AC63-3F38ECC0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90322E-4254-42AE-BFE3-93590DA4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8541CC-1F50-4D39-9B6F-850AF18D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AE907-8C08-4749-B0E2-DE42FBF8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D3A3A2-D133-42C1-9FC7-A0069746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2BA6AE-2A9C-4796-9659-4FE66507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F34F1-3F5E-4E70-875C-A0F360FD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03E-DE99-41E2-BD9E-2D761994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61AB0-EB21-4803-BACC-B9127811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646FF-48E3-4754-A15E-BEC8A6A3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A78C5-A390-448D-A176-2466D331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86B32-463C-47C1-8ACB-9B1DA25B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2DE74-A477-42D8-8F10-0A94EC76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16B83-A1CF-4E2E-A0FD-87A14961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21103-6386-475C-81E3-DF2A1381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CA36A-F5AC-430C-AA38-1D8CFF70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D0406-C14E-4E9D-80DC-3BA7424D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11E5E-0BAE-4AA2-B6F7-FB1B408A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9BA-F119-44BD-BF1B-CCC5DA2A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86380-D00D-40FD-94C9-852BC77E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392FD-6BC8-4CC6-A3D6-4F7D5C95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3904D-8A3E-486B-9BA7-66FDF91C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DD326-5889-416E-85B1-372C3377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D7590-6254-4CFD-A707-379DAA07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C3BA3-C7B6-4A81-928C-7C5C8D05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FC040-83D3-4E6E-8896-388C4501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44D7D-EABB-4C15-8930-384FBBC1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859FA-B622-45F7-B4C6-BCDA3066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BE52C-814F-4792-A45A-E0F06885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BCB-1FED-47A4-8A6B-0F382416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0899E-593C-4994-A66B-1DB10699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7A4EE-B415-4994-87CA-14946CCD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F695A-0B31-4F3B-8563-CB753038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AD507-E984-4C71-896C-F542AAC4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ECEC4-C95F-4B6D-9339-66A87E1E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1883F-9537-4A0D-B1AF-4358F1D6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89225B-FFB3-47E1-B4A1-C6806A05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6D280-9CD5-46AA-9858-986791EC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3DCDC-47D2-4D0B-8181-C4CA7AD9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10BF6-01ED-44D5-857C-0E231BCE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6044-16C3-46E2-9378-6213CE03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7B04F-7F2E-450A-B5B1-4CF6A03C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23AD9-6D2B-4365-9657-4519394D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624BF-30A0-410E-BAFF-F5D0C1A4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2B558-89D5-4EEB-996C-EF040C19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003720-EEF6-464A-B3D8-F675EAFA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D2E5E-6A97-49E8-B18F-ED70AC0C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7727D-F2AB-4C7F-81AE-7D3FAE01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E45DA-3BEA-4603-B2CF-EF5F07A1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78512-3DB9-4510-A9C8-3C3F565D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EBA3D-57E1-4110-9943-FFFEF019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3A7-E563-4886-B569-C828E55F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FFF69-1BED-473C-B5E2-61466405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19D74-AAC9-4A96-B86E-4C9ACFC6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31F10-9D2A-493D-B9FE-FE8C6D43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866CC-33D0-422C-9DBD-DF61B651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46C2E-5BED-4E62-8CD1-2994CA6E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D07DD-9F82-491D-BA74-580111B8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82018-A3B3-40FC-BBBC-9E07FD1A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BB0E-3540-428B-8696-C2508EDBF83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2223-5BAE-4AE7-A0D2-93729DD065C9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1600-0227-47E8-9BC6-CA347015FD90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3C49-B211-479D-B683-2962F69ED05B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069E-32DF-4A34-B275-0DED8C75A66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5BA7-EAEC-4707-A414-FA12FBD526F9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FBCE-CA38-4584-9EB4-650C0FE51DEE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4302-DF94-4989-B3AB-5D63EB6D8B3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9, SURVEY RESEARCH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ingency Question – A survey question intended for only some respondents, determined by their responses to some other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7214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09480" y="1558800"/>
            <a:ext cx="546264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22440" y="1620720"/>
            <a:ext cx="8035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rix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617400" y="2233440"/>
            <a:ext cx="82425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ering Items in a Questionna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ear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n-Ended or Closed-Ended Fir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domized Orde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nsitivity to the Prob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ographic questions should go at the e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naire Instru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roductory comments and clear instru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-testing the Questionna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6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62268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elf-Administered Questionnair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s in which respondents are asked to complete the questionnaire by themselv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ics Appropriate for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elines for Asking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naire Co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Administered Question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view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ephone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ine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ison of the Different Survey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ngths and Weaknesses of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ary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ics and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il Distribution and Retu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do people not return questionnai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Retur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llow-Up Mail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Rate – The number of people participating in a survey divided by the number selected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al = higher than 7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is a low response rate bad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can be done to improve respon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terview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view – A data-collection encounter in which one person (interviewer) asks questions of another (responde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ole of the Survey Intervie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solicit higher response rates (80-85%) than mail survey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s minimized “don’t know” and “no answer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serve as a guard against confus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can observe respondents while completing the questionnai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Guidelines for Survey Interview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ess appropriat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familiar with questionnai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llow question working exact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responses exact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e when necess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e – a technique employed interviewing to solicit a more complete answer to a ques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ordination and Contr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eneral guideli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ow to handle difficult situ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actice interview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l” interview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elephone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95.5% of households have a telepho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me and mone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sonal safe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ogus survey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listed phone numb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ll ph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swering machines/voicemail/caller 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ndom-Digit Dialing (RDD) – A sampling technique in which random numbers are selected from within the ranges of numbers assigned to active telephon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uter-Assisted Telephone Interviewing (CATI) – A data-collection technique in which a telephone-survey questionnaire is stored in a computer, permitting the interviewer to read the questions from the monitor and enter the answers on the computer keyboa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Survey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ptive, exploratory, and explan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s of analysis = respon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pondents – A person who provides data for analysis by responding to a survey questionnai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samples, original data, measuring attitudes and ori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Rates in Interview Survey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Online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use consistent word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use simple langu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force excessive scrol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offer to share select result with respond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plan time and day of initial mai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be aware of technical limi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test incentives, rewards, and priz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limit studies to less than 15 minu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mparison of the Different Survey Method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Administered Questionnai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aper and faster than face-to-face interview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ational is the same cost as local mailing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es small staf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re willingness to answer controversial ite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ewer incomplete questionn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re effective for complicated questionn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ace-to-face is more intim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phone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aper and more time effici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ine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ailable software and websit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trengths and Weaknesses of Survey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ength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eful in describing large popul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ke large samples poss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rveys are flex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ndardized ques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akne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ound pegs in square ho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ldom deal with context of social lif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flex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rtifici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ak on validity (but strong on reliability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econdary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ary Analysis – A form of research in which the data collected and processed by one researcher are reanalyzed by an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General Social Surve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vantages: cheaper and faster than primary data colle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advantages: valid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en is survey research the best method availabl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collecting origin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describing a population too large to observe direct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measuring attitud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ey research the best method available when collecting original data, when describing a population too large to observe directly, and when measuring attitu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questions have a respondent select an answer from among a list provid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n-En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t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d-En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Guidelines for Asking Question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 – A document containing questions and other types of items designed to solicit information appropriate for ana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d-ended questions have a respondent select an answer from among a list provid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As a general rule, a questionnaire should b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read 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clutte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ev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a general rule, a questionnaire should be spread out, uncluttered, and releva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se are among the many advantages that underlie the growing popularity of telephone survey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ven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, time, and convenience are among the many advantages that underlie the growing popularity of telephone survey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i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 advantage of survey resear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generaliz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flexibility in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validity i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 advantage of survey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The major problem with secondary analysis pertains 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mpirical 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ajor problem with secondary analysis pertains to 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hoose Appropriate Question Form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 and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-Ended and Closed-Ended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n-Ended Questions – Questions for which the respondent is asked to provide his/her own answer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losed-Ended Questions – Survey questions in which the respondent is asked to select an answer from among a list provided by the researc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e Items Clea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Double-Barreled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dents Must Be Competent to Ans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dents Must Be Willing to Ans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s Should Be Relev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ort Items are B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Negative I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Biased Items and Te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Questionnaire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Questionnair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clutte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ne question per li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isten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ats for Respond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887400" y="2286000"/>
            <a:ext cx="4979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7:20Z</dcterms:modified>
  <cp:revision>14</cp:revision>
  <dc:subject/>
  <dc:title>Slide 1</dc:title>
</cp:coreProperties>
</file>