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262-147F-4548-94EE-EA55621FF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BD40-9341-4418-A639-DC1BDB9F8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F6D4-B780-4130-83D9-09401F34F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5FE-AE98-48DC-8646-B229CF75C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7734-0868-4651-8671-497ED8624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B95D-462C-48CB-9099-CA8DD73B7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459-2B0E-487C-999B-689D5715F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B9E-2DBA-455B-B019-00A11D70E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CA16-D28B-4E28-A8B5-D80012E5A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200-B2E1-4CB8-97E4-DB533A7D4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4E9-5441-46DD-AB81-250210D4B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593F-093C-4F0E-88A4-9FAC7EF6E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53C3-A6E4-4BE1-8FC1-B4A62679F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1931-A9CC-4326-A420-36FD055D6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8422-DEA4-4FBF-AD3E-EC5B8A88F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4EB7-F675-48E3-89F8-F6668537D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54A-D5D4-46CF-A4AE-8E0DD6BA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E6E-11D7-4F39-A062-F194AB20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514-9298-4294-B62C-04738FB8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864-0B87-48C0-B9DD-672A7C01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A2B5-AF6E-47EB-93D8-EDDFE35E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FB9D-2E4C-4348-97C1-43BA0BB3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BC59-4CD4-40F4-8182-5AAAF1A0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D216-3B13-4385-A4B1-901E0E3A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FA63-608D-4D9D-AF26-0179C4F7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921C-AF5B-4B56-A30C-5175899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5A3-544E-4E4C-9E1B-C49FF87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3B3-4541-4793-A053-04D6A372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1377-74CB-4419-8DB0-2220F5E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B634-B98D-43D0-9C2A-C18F29D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8C2A-8F98-4DCD-B1D9-F278ED4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0C28-DAA7-4002-B693-42C79464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8614-3E3B-4A11-8178-93FE6CF4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4F6DD-157C-444A-86C5-ED1078D1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CD5F3-957F-4B24-9EEF-E9BE0CF9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834AE-18E6-485F-8465-A8153665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2BEF9-C9C1-4654-AF9D-5A87605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A3CA3-FC21-4DF1-9707-56E37C12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6CF-45AC-4910-A5DE-2DC1C9C5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BF1F4-F127-47FF-B746-DE186878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96410-4287-48EC-AE7F-4FE2ECAB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A4D09-C4C3-4DCE-90BB-40FC019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7E3B2-CE51-4A45-A4C4-10B5861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1A68C-772C-45B6-8E0A-79B0EBDA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7EB76-FDD3-4B8C-A96A-8DE63465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51BDE-B638-45D2-B1C6-0125B759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2E9F2-6BFC-461C-A23D-B264FC74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8F94A-3E1A-4A00-A35B-5444971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5E6DA-9B5D-4758-9DF4-6FC90A5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710-42EA-47E7-B76F-45ECD6C5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7386D-5890-4C71-B3CF-76F666F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7F073-71B4-4A21-8DEF-B507A887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40105-EFB8-40EC-863A-8A9F6FA9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B3989-99E3-43C5-8104-470A390A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F6D96-32A7-41F4-BEC2-60C432C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0D275-8B7D-4D55-8A7C-EDD135F1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7E775-199B-49F9-A38E-2F6E71F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F3F8D-EBC9-4FC5-9B91-885FE4E3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D34CA-F0E4-4390-93AF-71A9A175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A8FD3-290B-48FC-9DC2-F913464C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386-A7F0-46DC-9903-9F17334A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3B773-1694-4607-A4B4-3B4249AE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7AB9E-AE32-460E-B11E-97C57412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28EA1-15D6-40D9-B8E3-3BB2FF0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09315-106C-45A2-A22A-4A974125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2E63C-E8D5-4206-8E12-6B6E7892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EA071-A5EB-4566-BA5C-32DA9C19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BB906-BBC6-4A01-B6A9-966F48A4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97AF2-0B37-4010-8337-708FCDD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9D06B-0240-4A48-9E6E-AA971B4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7ECBD-4AC2-48AD-ABDB-CD296018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86A-6EC1-4EF4-9B5B-755CDB57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DA636-606C-45CF-B508-B41EACAD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E239A-711C-48C7-A29D-5AB3067D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9E1B2-9EB5-40D0-B893-055DCC9C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87260-6690-475E-8833-32BAE7BE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607B-C803-44A3-96DB-7DF90A9C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F7F27-5DB6-402C-8A25-D403F748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8E7E7-B85F-41A1-AEC6-4E9A5619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FF098-007F-45AC-92C0-F8282258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DF7CE-7B14-4E11-866D-D0A057A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BDDF5-7D19-41CD-8C1B-7226773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171-B23B-4D67-8D23-B8A400C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059A0-CEE7-4F28-A855-FDDC0C0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4D9DD-8563-430E-85D6-6ACA825D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1F528-9743-41B9-AF7C-32769E5C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7CE31-CC0A-4402-BA77-19A4752F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8900E1-7178-4EFC-8152-64FC13C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DEDCC-BABB-433E-8BF6-192B4AA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B6CAB-95CA-4E3E-8485-73B13713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71CCE-7040-48BB-BB56-F7961F19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1110B-7265-40B7-9146-49A8ABCE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C6723-B723-47A2-85C2-0B85D7A4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9F9-C864-4F14-836A-AF996E7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452C1-2F66-44CF-82D5-6ED79E9D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5957E-9108-4CD4-BA33-319B7E49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8AC43-6F71-4384-BEF0-AE1997D7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55EBB-B374-436F-8B7E-67A3C8B6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39E170-5A5D-41A6-A27C-58AEBB49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B7A14-EB44-4103-8B1C-92049AF2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748F-04DC-46B0-B3A1-67E1836A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EBA86-EFE3-4F7E-86F4-EBF4897E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38454-4B3E-4B82-8E66-D378C461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6D41-DE57-4F7B-B92E-2E6B884F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E54-A5FA-453A-9F5A-5097D88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F5978-0ACE-416D-8477-F935EBE8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1CE47-E1FD-4D30-B508-7EEF66A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410E4-1DAE-4A03-9E3E-8BC5CB02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05AAE-EFAA-43FF-AC69-F00490B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800B0-FF91-4434-9278-8B23A168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8515E-B590-449F-995C-8EBCDB80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CDA07-61E0-4A06-A815-2A8F521F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8625-34FF-4C08-8371-DFBE7DA6DB2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F03B-BD2B-404D-9E6C-468047740EFE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DC4-27AB-4A3C-A725-39AE3044B4CB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3824-7AA5-43AD-A5FC-FD7D8E97F4B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DEBD-92FB-4D34-B022-355150FC22A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7B8-931A-4739-BEAD-7CAE912B28EC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4707-C311-4190-A699-D2CF2550F405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236-634B-4206-BE1C-D20C60C244E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9, SURVEY RESEARCH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ingency Question – A survey question intended for only some respondents, determined by their responses to some other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721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09480" y="1558800"/>
            <a:ext cx="54626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22440" y="1620720"/>
            <a:ext cx="8035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rix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17400" y="2233440"/>
            <a:ext cx="8242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ering Items in a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-Ended or Closed-Ended Fir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domized Ord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itivity to the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questions should go at the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naire 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ory comments and clear instru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-testing the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elf-Administered Questionnair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s in which respondents are asked to complete the questionnaire by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ics Appropriate for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Asking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naire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son of the Different Survey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of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 and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l Distribution and Retu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people not return questionnai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Retur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-Up Mail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 – The number of people participating in a survey divided by the number select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 = higher than 7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is a low response rate b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can be done to improve respon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terview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iew – A data-collection encounter in which one person (interviewer) asks questions of another (responde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ole of the Survey Intervie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olicit higher response rates (80-85%) than mail survey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s minimized “don’t know” and “no answer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erve as a guard against confu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can observe respondents while completing the questionna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 for Survey 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ss appropr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questionn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question working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responses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e when necess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e – a technique employed interviewing to solicit a more complete answer to a ques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ordination and Contr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w to handle difficult situ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actice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l”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elepho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5.5% of households have a teleph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e and mon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safe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gus survey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listed phone numb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 ph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swering machines/voicemail/caller 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dom-Digit Dialing (RDD) – A sampling technique in which random numbers are selected from within the ranges of numbers assigned to active teleph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uter-Assisted Telephone Interviewing (CATI) – A data-collection technique in which a telephone-survey questionnaire is stored in a computer, permitting the interviewer to read the questions from the monitor and enter the answers on the computer key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ptive, exploratory, and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analysis = respon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dents – A person who provides data for analysis by responding to a survey questionnai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samples, original data, measuring attitudes and ori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s in Interview Surve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nli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consistent wor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simple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ce excessive scro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offer to share select result with respond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plan time and day of initial mai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be aware of technical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est incentives, rewards, and priz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limit studies to less than 15 minu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ison of the Different Survey Method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faster than face-to-face intervi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ational is the same cost as local mail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es small sta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willingness to answer controversial ite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wer incomplete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effective for complicated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ce-to-face is more intim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more time effic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ilable software and web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ful in describing large popul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arge samples poss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rveys are 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ized ques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ound pegs in square h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ldom deal with context of social lif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rtifi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ak on validity (but strong on reli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econdary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Analysis – A form of research in which the data collected and processed by one researcher are reanalyzed by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General Social Surv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vantages: cheaper and faster than primary data coll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dvantages: valid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is survey research the best method availab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collecting origin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describing a population too large to observe 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measuring 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 the best method available when collecting original data, when describing a population too large to observe directly, and when measuring attitu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t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Guidelines for Asking Question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– A document containing questions and other types of items designed to solicit information appropriate for ana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s a general rule, a questionnaire should b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ead 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general rule, a questionnaire should be spread out, uncluttered, and releva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se are among the many advantages that underlie the growing popularity of telephone survey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ven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, time, and convenience are among the many advantages that underlie the growing popularity of telephone survey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generaliz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flexibility i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The major problem with secondary analysis pertains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irical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ajor problem with secondary analysis pertains to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hoose Appropriate Question For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-Ended and Closed-Ended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-Ended Questions – Questions for which the respondent is asked to provide his/her own answe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losed-Ended Questions – Survey questions in which the respondent is asked to select an answer from among a list provided by the 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Items Cle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Double-Barreled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Competent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Willing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Should Be 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rt Items are B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Negativ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Biased Items and Te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Questionnair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Questionnair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question per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isten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s for Respon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4979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7:20Z</dcterms:modified>
  <cp:revision>14</cp:revision>
  <dc:subject/>
  <dc:title>Slide 1</dc:title>
</cp:coreProperties>
</file>