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8E15-8C91-4D7C-9FF6-0FA6725B3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ing Unit – That element of set of elements considered for selection in some stage of samp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9D88-375D-4984-8843-B735ED853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FF80-1A00-492E-8210-882254B27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58B9-7955-4ACC-B094-0F591DDD3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961C-C523-468B-9D1E-49B83421B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B17-E9C0-4F16-ADDD-197CC7E6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40E-E5A2-4623-8CC5-D556CFC8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861-4A41-497F-AE91-E426631C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847-EE5C-4484-9231-51260EDE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B516-DD45-4FC8-8CB0-91858653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40C4-84E1-4D49-92DA-7F286DAE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E0A8-2BD6-482D-AE0B-0DAA7E2C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167D-0E67-4637-B60B-BAA584E7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1AFC-CA10-49DE-9C88-645E9049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D2EF-0306-4E07-AED6-DA4A7BEE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4A25-6811-4454-95F1-8AFE25EC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49C-768B-40CA-80F0-65E3AE01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3676-FF86-4899-8645-719BDB9E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D2FF-2387-489B-829D-8A57E8CA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1E74-08F1-4E3C-A72F-2E7F24AB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0A21-4749-4F20-87F4-BA421BD9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70F0-0AC6-4F63-B842-219C7BCD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E577A-17F1-4322-B016-CBF91B1E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A4177-9DB0-4AE9-81AC-6CF22C96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B4DB4-1273-444F-8785-CBC22D52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D7332-3D19-4AB6-800D-4FD5BE63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93828-F75A-45F2-961B-0F2CB4C6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792-2469-4F6D-9906-0F685414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A81DB-154C-46FB-B791-9712B13E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AB78B-1CD7-45CE-A747-4C3A05EB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1A2F9-DA8F-48B6-9668-B67DFE75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A2304B-952E-4A80-A051-785BAE17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01A3B-AB3D-4469-889E-FB13F2BE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D9B30-E7B8-47F7-BB8E-67C987B7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65AD1-75D9-4C68-A016-47DAB144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6ACEF1-7E5B-4201-97A6-EDC1EE60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FB3A3-A006-491D-AE7C-C503BE04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49741-8F7E-4673-9BF8-907A089B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5F7-6B70-4A5D-8C72-D06FA1F7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D9AF5-9AC7-4B4C-B811-01129745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FA2714-A38F-4B8B-9AD8-8913D2CD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5CE061-A9D0-48EF-A201-564EA9A6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ED5291-B081-4516-A783-FACF0AFF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9AE493-7E35-4135-981F-AC5FE96B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95572-A8C2-4C73-AD16-7FB68538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45CA5D-4748-4665-B992-15B2D2E7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42DC79-B087-46BB-82B6-5B2E3FB4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5FB23-2A14-43AF-BE50-1F5396A3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55284-8F70-46D0-B553-FE112D93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D15-3366-4486-99D7-E68E2E0A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340BA-2C7B-4E5A-8F31-DF711EB1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58866-33E0-4449-9253-207C3E93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D930F-C672-4A32-B647-E8167A4E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9F460-2025-4C75-A077-28EC6E32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F8B836-6BD5-4E8F-A4C9-AC5F84DA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E340D-7A0E-491F-ACEC-4C2FB17E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C213F-3446-44E7-AC86-97FAB238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95A5B-345A-4598-8F74-DED028E5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32C06-F1E5-470A-8C6B-00216796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8FC66-E3E0-483E-962F-95A77937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5F5-2E03-4AAE-9B55-05BA4BD7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484CB1-F81C-41D6-90FD-CCBDEC13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5C3CE-B02E-4D86-B3A3-8153794D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F58FE-1586-4D1E-820D-2DC9DF76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4FEE8-67E0-46AB-BFA5-D53156BE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00AE6-A60C-45F1-AC82-8D0DF3EE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B4B88-6F2E-4A8B-8133-D6A83C3A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5FD22-7024-482A-B546-92738FFA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C99AF-EE1B-49C2-A0EE-16918DF2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FE4C2-916B-40C4-B685-05623CCC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7F602-7321-4541-9718-789C66D8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4C8-556C-4AFC-93AC-B40F4A9D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91839-7BE5-4500-861D-E63C1608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3258F-5EEE-4DFF-94EB-8ED817D2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F0BF1-A462-43A4-8CD6-DB824665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E957E2-7C95-446A-90B4-AA6F8AE1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FEF05-7AF7-42EB-8FA2-E14A6802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399D58-5E28-47E5-9050-EF0CAA7E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56FA04-DACA-4767-8CFB-571DB9BA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D82C91-CDCD-43B0-B56E-5667162E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FD5FEA-1521-4F85-BC17-51F86257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1D210-89E4-42D7-A13F-548CD048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798-F009-48B0-B98A-ED418965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660D77-029F-4289-8B35-D8D3C1F7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DE5B85-FDC7-4D18-98EF-5C2F580B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46060-30B4-4A6F-BB77-B9B37A40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7734A5-E25C-49CE-8CF7-116F45C6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B9B539-6816-4660-BB96-C665D69D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DEE2D-B582-45C2-8C6D-3BDC18B6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D9422-7E82-4472-902E-4F6BA22D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0AF66-5DDD-4C39-8856-BE35897F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29AFD-D396-44ED-8649-53207903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70CFA-7778-4012-962E-7F7F57D0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936-A4F8-4CC9-BC3E-9DC131E3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9C1B1-CA3A-4C06-9DBC-EFD63031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37D33-2F53-4CB8-84EF-2856030D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12569-18E0-48C1-878B-C5C98668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62D4C-6DB9-46E2-99D4-A0F42C66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C48C4-8249-497A-A8A1-FAFE6999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03C25-CEA8-46A5-98D1-FB8C8817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C11F7-6840-4A3D-BDF7-6B0ABF9C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C39F-B3EB-4355-A294-BAF05AF918A3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9393-C92E-49CE-9789-6C2DCB01E77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6E0D-0FA6-4FC1-9A03-33863D3D024C}" type="datetime">
              <a:rPr b="0" lang="en-US" sz="2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0E71-2BB8-4930-AE24-0B1AAE855517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6241-881C-4652-8060-E60AF7479884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D7B6-F2CB-40D7-BC30-2D0254816A88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65EF-BB01-4690-AC92-B1BCD87B8702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E304-BE58-4DA4-83D7-E7F6C18FB76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7212-45E2-421B-ACBE-5D803938B1F3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40A5-A4D8-4FA8-AC0F-EF81235863F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B8D9-B23F-4783-812D-FBF5A86430B9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7369-72C9-479A-BE63-77D55B73CD10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C54A-0747-49FD-A61B-1B7F6635FEB5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7A52-82E0-4294-A971-98F47B9A0761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A642-DF36-4361-8CE7-DCB8B1F18F7B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5F86-7DFE-4AB9-8CA8-EDFF95B587E2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7, THE LOGIC OF SAMPLING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FBF3-BC72-43A3-8B15-3F6F43B6EF7A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ecting Informa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forman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Someone who is well versed in the social phenomenon that you wish to study and who is willing to tell you what s/he knows about i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EF43-FBE9-43D2-8A46-A12C5DBC909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Theory and Logic of Probability Sampling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Probability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The general term for samples selected in accord with probability theory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ten used for large-scale surve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ll members of a population were identical in all respects there would be no need for careful sampling procedures. However, this is rarely the s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ample of individuals from a population must contain the same variations that exist in the popu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4C2A-2BC1-4D0A-9070-29EE7E00FBB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2 – A population of 100 Folk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5694480" cy="459108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1F44-EFA0-40E5-85B4-4A6B7DC2CAA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cious and Unconscious Sampling B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ia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ose selected are not typical nor representative of the larger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6F96-D12F-4D08-9C15-77A214EF58D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Perfect Probability Sampl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98" name="Content Placeholder 6" descr=""/>
          <p:cNvPicPr/>
          <p:nvPr/>
        </p:nvPicPr>
        <p:blipFill>
          <a:blip r:embed="rId1"/>
          <a:stretch/>
        </p:blipFill>
        <p:spPr>
          <a:xfrm>
            <a:off x="682560" y="1589040"/>
            <a:ext cx="3740040" cy="4570560"/>
          </a:xfrm>
          <a:prstGeom prst="rect">
            <a:avLst/>
          </a:prstGeom>
          <a:ln w="0">
            <a:noFill/>
          </a:ln>
        </p:spPr>
      </p:pic>
      <p:pic>
        <p:nvPicPr>
          <p:cNvPr id="399" name="Content Placeholder 7" descr=""/>
          <p:cNvPicPr/>
          <p:nvPr/>
        </p:nvPicPr>
        <p:blipFill>
          <a:blip r:embed="rId2"/>
          <a:stretch/>
        </p:blipFill>
        <p:spPr>
          <a:xfrm>
            <a:off x="4917960" y="1589040"/>
            <a:ext cx="3740400" cy="4570560"/>
          </a:xfrm>
          <a:prstGeom prst="rect">
            <a:avLst/>
          </a:prstGeom>
          <a:ln w="0">
            <a:noFill/>
          </a:ln>
        </p:spPr>
      </p:pic>
      <p:sp>
        <p:nvSpPr>
          <p:cNvPr id="40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E331-F986-458E-ACF9-03938409C1F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Less-Than-Perfect Probability Sample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402" name="Content Placeholder 6" descr=""/>
          <p:cNvPicPr/>
          <p:nvPr/>
        </p:nvPicPr>
        <p:blipFill>
          <a:blip r:embed="rId1"/>
          <a:stretch/>
        </p:blipFill>
        <p:spPr>
          <a:xfrm>
            <a:off x="682560" y="1589040"/>
            <a:ext cx="3740040" cy="457056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7" descr=""/>
          <p:cNvPicPr/>
          <p:nvPr/>
        </p:nvPicPr>
        <p:blipFill>
          <a:blip r:embed="rId2"/>
          <a:stretch/>
        </p:blipFill>
        <p:spPr>
          <a:xfrm>
            <a:off x="4917960" y="1589040"/>
            <a:ext cx="3740400" cy="4570560"/>
          </a:xfrm>
          <a:prstGeom prst="rect">
            <a:avLst/>
          </a:prstGeom>
          <a:ln w="0">
            <a:noFill/>
          </a:ln>
        </p:spPr>
      </p:pic>
      <p:sp>
        <p:nvSpPr>
          <p:cNvPr id="40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3A6E-E580-4D8F-8307-DA3FDD9377D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a6378"/>
                </a:solidFill>
                <a:latin typeface="Verdana"/>
              </a:rPr>
              <a:t>Figure 7.3 – Convenience Sample, easy but not representative</a:t>
            </a:r>
            <a:endParaRPr b="0" lang="en-US" sz="3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78960" cy="4419720"/>
          </a:xfrm>
          <a:prstGeom prst="rect">
            <a:avLst/>
          </a:prstGeom>
          <a:ln w="0">
            <a:noFill/>
          </a:ln>
        </p:spPr>
      </p:pic>
      <p:sp>
        <p:nvSpPr>
          <p:cNvPr id="408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4BD0-C78D-4A61-BF87-A0C73BE9D08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 and Probability of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presentativenes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quality of a sample of having the same distribution of characteristics as the population from which it was selec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mples need not be representative in all respects, only those relevant to the researc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742D-F8AD-4CF8-9AA2-84BA8DD1EFD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ample will be representative of the population from which it is selected if all members of the population have an equal chance of being selected in the samp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PSE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Equal Probability of Selection Metho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3F67-6534-4BB5-86B9-17A3945B8D0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vantages of Probability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ability samples are typically more representative than other types of samples because biases are avoided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ability theory permits researchers to estimate the accuracy or representativeness of the samp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E7C5-960C-4570-80A1-1296F76E827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Brief History of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probability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Theory and Logic of Probability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opulations and Sampling Fram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ypes of Sampling Design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ultistage Cluster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obability Sampling in Review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Ethics of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E3BC-5DA7-4FB7-A439-B0316A5E6EA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at unit of which a population is composed and which is selected in a samp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opul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theoretically specified aggregation of the elements in a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ud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opul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sampling method in which each element has an equal chance of selection independent of any other event in the selection proc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5503-56EC-42E4-8708-C6DA370F1C4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andom Selection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Each element has an equal change of selection independent of any other event in the selection proces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4F31-1F9B-4D2B-9246-5F010615602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Theory, Sampling Distributions, and Estimates of Sampling Err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summary description of a given variable in a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: the mean income of all families in a ci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: age distribution of a city’s popula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8F9F-FF72-4F71-9C0D-34C694E0630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a6378"/>
                </a:solidFill>
                <a:latin typeface="Verdana"/>
              </a:rPr>
              <a:t>Figure 7.4 – A population of 10 People with $0-$9</a:t>
            </a:r>
            <a:endParaRPr b="0" lang="en-US" sz="42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ampling Distribution of Ten Ca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762120" y="2228760"/>
            <a:ext cx="8285040" cy="401976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80B9-98BA-47D6-B955-374DF83EB95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Figures 7.5 &amp; 7.6; Sampling Distribution of Samples of 1, 2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033800" cy="3645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27480" cy="335268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EEA1-7B96-4931-BA41-FBB51C4C442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533520" y="5334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how increasing from a sample size of 1 to 2 provides somewhat better estimates of the mean (we couldn’t get $0 or $9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7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360" y="1600200"/>
            <a:ext cx="3273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 we increase the sample size, the possible sample cluster ever more tightly around the true value of the mea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5257800" cy="5715000"/>
          </a:xfrm>
          <a:prstGeom prst="rect">
            <a:avLst/>
          </a:prstGeom>
          <a:ln w="0">
            <a:noFill/>
          </a:ln>
        </p:spPr>
      </p:pic>
      <p:sp>
        <p:nvSpPr>
          <p:cNvPr id="44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C6AA-C8D2-48B8-9957-1E9109BE050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atistic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summary description of a variable in a sample, used to estimate a population parame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C203-1735-470D-AD04-E6C8AC2FAE4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8 – Range of Possible Sample Study Results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407440" cy="207648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E908-C948-4A1E-8B89-06AC6A486F9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9 – Results produced by Three Hypothetical Studies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571680" y="1638360"/>
            <a:ext cx="8407080" cy="4152960"/>
          </a:xfrm>
          <a:prstGeom prst="rect">
            <a:avLst/>
          </a:prstGeom>
          <a:ln w="0">
            <a:noFill/>
          </a:ln>
        </p:spPr>
      </p:pic>
      <p:sp>
        <p:nvSpPr>
          <p:cNvPr id="451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9B42-FC92-4B02-8DD3-F06B6D26706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10 – The Sampling Distribu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647640" y="1676520"/>
            <a:ext cx="8224920" cy="3886200"/>
          </a:xfrm>
          <a:prstGeom prst="rect">
            <a:avLst/>
          </a:prstGeom>
          <a:ln w="0">
            <a:noFill/>
          </a:ln>
        </p:spPr>
      </p:pic>
      <p:sp>
        <p:nvSpPr>
          <p:cNvPr id="45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F0EE-F587-4FB7-9E26-3F81BF7BC72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– The process of selecting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3EB9-1937-45DA-8529-12EA9C109AA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degree of error to be expected of a given sample desig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8A8A-6493-47B9-B5DB-B5EAD428745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Levels and Confidence Interv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fidence Lev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estimated probability that a population parameter lies within a given confidence interv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fide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terva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range of values within which a population parameter is estimated to li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0B79-38D0-4580-861B-FD42F6C8F18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Populations and Sampling Fram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Fram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list of units composing a population from which a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sample is to be representative of the population, it is essential that the sampling frame include all members of the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3D25-EFEB-4FAF-B03C-42D726E93EC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Guidelines for Populations and Sampling Fram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ings based on a sample represent only the aggregation of elements that compose the sampling fr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ing frames do not include all the elements their names might imply. Omissions are inevit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be generalized, all elements must have equal representation in the fr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11D6-543F-48FA-A344-C233CE303AC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ypes of Sampling Design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mple Random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stematic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atified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it Stratification in Systematic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29C5-107B-466C-9877-77F60FD386B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impl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ando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ype of probability sampling in which the units composing a population are assigned numbers. A set of random numbers is generated and the units having those numbers are included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necessarily the most accurate sampling meth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53F7-A98B-4BF1-B5CD-0711A1E6F8D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5a6378"/>
                </a:solidFill>
                <a:latin typeface="Verdana"/>
              </a:rPr>
              <a:t>Figure 7.11 – A Simple Random Sample</a:t>
            </a:r>
            <a:endParaRPr b="0" lang="en-US" sz="37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2514600" y="1238400"/>
            <a:ext cx="6400800" cy="5391000"/>
          </a:xfrm>
          <a:prstGeom prst="rect">
            <a:avLst/>
          </a:prstGeom>
          <a:ln w="0">
            <a:noFill/>
          </a:ln>
        </p:spPr>
      </p:pic>
      <p:sp>
        <p:nvSpPr>
          <p:cNvPr id="47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7A49-657B-4B6B-B59F-19EA7908D2E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ystematic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ype of probability sampling in which every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unit in a list is selected for inclusion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sampling interval (which is calculated by: population size / sample siz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ightly more accurate than simple random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2C61-02B3-4812-B265-0A44AE22A35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tratifi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ratific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grouping of the units composing a population into homogenous groups (strata) before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ightly more accurate than simple random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atification is a modification to simple random and systematic sample metho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0646-0B36-4531-A495-0F93C7E2C3F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12 – A Stratified, Systematic Sample with a Random Start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7238520" y="1600200"/>
            <a:ext cx="1676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tified by Gender, every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 person is selected into the sample (in this case every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609480" y="1619280"/>
            <a:ext cx="6721560" cy="4781520"/>
          </a:xfrm>
          <a:prstGeom prst="rect">
            <a:avLst/>
          </a:prstGeom>
          <a:ln w="0">
            <a:noFill/>
          </a:ln>
        </p:spPr>
      </p:pic>
      <p:sp>
        <p:nvSpPr>
          <p:cNvPr id="48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DC8A-F3C5-43FB-99A7-0B8B25A7EF6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A Brief History of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esident” Alf Land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ry Digest poll, 193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million ballots mailed to people listed in telephone dir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esident” Thomas E. Dewey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llup’s quota samp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E0B9-4ACD-491E-B78D-2F40BFBB8FE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it Stratification in Systematic Sampling occurs when a list is already ordered into strata or groups.  Class (i.e. freshman, sophomore, etc) is a implicitly stratified list of stud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A28A-1B37-43A2-A2A3-46CBCBB92D4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Multistage Cluster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Cluster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– A multistage sampling in which natural groups are sampled initially with the members of each selected group being sub-sampled afterwar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Used when it is not practical or possible to create a list of all elements that compose the target popu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ighly efficient, but less accurat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9F63-033F-4BE3-A876-1F5C290A15C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13 – Multistage Cluster Sampling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12360" y="1600200"/>
            <a:ext cx="2739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gin by selecting a sample of the clusters (in this case, city blocks), then make a list of elements (in this case, households) and select a sample of elements (persons) from each of the selected clus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3486240" y="1066680"/>
            <a:ext cx="5657760" cy="5334120"/>
          </a:xfrm>
          <a:prstGeom prst="rect">
            <a:avLst/>
          </a:prstGeom>
          <a:ln w="0">
            <a:noFill/>
          </a:ln>
        </p:spPr>
      </p:pic>
      <p:sp>
        <p:nvSpPr>
          <p:cNvPr id="49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CFD6-CEEF-4F4F-8710-2FE268F576A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robability Proportionate to Size (PPS)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 type of multistage cluster sample in which clusters are selected not with equal probabilities but with probabilities proportionate to their sizes—as measured by the number of units to be sub-sampl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ore sophisticated form of cluster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2295-CF96-4633-BE4E-706219471BE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Disproportionate Sampling and Weigh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eight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ssigning different weights to cases that were selected into a sample with different probabilities of selec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ten used when you didn’t sample enough of some c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A75A-8FC2-4D8D-AD6C-05CA5B74137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0" y="175248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9408-A147-47D3-B6CD-F72FE2B8859C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One of the most visible uses of survey sampling lies in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pol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e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99E4-410F-44EA-ADA1-FB18E72E8B4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of the most visible uses of survey sampling lies in political poll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BD8D-DB79-42D0-B32C-FEADEACA173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sampling occurs when units are selected on the basis of pre-specified 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nowba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o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A9BF-D43B-4343-93B0-F38FB4782A4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ota sampling occurs when the units are selected on the basis of pre-specified 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D171-3CDD-431E-B9D6-AC490F406F8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Nonprobability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Nonprobability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ny technique in which samples are selected in some way not suggested by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le subjec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posive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nowball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ota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BE2E-6E26-4DCE-87AE-AEA97A9A06A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describes a sample whose aggregate characteristics closely approximate the aggregate characteristics of the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clu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S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4441-6A4D-41B6-B866-5FA1DF05481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 describes a sample whose aggregate characteristics closely approximate the aggregate characteristics of the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781E-CED8-4958-A273-6F55629446B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A _____ is the list of elements from which a probability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fra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stematic samp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4AE1-04F1-4319-9E9C-76DA9840F42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ampling frame is the list of elements from which a probability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C65E-8426-43EF-AB80-1496C7FF6CC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_____ is the general term for samples selected in accord with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probability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052F-5D78-431A-814A-3BA93D739CA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 is the general term for samples selected in accord with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F638-187C-4B65-AF3D-6749C0FDA9C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A _____ population is that aggregation of elements from which a sample if actually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etic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ma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r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4139-6B7A-4949-9E49-8D715561CB5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tudy population is that aggregation of elements from which a sample if actually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4078-8B15-4C87-ABDA-2F05941F248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Cluster sampling may be used when it is impossible to compile an exhaustive list of the elements composing the target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1264-EA57-4CFE-8529-B50B13FE5B6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uster sampling may be used when it is impossible to compile an exhaustive list of the elements composing the target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4C1A-FC1C-40F2-A38B-A5A6E068092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nce on Available Sub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venience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not allow for control over representativen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justified if less risky methods are unavail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earchers must be very cautious about generalizing when this method is us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4991-2341-4DF4-8C63-AE71123A2B0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Purposive or Judgmental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A type of nonprobability sampling in which the units to be observed are selected on the basis of the researcher’s judgment about which ones will be the most useful or representativ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subsets of a pop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-group compari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iant c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83EF-9BC7-475E-8611-31006C90BBD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nowball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 nonprobability sampling method whereby each person interviewed may be asked to suggest additional people for intervie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ten used in field research, special popul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3B80-3527-4768-86F1-5BF37D0BCA2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Quota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A type of nonprobability sampling in which units are selected into a sample on the basis of pre-specified characteristics, so that the total sample will have the same distribution of characteristics assumed to exist in the population being studie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probability sampling, but has problems: quota frame must be accurate, selection of sample elements may be bi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F087-393A-4B15-9CB1-9735A801956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6:02Z</dcterms:modified>
  <cp:revision>27</cp:revision>
  <dc:subject/>
  <dc:title>Slide 1</dc:title>
</cp:coreProperties>
</file>