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6608-C28C-4ECD-9417-E2737259A2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ing Unit – That element of set of elements considered for selection in some stage of sampl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3842-6C1E-4BE7-A818-A39C24CDAA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E50A-3FC9-4508-B418-065F9FE39F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4FFA-2B39-417D-B400-406EFEC95E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1881-6E25-4C3D-AA6E-DA76B15100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1F0B-9A38-444A-9992-1AF8725B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7BDE-0CC3-4FA3-B40C-C40A1E0B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FAC2-A7FA-46A2-9B67-9FC53BE7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4C12-5D34-4277-A273-C8D1F525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EEF2-EC54-4605-A8B3-D21B3BCB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7BED-386E-4A71-AFB4-FAE083DC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F58E-F1AD-4B58-8D46-E36486B4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6AAE-5B7D-41E1-9CC8-E7A41638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D5DC-F775-4139-B7A7-89FB7489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32F0-F0AE-40E3-9835-16EDC534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6274-4328-4248-8F7C-F23D21E0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DAFA-9B49-4D00-8525-49B9B3FB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DD0B-C12D-4F1E-ABCE-A5F32FD1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F05F-AEDD-4C8E-BDC1-E3E49102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8238-BCC2-48D2-ADF1-6A75E917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2B08-8B62-476D-8D04-4E1E011E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40D0-8BAF-4FBF-A009-E1594598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3E5A4E-DD0D-46FE-B68B-C43E7310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328C38-A712-4D4E-97A6-56C8C280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F4D9E4-D3B8-41C8-A695-8A2AB286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EE927-8A29-455C-86DF-389043D3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834BD8-100B-4A2C-B5EF-E35DABB0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05E9-C385-4A53-9AB0-47B35636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16979F-CFF4-453A-841D-2F84EDE9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98526D-9BE0-4A2F-9EE5-8B640853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F3EF3C-E1AC-4E21-B8F9-AFB06D80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DA81F-DE02-4527-837E-D1B07019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9B65C8-F921-4288-AC38-E5C8F1FF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E83F50-2A26-413A-89D5-90A3D37D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B54866-96F6-4811-AEA9-7D662A7A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85F2D1-1E81-40C3-A91E-796B3616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07F70E-B188-4B96-86CF-3C7F862F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8B9B5A-F62B-406E-8AFB-10866C40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B596-9F3C-4AB6-A746-1287209D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0B2F05-E7F7-4DDF-A5EA-51FD53E9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FE89A4-619C-406E-8B1A-D50CD63A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6C403F-95DA-45E7-8281-57C5F783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22B3AF-61AB-491A-8EA1-8732F928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284112-99C3-4B91-BD34-C6E56327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0E0417-74C8-4D8B-9A8F-D7603ECE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BC6713-C88B-4E4A-BDC6-08F7EA1D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04AA93-3BB3-4013-BBC9-FE831117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855A16-794F-489D-AFB1-679304F1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128638-EA1A-4492-9E90-7FB063BC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7C60-FDD1-4C63-9A55-9B60F2F2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C38F2A-3716-4445-8BA7-9244D728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91FDDD-674D-4162-BD46-7D9FAF17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9A31FE-272C-40AD-8EFC-EDF4863F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6207C5-9C13-4655-B6BB-0D1E67D4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A94057-2236-4106-97F9-E3A0FB5C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96ECE1-9FF3-4E1D-AE07-643F8E93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0A198A-3E31-4E2E-9DF6-2E90CB70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AF3736-E600-46E5-85CE-BF7F9F1C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5F4554-6973-4647-B678-FAFA5274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54B49E-C548-4CA3-8D84-39865A97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F65F-B304-4C9D-B769-18F293C9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4D7C09-4825-41F6-82AD-31881E8C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63433-C327-455A-AE94-26040462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2377E-968C-42EE-BA90-FE818C74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042F8-E399-4A19-81BD-DEC6CA1A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2D9B9-7CC6-4831-842D-0006020B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73CC4-2CEA-4DC6-8FE8-6030A1C4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B8053-61E0-40F5-9C57-99C53177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0DBA0-7949-47D6-BA03-7A3488EA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020CD-F4F5-4DA4-99BC-A10BAD58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DC214-3815-440E-9588-9AC19EF2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140C-AFFF-4B4C-9AFE-635C96A1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65340-5C2C-4239-884A-B96251E1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B6E73-5CDD-43F5-8F48-2CEA6527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FB23D-C3FE-4284-A667-42DCEE500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53E59E-6070-4B98-BE13-CF796333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2A69B9-B747-4DFC-87FE-0128A545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CC3CA6-108D-45C9-A0BA-D32427E4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E5E375-E4F7-454E-82A1-4D8DE798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5AF246-C30F-4EB8-9E1D-86113E35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DB594F-4BF4-4BF9-BEDB-3AC9631A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515E8E-BE4E-48D3-A357-FB63F79C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E75E-E659-48DE-AA6E-454BDC62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48B9D3-DCE6-4F81-ABC4-31D88E27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FFA4B3-57A3-4487-8484-A3964335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A802AE-DDFA-4A53-B487-FDA28EDB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36882A-7D68-4E09-A28E-FACF12FE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068E8F-14C4-4335-8828-CEAE34B5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7AA79-1270-439B-A265-93001D98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456F0-BA72-4C27-B454-552A74F2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7544E-2B4D-49C3-851C-8C397CB9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08A47-A19A-4B4A-8E16-E4EFC82D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3F515-3D18-4B0B-B66B-7017F7C0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7412-7AD0-4783-8251-6214910D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585B6-F42D-4B09-8BD0-789CFE76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30492-8B7A-4A7D-8AA0-8EFE0A97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6E55A-353B-449D-B571-75B40FBA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CFADD-792A-4432-BABB-266D8AF7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7AA07-08F5-4D2E-BAD4-8BD831EB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81A22-76EA-4473-84C5-82869F3F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DCE74-A2CC-41FD-98F8-AB7171C2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8196-E37C-403D-AFA3-576CAD1D6127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6B0E-2AF9-4A00-8843-AF77E33BA27E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56CD-604C-4C7D-BB91-C33F752179A9}" type="datetime">
              <a:rPr b="0" lang="en-US" sz="2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0A97-68B8-45B1-A7BF-8F074897694C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C47E-F050-47BE-B79E-54490BBBE3D7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5AB0-3457-4627-AFA6-5C95F1941C32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FE4D-F85C-42FA-9031-3598E0192E00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7B9E-ACE3-45C0-AA0D-D28F4E67DE05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9F81-605C-451F-AC4B-D811458F20F7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9DB1-2ACB-4095-A297-6F7B347751EC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E95E-A471-4178-86D5-4069FE997FEF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E5AA-6602-46A9-B3E6-78EAE04966D5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7430-503C-46A5-9960-C6A55A32B84C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A8A1-735E-4737-A09F-6172C3F09097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F294-FF4E-426A-8933-0E06228AD02E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EB5C-F558-42D7-B863-51066834A54C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HAPTER 7, THE LOGIC OF SAMPLING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B6F6-4DD1-4346-9BA8-124F0778B340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lecting Informa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nforman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Someone who is well versed in the social phenomenon that you wish to study and who is willing to tell you what s/he knows about i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20D0-723D-4649-9296-F593AE9B4D19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he Theory and Logic of Probability Sampling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Probability Sampling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– The general term for samples selected in accord with probability theory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ten used for large-scale survey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ll members of a population were identical in all respects there would be no need for careful sampling procedures. However, this is rarely the sa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ample of individuals from a population must contain the same variations that exist in the popul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E043-E2B5-480D-BC2C-CA9D3EBA9A99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7.2 – A population of 100 Folk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685800" y="1657440"/>
            <a:ext cx="5694480" cy="4591080"/>
          </a:xfrm>
          <a:prstGeom prst="rect">
            <a:avLst/>
          </a:prstGeom>
          <a:ln w="0">
            <a:noFill/>
          </a:ln>
        </p:spPr>
      </p:pic>
      <p:sp>
        <p:nvSpPr>
          <p:cNvPr id="393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C717-B65B-4CB7-B835-E773CE52E06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scious and Unconscious Sampling Bi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ia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ose selected are not typical nor representative of the larger popu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E6B1-7F97-49E8-B23A-E63A9A1D915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Perfect Probability Sampl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pic>
        <p:nvPicPr>
          <p:cNvPr id="398" name="Content Placeholder 6" descr=""/>
          <p:cNvPicPr/>
          <p:nvPr/>
        </p:nvPicPr>
        <p:blipFill>
          <a:blip r:embed="rId1"/>
          <a:stretch/>
        </p:blipFill>
        <p:spPr>
          <a:xfrm>
            <a:off x="682560" y="1589040"/>
            <a:ext cx="3740040" cy="4570560"/>
          </a:xfrm>
          <a:prstGeom prst="rect">
            <a:avLst/>
          </a:prstGeom>
          <a:ln w="0">
            <a:noFill/>
          </a:ln>
        </p:spPr>
      </p:pic>
      <p:pic>
        <p:nvPicPr>
          <p:cNvPr id="399" name="Content Placeholder 7" descr=""/>
          <p:cNvPicPr/>
          <p:nvPr/>
        </p:nvPicPr>
        <p:blipFill>
          <a:blip r:embed="rId2"/>
          <a:stretch/>
        </p:blipFill>
        <p:spPr>
          <a:xfrm>
            <a:off x="4917960" y="1589040"/>
            <a:ext cx="3740400" cy="4570560"/>
          </a:xfrm>
          <a:prstGeom prst="rect">
            <a:avLst/>
          </a:prstGeom>
          <a:ln w="0">
            <a:noFill/>
          </a:ln>
        </p:spPr>
      </p:pic>
      <p:sp>
        <p:nvSpPr>
          <p:cNvPr id="400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2C5F-3A0E-4BC8-B67F-E19504064E3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Less-Than-Perfect Probability Sample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pic>
        <p:nvPicPr>
          <p:cNvPr id="402" name="Content Placeholder 6" descr=""/>
          <p:cNvPicPr/>
          <p:nvPr/>
        </p:nvPicPr>
        <p:blipFill>
          <a:blip r:embed="rId1"/>
          <a:stretch/>
        </p:blipFill>
        <p:spPr>
          <a:xfrm>
            <a:off x="682560" y="1589040"/>
            <a:ext cx="3740040" cy="4570560"/>
          </a:xfrm>
          <a:prstGeom prst="rect">
            <a:avLst/>
          </a:prstGeom>
          <a:ln w="0">
            <a:noFill/>
          </a:ln>
        </p:spPr>
      </p:pic>
      <p:pic>
        <p:nvPicPr>
          <p:cNvPr id="403" name="Content Placeholder 7" descr=""/>
          <p:cNvPicPr/>
          <p:nvPr/>
        </p:nvPicPr>
        <p:blipFill>
          <a:blip r:embed="rId2"/>
          <a:stretch/>
        </p:blipFill>
        <p:spPr>
          <a:xfrm>
            <a:off x="4917960" y="1589040"/>
            <a:ext cx="3740400" cy="4570560"/>
          </a:xfrm>
          <a:prstGeom prst="rect">
            <a:avLst/>
          </a:prstGeom>
          <a:ln w="0">
            <a:noFill/>
          </a:ln>
        </p:spPr>
      </p:pic>
      <p:sp>
        <p:nvSpPr>
          <p:cNvPr id="404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7637-985C-4C32-9AAE-B45C1462A62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a6378"/>
                </a:solidFill>
                <a:latin typeface="Verdana"/>
              </a:rPr>
              <a:t>Figure 7.3 – Convenience Sample, easy but not representative</a:t>
            </a:r>
            <a:endParaRPr b="0" lang="en-US" sz="3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878960" cy="4419720"/>
          </a:xfrm>
          <a:prstGeom prst="rect">
            <a:avLst/>
          </a:prstGeom>
          <a:ln w="0">
            <a:noFill/>
          </a:ln>
        </p:spPr>
      </p:pic>
      <p:sp>
        <p:nvSpPr>
          <p:cNvPr id="408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C119-64C1-4F73-9ABF-5CE1921B4049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resentativeness and Probability of Sele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epresentativenes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quality of a sample of having the same distribution of characteristics as the population from which it was selec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mples need not be representative in all respects, only those relevant to the research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D913-3A9F-496E-8429-CDA471E09F5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sample will be representative of the population from which it is selected if all members of the population have an equal chance of being selected in the samp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PSEM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Equal Probability of Selection Metho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B01B-5BEF-4AF6-8E7B-AD27A8DDBC1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vantages of Probability Samp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bability samples are typically more representative than other types of samples because biases are avoided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bability theory permits researchers to estimate the accuracy or representativeness of the sampl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AAB1-BB88-4E84-86B8-488536FD258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 Brief History of Sampl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Nonprobability Sampl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 Theory and Logic of Probability Sampl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opulations and Sampling Fram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ypes of Sampling Design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Multistage Cluster Sampl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robability Sampling in Review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 Ethics of Sampl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BFFD-594C-48E4-9380-94571744835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lemen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at unit of which a population is composed and which is selected in a samp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opula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theoretically specified aggregation of the elements in a stud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tud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opula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A sampling method in which each element has an equal chance of selection independent of any other event in the selection proces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C1F4-C445-4698-9A1E-EEF085805BE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Random Selection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– Each element has an equal change of selection independent of any other event in the selection proces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F5D7-94F5-4443-B3B8-8FB2A50AFD4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 Theory, Sampling Distributions, and Estimates of Sampling Err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arame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A summary description of a given variable in a popu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: the mean income of all families in a cit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: age distribution of a city’s populati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F195-6C3B-4750-804B-CC9B402D8B59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a6378"/>
                </a:solidFill>
                <a:latin typeface="Verdana"/>
              </a:rPr>
              <a:t>Figure 7.4 – A population of 10 People with $0-$9</a:t>
            </a:r>
            <a:endParaRPr b="0" lang="en-US" sz="42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ampling Distribution of Ten Cas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762120" y="2228760"/>
            <a:ext cx="8285040" cy="401976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C10C-666C-4AD1-AEBF-1EC15FFFDFB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Figures 7.5 &amp; 7.6; Sampling Distribution of Samples of 1, 2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033800" cy="3645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227480" cy="335268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7083-A765-4F2D-B717-1E9B98587A0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6"/>
          <p:cNvSpPr/>
          <p:nvPr/>
        </p:nvSpPr>
        <p:spPr>
          <a:xfrm>
            <a:off x="533520" y="53341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how increasing from a sample size of 1 to 2 provides somewhat better estimates of the mean (we couldn’t get $0 or $9 for examp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7.7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12360" y="1600200"/>
            <a:ext cx="3273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s we increase the sample size, the possible sample cluster ever more tightly around the true value of the mea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5257800" cy="5715000"/>
          </a:xfrm>
          <a:prstGeom prst="rect">
            <a:avLst/>
          </a:prstGeom>
          <a:ln w="0">
            <a:noFill/>
          </a:ln>
        </p:spPr>
      </p:pic>
      <p:sp>
        <p:nvSpPr>
          <p:cNvPr id="440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54D7-307B-4C2A-8922-B02DB6A2FA5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tatistic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summary description of a variable in a sample, used to estimate a population paramet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AB2B-3805-410E-87FD-D0F3DEA74AD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Verdana"/>
              </a:rPr>
              <a:t>Figure 7.8 – Range of Possible Sample Study Results</a:t>
            </a:r>
            <a:endParaRPr b="0" lang="en-US" sz="3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407440" cy="2076480"/>
          </a:xfrm>
          <a:prstGeom prst="rect">
            <a:avLst/>
          </a:prstGeom>
          <a:ln w="0">
            <a:noFill/>
          </a:ln>
        </p:spPr>
      </p:pic>
      <p:sp>
        <p:nvSpPr>
          <p:cNvPr id="447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880D-2662-4B03-8F5B-FAB015AA4E5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Verdana"/>
              </a:rPr>
              <a:t>Figure 7.9 – Results produced by Three Hypothetical Studies</a:t>
            </a:r>
            <a:endParaRPr b="0" lang="en-US" sz="3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571680" y="1638360"/>
            <a:ext cx="8407080" cy="4152960"/>
          </a:xfrm>
          <a:prstGeom prst="rect">
            <a:avLst/>
          </a:prstGeom>
          <a:ln w="0">
            <a:noFill/>
          </a:ln>
        </p:spPr>
      </p:pic>
      <p:sp>
        <p:nvSpPr>
          <p:cNvPr id="451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4ABE-D5E5-4ABA-A1F1-91C544FCDB9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7.10 – The Sampling Distribut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647640" y="1676520"/>
            <a:ext cx="8224920" cy="3886200"/>
          </a:xfrm>
          <a:prstGeom prst="rect">
            <a:avLst/>
          </a:prstGeom>
          <a:ln w="0">
            <a:noFill/>
          </a:ln>
        </p:spPr>
      </p:pic>
      <p:sp>
        <p:nvSpPr>
          <p:cNvPr id="455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2046-EBE9-47E9-B41D-98564BE4C27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ampling – The process of selecting observa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B737-A63D-472B-AAEC-AE0DE1B8885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ampling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degree of error to be expected of a given sample desig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43CC-C57D-47D1-B381-88FA5948EAC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fidence Levels and Confidence Interv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onfidence Leve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estimated probability that a population parameter lies within a given confidence interv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onfiden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nterva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range of values within which a population parameter is estimated to li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41D2-CAEE-4F58-8E73-62E9EB77DE1B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Populations and Sampling Frame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ampling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Fram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list of units composing a population from which a sample is select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sample is to be representative of the population, it is essential that the sampling frame include all members of the popu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F53C-2EC4-4973-912A-99E39ADD8DF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Guidelines for Populations and Sampling Fram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ings based on a sample represent only the aggregation of elements that compose the sampling fra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ing frames do not include all the elements their names might imply. Omissions are inevit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be generalized, all elements must have equal representation in the fra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B958-9A6A-4C8E-AE83-3CABED910FF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ypes of Sampling Design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mple Random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ystematic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atified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mplicit Stratification in Systematic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EC1B-9D6A-48B9-AFA5-C8986A12C67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impl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Random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ampling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type of probability sampling in which the units composing a population are assigned numbers. A set of random numbers is generated and the units having those numbers are included in the samp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necessarily the most accurate sampling meth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4E34-6790-4321-8A73-7307D41EAC1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5a6378"/>
                </a:solidFill>
                <a:latin typeface="Verdana"/>
              </a:rPr>
              <a:t>Figure 7.11 – A Simple Random Sample</a:t>
            </a:r>
            <a:endParaRPr b="0" lang="en-US" sz="37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1"/>
          <a:stretch/>
        </p:blipFill>
        <p:spPr>
          <a:xfrm>
            <a:off x="2514600" y="1238400"/>
            <a:ext cx="6400800" cy="5391000"/>
          </a:xfrm>
          <a:prstGeom prst="rect">
            <a:avLst/>
          </a:prstGeom>
          <a:ln w="0">
            <a:noFill/>
          </a:ln>
        </p:spPr>
      </p:pic>
      <p:sp>
        <p:nvSpPr>
          <p:cNvPr id="477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9684-C17D-4026-97DA-521EB16835D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ystematic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ampling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type of probability sampling in which every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unit in a list is selected for inclusion in the samp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K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sampling interval (which is calculated by: population size / sample siz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lightly more accurate than simple random samp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51F6-A4B0-45A0-AAB2-155EAA4B516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tratifie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ampling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tratifica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grouping of the units composing a population into homogenous groups (strata) before samp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lightly more accurate than simple random samp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ratification is a modification to simple random and systematic sample method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547E-029E-496C-AA18-DFB85CBADF1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Verdana"/>
              </a:rPr>
              <a:t>Figure 7.12 – A Stratified, Systematic Sample with a Random Start</a:t>
            </a:r>
            <a:endParaRPr b="0" lang="en-US" sz="3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7238520" y="1600200"/>
            <a:ext cx="1676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atified by Gender, every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 person is selected into the sample (in this case every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609480" y="1619280"/>
            <a:ext cx="6721560" cy="4781520"/>
          </a:xfrm>
          <a:prstGeom prst="rect">
            <a:avLst/>
          </a:prstGeom>
          <a:ln w="0">
            <a:noFill/>
          </a:ln>
        </p:spPr>
      </p:pic>
      <p:sp>
        <p:nvSpPr>
          <p:cNvPr id="487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2E9D-386C-478D-80FC-80A77015346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A Brief History of Sampling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resident” Alf Lando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erary Digest poll, 193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million ballots mailed to people listed in telephone dir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resident” Thomas E. Dewey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llup’s quota samp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71E0-17F0-427D-8DF1-2052A7FBAA4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mplicit Stratification in Systematic Sampling occurs when a list is already ordered into strata or groups.  Class (i.e. freshman, sophomore, etc) is a implicitly stratified list of studen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B840-09D4-42EA-A5E8-6B9CC1F933A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Multistage Cluster Sampling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Cluster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Sampling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– A multistage sampling in which natural groups are sampled initially with the members of each selected group being sub-sampled afterward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Used when it is not practical or possible to create a list of all elements that compose the target population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Highly efficient, but less accurate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F260-DA45-4544-9688-CA5AF81EC50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Verdana"/>
              </a:rPr>
              <a:t>Figure 7.13 – Multistage Cluster Sampling</a:t>
            </a:r>
            <a:endParaRPr b="0" lang="en-US" sz="3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12360" y="1600200"/>
            <a:ext cx="2739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gin by selecting a sample of the clusters (in this case, city blocks), then make a list of elements (in this case, households) and select a sample of elements (persons) from each of the selected clust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3486240" y="1066680"/>
            <a:ext cx="5657760" cy="5334120"/>
          </a:xfrm>
          <a:prstGeom prst="rect">
            <a:avLst/>
          </a:prstGeom>
          <a:ln w="0">
            <a:noFill/>
          </a:ln>
        </p:spPr>
      </p:pic>
      <p:sp>
        <p:nvSpPr>
          <p:cNvPr id="497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1D80-EDF5-48BD-B527-A81E9810D35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Probability Proportionate to Size (PPS) Sampling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– A type of multistage cluster sample in which clusters are selected not with equal probabilities but with probabilities proportionate to their sizes—as measured by the number of units to be sub-sampl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more sophisticated form of cluster samp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7550-017F-4EFA-B0E5-3A7E3F5F034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Disproportionate Sampling and Weight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Weighting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Assigning different weights to cases that were selected into a sample with different probabilities of selec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ften used when you didn’t sample enough of some c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E09B-00CC-4D65-8D65-0EAA4FC3284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0" y="1752480"/>
            <a:ext cx="1295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E72F-8372-4880-A70A-589B47F1155A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One of the most visible uses of survey sampling lies in _____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litical pol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re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probability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D2C5-0528-4802-B6BF-5DA70E051AB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e of the most visible uses of survey sampling lies in political poll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3CD7-92EE-422E-8346-90B456291AF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_____ sampling occurs when units are selected on the basis of pre-specified characteristic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nowbal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o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urposi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4566-4997-40FA-8787-F99D521E10D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ota sampling occurs when the units are selected on the basis of pre-specified characteristic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CA5E-CBC9-4D58-92A6-71606BC13FB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Nonprobability Sampling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Nonprobability Sampling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– Any technique in which samples are selected in some way not suggested by probability theo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le subjec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rposive samp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nowball samp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ota samp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4C8E-A095-4F37-AD90-2CB585A05D4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_____ describes a sample whose aggregate characteristics closely approximate the aggregate characteristics of the popu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clu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PS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resentative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38E8-88C2-423E-82B7-00EEA03AC199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resentativeness describes a sample whose aggregate characteristics closely approximate the aggregate characteristics of the popu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43B8-57EF-4A95-8319-D9DBB421480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A _____ is the list of elements from which a probability sample is select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fidenc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fidence interv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ampling fra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ystematic samp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BDA4-7A78-4C03-BE15-B6F979A415A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sampling frame is the list of elements from which a probability sample is select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A562-7E0F-46A2-8279-36434956FDB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_____ is the general term for samples selected in accord with probability theo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probability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rrel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AAD1-CE25-4B1A-AB9E-313519B262F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 sampling is the general term for samples selected in accord with probability theo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FCC6-56FC-42C6-94FE-D0E90054BD29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A _____ population is that aggregation of elements from which a sample if actually select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etic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mal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r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3434-192D-450A-8F2B-EE63045FB9D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study population is that aggregation of elements from which a sample if actually select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4727-1376-4DEE-BDFD-C567AE0C8CA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Cluster sampling may be used when it is impossible to compile an exhaustive list of the elements composing the target popu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l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63B9-50B4-4B19-A9DA-146C46D59A6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uster sampling may be used when it is impossible to compile an exhaustive list of the elements composing the target popu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3C96-E753-459C-AD0D-9150773622B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ance on Available Subj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venience samp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es not allow for control over representativenes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justified if less risky methods are unavailab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earchers must be very cautious about generalizing when this method is us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might this method be appropria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A032-708F-4B9C-953C-F69CC1BD6FCB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Purposive or Judgmental Sampling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– A type of nonprobability sampling in which the units to be observed are selected on the basis of the researcher’s judgment about which ones will be the most useful or representative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ll subsets of a pop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-group compari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iant c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might this method be appropria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1722-2783-4705-A6A6-64DAB97A5DE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nowball Sampling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– A nonprobability sampling method whereby each person interviewed may be asked to suggest additional people for interview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ften used in field research, special popul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might this method be appropria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E27F-581C-47FA-A538-C568C768B77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Quota Sampling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– A type of nonprobability sampling in which units are selected into a sample on the basis of pre-specified characteristics, so that the total sample will have the same distribution of characteristics assumed to exist in the population being studied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probability sampling, but has problems: quota frame must be accurate, selection of sample elements may be bi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might this method be appropria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8E7A-C2C2-4B62-BEB8-2D8046F6A47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6:02Z</dcterms:modified>
  <cp:revision>27</cp:revision>
  <dc:subject/>
  <dc:title>Slide 1</dc:title>
</cp:coreProperties>
</file>