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5DF6-2B22-451D-B1A5-1E8647BF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1314-5133-4BEF-8F94-8ECA4D40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7C05-F90E-433D-A1D3-FD1B7D74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1CA7-3683-4EA3-9AC1-3D0B82B2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A111-BF3B-4FEB-AFFC-025D97A2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042B-4CB3-47F9-B8AA-28032668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9F66-87EF-4A7F-B4F3-C8971A9F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6DFC-F0CC-4334-9EA7-34109885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07F0-9188-473D-B1B4-E4E3C51B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D135-DABA-4333-AC1F-DF4D4807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7133-7B08-43E1-B200-147A1264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C7F2-5C73-4D96-9F36-EEFE8444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5648-3DE7-4855-97B5-61CDF265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0561-1E66-4B59-BDED-80E50F98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AD4D-18F2-4463-89F6-2D803A7D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720E-D348-436C-9E0D-ADB27E05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36F3-0183-417B-BAEC-6F083E05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40430-7FD5-4C15-AC1F-FC10677C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AD7B2-604F-4C59-A8E0-FDA0E0E9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3160B-1F2B-4BC9-8B3C-EA33CCFB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A2B11-A11C-4D7B-BB8E-17900463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4C070-1452-42AB-884F-2F648E95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4DC-2363-4B72-9AB0-E225400E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46650-522E-4622-8190-90634716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5F7DD-68E8-4D0C-8A1D-13921103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CE23D-C698-4759-BA35-B90ABEDD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A7D93-76FA-4C92-9C8F-4387C4B5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C25AC-BAAB-499A-BE1E-881855BB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EF1BF-0CBB-4802-95E3-75B14E1A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1AE71-A7B1-4D33-BF43-DD40C673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B58849-A46F-43A3-9403-632B45A7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D39DD3-90D5-4684-BC33-D1A35860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73B1A2-9AAD-43EC-8A97-AF2D33ED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D5E0-A825-48BD-920A-B4507A13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CA34B6-BFAC-4D51-A8A8-650E5184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108D38-EBD1-4CAC-809F-84434D15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B213B5-9459-4654-9970-E21A6FFD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5076A0-ECD5-4770-A345-EF426631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929BF9-C201-47F3-96F4-BCA1BFA9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6DD3EF-83C3-4602-83D9-35CB0B8D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79976A-282C-4404-839A-DEF84585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5F4350-154A-4324-A5DE-BB237098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A28375-126D-4AAE-ADEA-646C9460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AF2DE1-B05E-4F9A-8CFD-93737249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3A25-C4A8-4830-A8C2-FA82A482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5D706F-FA50-46F3-9E14-69D89AFF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E3CC9C-E6F1-497F-ADE7-106EE3B6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65E727-DB64-4DF5-BF94-54903010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D62688-3576-4010-A42E-CBE4783F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36205F-590F-4A26-905F-11455F47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E3708-C277-426C-9127-83180C31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900A6D-1557-4FEF-B030-ABF3F4FE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07E46-0AF8-49F6-AF3D-812DEF6D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E4FD22-88F8-40C1-983A-AB315182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48DB84-2999-44FB-830B-3CED9EF8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AD28-946F-4F43-895D-2EBC61F1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F6015-8511-4759-9F8E-879EC197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4E456-E2CA-4F3F-A746-6935B69D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00DAD-3D15-44A0-8335-EA565D49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CBD34-0F89-451A-84B4-EBE245D3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273FB-E9B6-4212-B9A1-994A8A65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5BBC0-7493-4054-9B21-D25A79B9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BAFD0-6E98-4B6F-93D8-916DAB41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AC2E8-0386-4E2D-9127-307E45D8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1E16C-C833-4ECD-BAE9-561534C7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855F5-800E-427E-A29D-3CDC887F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754-F1EA-4F19-94EC-6DBFAA58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CB8B2-D18D-48A7-A857-2F1BA546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0016F-03C1-4100-B6E5-DDA1AA3D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C3A66-D96E-4552-8288-604CF66E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CB064E-B5CA-49BE-B0B6-D25C3EB8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371C2C-5FE8-47AF-A67D-49333DDE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BD8DA8-3B7E-4E00-9A99-BEDE7394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D3C321-B047-4CF9-8EF9-492B290F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FE74EE-EF34-4185-B68F-C6FA8156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4AEB36-B671-4402-A04D-ACC088C3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B60CE6-2C9B-4B86-BCA5-962BFF6B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179A-6B73-4701-8794-2B6FD67A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6B8C2A-A427-4E1F-98F1-1CDD7BAE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CDABF8-8DDE-4CD0-87D1-D3263029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56391F-36CE-4FE6-82EF-B6C201C9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5554E2-7AC1-4FF8-B26C-831C3C2D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F2436D-DE84-41C0-98B5-59250879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6BF8A-F0FB-41DF-9C3E-02E52C4C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1847F-B9F2-4348-A3D5-007C5B66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E17AC-6B08-4255-97E2-1319A06C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9BE86-358E-4DF1-AE78-73D3787F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B9523-294C-4085-9D94-B29A78A1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38A1-863E-4AD4-B98F-846B4628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29D2A-EBD2-4C11-B9D8-DBC5408D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B3A14-38DD-4192-BDDC-C4526543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049CE-52C6-473A-85CC-0AD3A091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65074-EDC5-49A5-9623-C1720363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0AEF9-2D0B-422E-8759-81FF0DA1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66248-BB8A-4F46-85E6-3C5BFD6C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4526D-F16F-42BD-9276-F5FC57E1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B491-AE2A-4507-94EA-DF95123EF91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2867-F1AC-4EE0-8AF9-242C11CE5DFC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E451-B854-4F71-AC78-288D75274750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1C39-9DDF-4751-82FC-814F0274583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1BF4-52B0-49F6-99CF-A8AF8420D88D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4016-55D5-4346-A782-C5FBBCC0545C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E140-3E91-41DE-A616-B881F808D6B7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DE8C-CCE0-4BB9-AA41-11EBC743C2A2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6, INDEXES, SCALES, AND TYPOLOGIES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Index Construc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em Sel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ation of Empirical Relationshi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Scor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ndling Missing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Valid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em Sel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ce Valid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dimension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l or Spec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ation of Empirical Relationshi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empirical relationship is established when respondents’ answers to one question help us predict how they will answer othe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variate Relationships – A relationship between two vari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ltivariate Relationships – A relationship between more than two vari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6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405756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s 6.3 &amp; 6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4521240" cy="2514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297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Scor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ermine the desirable range of the index scor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656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licting desire for a range of measurement in the index and an adequate number of cases at each point in the index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ermine whether to give each item in the index equal or different weigh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656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tandard: items should be weighted equally unless there are compelling reasons for differential weighting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Handling Missing Dat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re are few cases with missing data, you may decide to exclude them from the construction of the index and analy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 missing data as one of the available respon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the missing data to interpret their mean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issing data the middle value, or the mean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values to the proportion of variables sco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ndex Validati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em Analysis – An assessment of whether each of the items included in a composite measure makes an independent contribution or merely duplicates the contribution of other items in the measu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rnal Validation – The process of testing the validity of a measure, such as an index or score, by examining its relationship to other, presumed indicators of the same vari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d Index versus Bad Validato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Scale Construc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gardus Social Distance Scale – A measurement technique for determining the willingness of people to participate in social relations – of varying degrees of closeness – with other kinds of peo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urstone Scales – A type of composite measure constructed in accord with the weights assigned by “judges” to various indicators of some variab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es versus Sc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Constr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ale Constr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olog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Likert Scaling – A type of composite measure, designed to improve the levels of measurement in social research through the use of standardized response categories to determine the relative intensity of different item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emantic Differential – A questionnaire format in which the respondent is asked to rate something in terms of two, opposite adjectiv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6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609480" y="1638360"/>
            <a:ext cx="82742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uttman Scaling – A type of composite measure used to summarize several discrete observations and to represent some more-general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ypologie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ology – The classification of observations in terms of their attributes on two or more variab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In order to achieve broad coverage of various dimensions of a concept, researchers need to mak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ngle observ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eld research observ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ltiple observ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order to achieve broad coverage of various dimensions of a concept, researchers need to make multiple observa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Which of the following are common characteristics shared by both indexes and scal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are ordinal meas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rank-order units in terms of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fic variab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are composite meas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llowing are common characteristics shared by both indexes and scales:  both are ordinal measure, both rank-order units in terms of specific variables, and both are composite meas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Which of the following represent steps in the construction of an index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lecting possible ite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ing empirical relationshi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oring the index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s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y do quantitative researchers use composite measur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clear, unambiguous single indica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ordinal mea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ficient for data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llowing represent steps in the construction of an index: selecting possible items, examining empirical relationships and scoring the index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An empirical relationship is established when respondents’ answers to one question help u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serve a statistical correlation between the two variab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termine their current level of toleranc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ain away the observed corre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dict how they will answer other ques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 empirical relationship is established when respondents’ answers to one question help us predict how they will answer other ques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Which of these represents a questionnaire format in which the respondent is asked to rate something in terms of two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oss-sectio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kert sc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mantic differenti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mantic differential represents a questionnaire format in which the respondent is asked to rate something in terms of tw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We construct a/n _____ simply by accumulating scores assigned to individual attribut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a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 construct an index simply by accumulating scores assigned to individual attribut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_____ is the process of testing the validity of a measure by examining its relationship to other indicators of the same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etical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nal valid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ernal valid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ernal validation is the process of testing the validity of a measure by examining its relationship to other indicators of the same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Index versus Scal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monal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th scales and indexes are ordinal measures of vari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th scales and indexes are composite measures of variables – measurements based on more than one data it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fferen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ex – A type of composite measure that summarizes and rank-orders several specific observations and represents some more general dimens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ale – A type of composite measure composed of several items that have a logical or empirical structure among th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6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rcRect l="0" t="0" r="0" b="64836"/>
          <a:stretch/>
        </p:blipFill>
        <p:spPr>
          <a:xfrm>
            <a:off x="304920" y="2362320"/>
            <a:ext cx="8499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6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rcRect l="0" t="38098" r="0" b="0"/>
          <a:stretch/>
        </p:blipFill>
        <p:spPr>
          <a:xfrm>
            <a:off x="592200" y="1600200"/>
            <a:ext cx="8367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ales are generally superior to indexes, because scales take into consideration the intensity with which different items reflects that variable being measur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sconcep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ther the combination of several data items results in a scale almost always depends on the particular sample of observations under stud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use of specific scaling techniques does not ensure the creation of a sca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5:06Z</dcterms:modified>
  <cp:revision>11</cp:revision>
  <dc:subject/>
  <dc:title>Slide 1</dc:title>
</cp:coreProperties>
</file>