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BE5-8274-46F9-AFAF-AFCD5E17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FCF-E59E-496C-BC98-66C6AD9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61D-BA4E-4A21-9027-A7E792AC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C6E-D251-4BF4-8EE9-909B8242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B693-00EC-4398-AF9F-516D36F3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8562-D296-4C2B-8248-9E11DFF5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499B-190C-4EFA-B668-4DCE8A2B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2E12-14D2-414A-A5E7-1A11A856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9DAE-2D9F-41DF-931B-624F3A6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8BAD-D5B7-45D1-AED9-E2F33DB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AA93-5906-405C-87CE-2EBB62D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9B4-C0AB-4DD3-BADA-653BED4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0CE5-559D-4DDF-948D-BBB4656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3B6-5DE3-42AF-A6DB-58F8F0B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535F-30D5-4160-9388-3A37B6B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2C8E-E626-4C3E-B11E-7AE89DA5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F6A8-BF75-494D-802F-9ADA70AB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DBB3C-DFF7-414F-8824-6E3C698D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F9F13-595E-4735-AEF8-E992192E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1615A-2CE7-4A1C-98E6-2160AF4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0186B-1E97-469C-AA74-5FDAE7D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D1474-1A74-47EC-AA73-2DA3828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B2D-D66D-4B55-9E1B-058F542E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9CB02-8DE6-42A8-9BCC-9E312A1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F09FD-47C8-448D-ADCA-6202956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092FD-62E0-40E7-A1B6-B84D30A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A6168-411F-4F01-8F52-50FC036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4CC7A-EAF5-4537-8189-1B9555F8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FBB97-503B-4BA9-8B3B-84FD5C8A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098BF-9D62-48F2-AB76-AA4C58FC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74CA1-E7C2-4C38-A38B-DE4C44A8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9B75A-F814-44CB-826B-996C72E4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62FA2-8397-4246-BE14-E227D5DB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66C-6B1A-441F-8E59-799E3CE3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4C045-74A9-410B-8933-1AB0693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EED84-C454-4087-B96F-A8AAA29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D4E2B-EB06-41ED-9E36-A785C3B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3BE41-08EE-4736-BA40-49C63174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CD44B-B8D7-44B6-83CC-4B854CE1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5A034-2AA9-4358-8117-ACBACD0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BC32D-B6F1-4891-A630-2C875900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C486B-E743-40B2-97C5-6484DAAF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6A755-E085-4853-A1FE-B355278C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183C1-EE4B-4DB9-A6E0-94AE8EF9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318-A3BA-48B8-89E1-E4379E28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DFC3E-66BF-4D92-9F6A-B277E37E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1BF22-7B6A-41F4-96A3-86D957B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F223C-0438-4EC1-A70F-35646EC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C583C-E389-4B2F-AA21-73627FB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41B1A-3991-4209-8A03-89B5AB19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D4E83-8FE1-41E2-81CC-D94CA0E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605D4-5F76-4C61-9027-1D23D50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31F1C-836C-4322-A8EB-D08CE67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DC1E9-02BF-4A8C-B4B6-61E39F2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22998-7270-40B8-B3E2-8BB7EEB9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2BC-D2B8-4295-8328-724E4BA1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25859-EB12-4C3F-AD63-02BDF3BD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B9F3-B703-45DF-9532-7CE3B71E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07C7-789A-48FB-A9B8-57CA781C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618A0-8072-4C19-A4BC-293CE85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446C-F256-4836-8C1B-635F4172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1C190-6064-4014-B5E1-2AB02B6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0437-BB0F-4309-83BD-2CC3C25A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2138E-5A97-46FF-AADD-68C8F06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E47A-877B-46DC-992A-081B0BE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14E5-0D1C-429C-840C-C8E2052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64B-9291-40BD-812C-57BA295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F4AB-1AB7-45B8-9DEA-CB10AD1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B5A0-E2F4-4BFE-98ED-2F3C7684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79F1-5BF3-4184-92DB-2B25DDF4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DD1F9-2CA8-40C5-8937-21579104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6306F-58A5-4E16-810A-074E9A9D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9F27F-E91E-40B0-B4D2-96E6DBFB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92FCD-E142-4EFC-86E7-01F739E7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170FF-6EBC-4996-9321-6BF8DACB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88148-9B90-4BD4-AA9A-69E8EE89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3B892-D819-4C5B-84D2-942451E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EE1-57CA-48AC-8CC2-61D89526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F0833-7DEF-4DCD-AF25-9969107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98661-CD83-44B3-B335-17E6BA2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38050-4EDE-4B00-915C-DAD0CFBD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3A1FF-F497-4E16-BE2C-5F811451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A1040-B776-4C47-9531-E391B477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0506F-A49A-48B1-BD6C-A3AFE699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42838-C2E2-4982-87AE-AEF06AC8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5AB5E-4D6D-438B-A2BB-E147066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545F-CD75-49F6-B086-032DF862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BF569-DB22-4F18-983B-09BB79FA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0A7-D634-4D5F-9EDB-6122638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54EF-CC7D-4364-A0AE-D045C8D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DCC71-C8B7-44E5-95B2-7421B498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DE9B-0DEB-4197-8D3D-5753EC2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CB422-1F36-47A6-96F2-B9C094C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5C483-B9A8-4A9D-A224-F9D09528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0D1C-C756-4FB5-9E8F-B75CD5CD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1E356-DB7A-4294-9D7E-A588285A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B81C-6921-4BE3-A01E-B5F5D56BB90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0E2A-4650-4DF1-B69C-B1EDE0E85BC3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115D-EC83-4C5E-8A33-7417B175914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B68-D268-4E21-9D70-9A7D464C02E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EE1A-BA59-4373-BF3F-B5034236B50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4911-79B9-4EE3-A756-260E7967644B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C17E-E892-44CA-9617-3E62759EDD41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1167-905A-4173-8CDD-2386334BA0B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6, INDEXES, SCALES, AND TYPOLOGIES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dimens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or Spec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variate Relationships – A relationship betwee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variate Relationships – A relationship between more tha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0575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s 6.3 &amp; 6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52124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the desirable range of the index sc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licting desire for a range of measurement in the index and an adequate number of cases at each point in the index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whether to give each item in the index equal or different weigh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: items should be weighted equally unless there are compelling reasons for differential weight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are few cases with missing data, you may decide to exclude them from the construction of the index and analy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 missing data as one of the available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he missing data to interpret their mea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issing data the middle value, or the mean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values to the proportion of variables sco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 Analysis – An assessment of whether each of the items included in a composite measure makes an independent contribution or merely duplicates the contribution of other items in the meas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Validation – The process of testing the validity of a measure, such as an index or score, by examining its relationship to other, presumed indicators of the same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d Index versus Bad Validato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cal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gardus Social Distance Scale – A measurement technique for determining the willingness of people to participate in social relations – of varying degrees of closeness – with other kinds of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rstone Scales – A type of composite measure constructed in accord with the weights assigned by “judges” to various indicators of som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es versus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ikert Scaling – A type of composite measure, designed to improve the levels of measurement in social research through the use of standardized response categories to determine the relative intensity of different item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mantic Differential – A questionnaire format in which the respondent is asked to rate something in terms of two, opposite adjectiv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09480" y="1638360"/>
            <a:ext cx="8274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ttman Scaling – A type of composite measure used to summarize several discrete observations and to represent some more-general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ologi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y – The classification of observations in terms of their attributes on two or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order to achieve broad coverage of various dimensions of a concept, researchers need to mak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rder to achieve broad coverage of various dimensions of a concept, researchers need to make multiple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are common characteristics shared by both indexes and sca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ordinal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rank-order units in terms of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composit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common characteristics shared by both indexes and scales:  both are ordinal measure, both rank-order units in terms of specific variables, and both are composite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represent steps in the construction of an index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possibl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ing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oring the 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do quantitative researchers use composite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lear, unambiguous singl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ordinal mea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for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represent steps in the construction of an index: selecting possible items, examining empirical relationships and scoring the index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n empirical relationship is established when respondents’ answers to one question help u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e a statistical correlation between the two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their current level of toler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se represents a questionnaire format in which the respondent is asked to rate something in terms of tw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kert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 represents a questionnaire format in which the respondent is asked to rate something in terms of tw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We construct a/n _____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onstruct an index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versus Sca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ordinal measures of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composite measures of variables – measurements based on more than one data i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x – A type of composite measure that summarizes and rank-orders several specific observations and represents some more gen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e – A type of composite measure composed of several items that have a logical or empirical structure among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0" r="0" b="64836"/>
          <a:stretch/>
        </p:blipFill>
        <p:spPr>
          <a:xfrm>
            <a:off x="304920" y="2362320"/>
            <a:ext cx="849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0" t="38098" r="0" b="0"/>
          <a:stretch/>
        </p:blipFill>
        <p:spPr>
          <a:xfrm>
            <a:off x="592200" y="1600200"/>
            <a:ext cx="83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s are generally superior to indexes, because scales take into consideration the intensity with which different items reflects that variable being measur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s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the combination of several data items results in a scale almost always depends on the particular sample of observations under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se of specific scaling techniques does not ensure the creation of a sc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5:06Z</dcterms:modified>
  <cp:revision>11</cp:revision>
  <dc:subject/>
  <dc:title>Slide 1</dc:title>
</cp:coreProperties>
</file>