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  <p:sldId id="303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slide" Target="slides/slide48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d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8B1A6-96D2-4C0F-AF98-F35DDFFBB0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E2A76-B0E6-4452-8D5C-1416D70676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D873-9E08-47AC-ADF7-310ADB50D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8A4E-FA16-4A81-9A56-F60897CAB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8133-D851-4092-8661-3FFC76345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B6D4-5E03-4A36-A298-CCE44A1DC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C03AE-9350-4A43-86A2-0D63B2479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41565-1BF7-4164-8203-099E565D6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2D5F5-00D8-4E75-8A9F-B9BD4459C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4679A-888F-4B61-9801-FE0543836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55DB8-706A-4491-926B-FF27B0087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CA876-AED7-4485-8FA3-DCD308139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C7F48-916C-4662-9ACE-79A7C2071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B86A-B0DE-48D3-ACE0-8598A48DD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CF44A-DF32-4CE9-B301-495154DC1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2E509-779E-4D6F-9D71-DF8E439F2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BFDE9-05C6-4352-9626-BC6214E0C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C8920-8AB5-4E4D-91FC-A4453A647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63D7A-2FEF-419F-A442-93F4FDBCE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337AF7-6CCD-4890-B620-1FE98D792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A666FA-FE4E-4CEB-A552-D2978E09B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2B4741-601F-4297-B70E-090E05461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830CB6-2450-44D5-BDB3-A378A5EAB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3A4DA5-5F41-46C5-B939-6B442C40C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AFC4-8678-42E9-BB20-44BB8990D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40B39B-49A7-4686-9E53-334DB0549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9A9C53-05E2-49C5-B370-CF281D0E0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A513A1-E04A-4776-835D-DEFBBA3D9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188C0A-7692-4BDB-85ED-E663FCD5F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D84327-DA95-45AC-899A-9515367EB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13938F-A7E7-44D4-A397-0A041BF3B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F2FB4A-37E8-40CF-8767-744747CC4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A40AE5-3D73-42F0-AA85-A2092457D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BE7760-B889-413D-A5D4-3BA26CBAA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16038A-8D55-45C2-808A-77C122D9E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16B4-B725-43A5-9144-BF3570883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A5526D-14E3-4C7C-8F6A-4BDB1BD8C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EC90A8-D049-4B6A-BC18-CD99D1636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1EDC34-C539-4C07-9904-008A201CD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7255DA-6604-423B-9847-F9693EDEE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08A020-ABC4-42B2-B641-A5B837906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2F8C5E-337B-4108-87BF-97D6B4EE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3B4509-7978-45BC-A5AC-7AC9406D3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19248B-E898-4911-BF3D-77A4CC2DA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A7F3D5-4D68-4D47-92E1-E9BF221EA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B210B3-BD2B-45D8-8558-B0610AB72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FA92-D4C4-4B77-8D91-D8D870005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23BF9B-FCC7-4029-9ED4-94AB3785F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8B31BA-8553-46C8-B613-595C05C3B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4F4C66-8802-4D8E-8F9C-D962D8E7D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D3276C-59D6-4BEA-A9F5-F36D5D820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BC49DA-1FE4-47DC-9C71-375B6A758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084916-4AD7-4413-8F9A-4F7E7FD16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D9B740-7ADC-4198-8ACB-AD97F52D8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819DEF-9890-4E5D-8E0C-ED9B3F553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0FB583-8A2F-44B6-AC3C-D4EC06598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04C882-AAC8-4AAF-A34C-165BA1F20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9930-0BC0-40F8-A8DB-5EA6E85E2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D299DA-D910-4BEE-AA7B-E597AE81E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4B5098-2F31-4550-8D8D-D469A5374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AB2E6F-E9E0-41A4-9685-552254A7E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214F3A-EB5F-4644-A631-1481FD03E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7B01E4-E20A-4BB0-A717-27A001960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772D71-A453-4BB7-AB88-4A652B418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547362-9108-40AE-AEF4-A88334199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0D2217-28C7-43CA-A10A-48B1BFC7B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9EDCAE-E8C7-4F3B-83B9-E1C4D5EDD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1C4748-9707-4DA1-80BD-5B637671D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A6F6-E28B-49E8-991C-AE9A81E49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26A9B7-F768-4F92-8D81-843DD0A28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E00A61-4A81-4C6B-9C78-BA26880FD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FC93C6-8A23-4255-BD4A-A47007719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5F3B9F-385A-4B27-99A2-5C5EEECEE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22E99B-4D5A-4647-A3CE-5D488CB83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82A49D-7234-43D4-A926-D97A4DACE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731A8F-F17B-438F-9D38-3412E198C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F6D284-FF9D-4BC4-8A07-CCAD86394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416314-96AB-4452-8E76-A4E365F21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6739E2-155B-4D13-AC28-699051273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5FD8-36ED-40F4-BA2B-28DE406DA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7B151C-417D-4CD6-B37E-3B85ED33F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B090DA-6A67-4E64-858D-78C230FD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4DB923-E9A6-4793-8892-DBCEA2609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F52C8B-E3B3-4DF4-ADFF-663095B4E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48DDCA-DF13-49AE-96C0-B741289E8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EB55CE-F7C3-4EC6-859D-AA5414057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0BAAA3-415C-46D0-A437-9C5C7715E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75A298-A004-402C-BFB9-3B9F1F5EE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4AD68B-4BA9-4C97-93B4-BCD54B618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EBFDCB-FA6C-4548-9990-9949A34D3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9698-268E-4CF5-AE28-EFFAB4CD7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221929-0DB4-4682-B18A-D20F17E28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0CEF80-9715-4BB2-9FAE-093DC6739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C8D273-1C7C-4B88-8DAA-0EC2F0DC3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E098DC-AA64-4CD2-8DE8-A2AC73F7F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5CFD37-0A6B-4185-815F-710BA8FE6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1381FD-5815-42AC-8F2B-135DF3963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71DB1F-8037-4854-85A7-0230E771C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7DFBA-6820-472F-A5EE-08A197D19CAA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d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d4d4d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B663D-2E69-4205-A5FB-65AAC6A639F7}" type="slidenum">
              <a:rPr b="1" lang="en-US" sz="1400" spc="-1" strike="noStrike">
                <a:solidFill>
                  <a:srgbClr val="d4d4d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E7177-44C7-46C7-B689-FDD7F75CC495}" type="slidenum">
              <a:rPr b="1" lang="en-US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F3FDB-57B4-4806-B7CC-159881615EEF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84F71-01DA-499A-AF44-090E24BB956E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760D8-D315-43B2-9699-53A92A7C68A0}" type="slidenum">
              <a:rPr b="1" lang="en-US" sz="1400" spc="-1" strike="noStrike">
                <a:solidFill>
                  <a:srgbClr val="5a6378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8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0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01AC6-D1A6-4257-93B1-65C264CE3EBF}" type="slidenum">
              <a:rPr b="1" lang="en-US" sz="2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6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7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4E62A-2AA8-41BB-BC64-F5104BA1F4FC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4d4d6"/>
                </a:solidFill>
                <a:latin typeface="Verdana"/>
              </a:rPr>
              <a:t>CHAPTER 5, CONCEPTUALIZATION, OPERATIONALIZATION, AND MEASUREMENT</a:t>
            </a:r>
            <a:endParaRPr b="0" lang="en-US" sz="40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Interchangeability of Indicator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several different indicators all represent the same concept, all of them will behave the same way the concept would behave if it were real and could be observe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Real, Nominal, and Operational Definitions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ecification – The process through which concepts are made more specifi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nominal definition is one that is simply assigned to a term without any claim that the definition represents a “real” entit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operational definition specifies precisely how a concept will be measured – that is, the operations we will perfor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reating Conceptual Ord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ceptual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minal Defini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perational Defini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al World Measur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ceptualization – Practi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omi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Definitions in Descriptive and Explanatory Studies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finitions are more problematic for descriptive research than for explanatory research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Operationalization Choices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ceptualization is the refinement and specification of abstract concept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perationalization is the development of specific research procedures that will result in empirical observations representing those concepts in the real worl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ange of Vari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o what extent is the research willing to combine attributes in fairly gross categorie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ariation between the Extrem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o what degree is the operationalization of variables precis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imens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fining Variables and Attribut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 attribute is a characteristic or quality of something (ex: female, old, student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 variable is a logical set of attributes (ex: gender, age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very variable must have two important qualiti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050840" indent="-4572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attributes composing it should be exhaustive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050840" indent="-4572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ttributes must be mutually exclusive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evels of Measuremen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min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rdin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terv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ati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evels of Measurement – Nomina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ariables who attributes have only the characteristics of exhaustiveness and mutually exclusivenes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amples: gender, religious affiliation, college major, hair color, birthplace, national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hapter Outline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easuring Anything That Exis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ceptualiz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finitions in Descriptive and Explanatory Stud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perationalization Choic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riteria of Measurement Qual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Ethics of Measuremen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Quick Quiz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evels of Measurement – Ordina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ariables with attributes we can logically rank orde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amples: socioeconomic status, level of conflict, prejudice, conservativeness, hardn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evels of Measurement – Interva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ariables for which the actual distance between attributes has mean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amples: temperature, (Fehrenheit) IQ sco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evels of Measurement – Ratio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ariables whose attributes meet the requirements of a interval measure, and has a true zero poin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amples: temperature (Kelvin), age, length of time, number of organizations, number of groups, number of As received in colle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5.1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3" name="Picture 2" descr=""/>
          <p:cNvPicPr/>
          <p:nvPr/>
        </p:nvPicPr>
        <p:blipFill>
          <a:blip r:embed="rId1"/>
          <a:stretch/>
        </p:blipFill>
        <p:spPr>
          <a:xfrm>
            <a:off x="1066680" y="1219320"/>
            <a:ext cx="64836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mplications of Levels of Measuremen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alyses require minimum levels of measur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me variables can be treated as multiple levels of measur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ngle or Multiple Indicator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Criteria of Measurement Quality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ecision and Accurac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liabil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alid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ecision and Accurac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cise measures are superior to imprecise on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cision is not the same as accurac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liability – That quality of measurement method that suggests that the same data would have been collected each time in repeated observations of the same phenomen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liability is not the same as accurac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est-Retest Metho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o make the same measurement more than once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plit-Half Metho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Multiple sets of randomly assigned variables should produce the same classification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stablished Measu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liability of Research Work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Measuring Anything that Exists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easurement – Careful, deliberate observations of the real world for the purpose of describing objects and events in terms of the attributes composing the variabl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Validity – a term describing a measure that accurately reflects the concept it is intended to measure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ace Validity – That quality of an indicator that makes it seem a reasonable measure of some variabl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riterion-Related Validity – The degree to which a measure related to some external criterio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struct Validity – The degree to which a measure relates to other variables as expected within a system of theoretical relationship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tent Validity – The degree to which a measure coves the range of meanings included within a concep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5.2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0" name="Picture 2" descr=""/>
          <p:cNvPicPr/>
          <p:nvPr/>
        </p:nvPicPr>
        <p:blipFill>
          <a:blip r:embed="rId1"/>
          <a:stretch/>
        </p:blipFill>
        <p:spPr>
          <a:xfrm>
            <a:off x="111240" y="1828800"/>
            <a:ext cx="90327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d6"/>
                </a:solidFill>
                <a:latin typeface="Verdana"/>
              </a:rPr>
              <a:t>QUICK QUIZ</a:t>
            </a:r>
            <a:endParaRPr b="0" lang="en-US" sz="4400" spc="-1" strike="noStrike">
              <a:solidFill>
                <a:srgbClr val="d4d4d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. It is truly possible to measure the stuff of lif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ru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als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t is truly possible to measure the stuff of lif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2. _____ refer to mental imag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erspectiv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or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cep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ethod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C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ceptions refer to mental imag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3. The mental processes whereby fuzzy and imprecise notions are made more specific and precise is called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struc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ific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ceptualiz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perationaliz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C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mental processes whereby fuzzy and imprecise notions are made more specific and precise is called conceptualizat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4. Which of the following are examples of nominal measure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gend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ligious affili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olitical party affili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irthpla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ll of the abo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ow would you </a:t>
            </a:r>
            <a:r>
              <a:rPr b="0" i="1" lang="en-US" sz="2900" spc="-1" strike="noStrike">
                <a:solidFill>
                  <a:srgbClr val="000000"/>
                </a:solidFill>
                <a:latin typeface="Verdana"/>
              </a:rPr>
              <a:t>measure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olitical party affiliation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rade point averag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atisfaction with colleg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ligious affiliation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Gender, religious affiliation, political affiliation, and birthplace are examples of nominal measur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5. _____ is the degree to which a measure covers the range of meanings included within a concep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struct valid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riterion-related valid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ace valid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tent valid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tent validity is the degree to which a measure covers the range of meanings included within a concep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6. In social research, the process of coming to an agreement about what terms mean is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ypothesizing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ceptualiz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ariable determin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perationaliz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B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 social research, the process of coming to an agreement about what terms mean is conceptualizat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7. The _____ of concepts in scientific inquiry depends on nominal and operational definition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pecific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terchangeabil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unction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etwork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specification of concepts in scientific inquiry depends on nominal and operational definition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8. A level of measurement describing a variable whose attributes are rank-ordered and have equal distances between adjacent attributes are _____ measur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atio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terva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mina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rdina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B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 level of measurement describing a variable whose attributes are rank-ordered and have equal distances between adjacent attributes are interval measur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ceptions, Concepts, and Real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ow would you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conceptualiz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prejudice?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compassionate?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ceptualization – The mental process whereby fuzzy and imprecise notions (concepts) are made more specific and precis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cepts as Construc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cepts are constructs derived by mutual agreement from mental imag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ceptions summarize collections of seemingly related observations and experienc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onceptualization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Conceptualization – The process through which we specify what we mean when we use particular terms in research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We cannot meaningfully answer a question without a working agreement about the meaning of the outcome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Conceptualization processes a specific agreed-on meaning for a concept for the purposes of research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dicators and Dimens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dicator – An observation that we choose to consider as a reflection of a variable we wish to stud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imension – A specifiable aspect of a concep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dentify appropriate </a:t>
            </a:r>
            <a:r>
              <a:rPr b="0" i="1" lang="en-US" sz="2900" spc="-1" strike="noStrike">
                <a:solidFill>
                  <a:srgbClr val="000000"/>
                </a:solidFill>
                <a:latin typeface="Verdana"/>
              </a:rPr>
              <a:t>indicators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and </a:t>
            </a:r>
            <a:r>
              <a:rPr b="0" i="1" lang="en-US" sz="2900" spc="-1" strike="noStrike">
                <a:solidFill>
                  <a:srgbClr val="000000"/>
                </a:solidFill>
                <a:latin typeface="Verdana"/>
              </a:rPr>
              <a:t>dimensions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for…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ligious affili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llege succ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olitical activ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over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inge drink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ear of crim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6T17:02:08Z</dcterms:created>
  <dc:creator>AKO</dc:creator>
  <dc:description/>
  <dc:language>en-US</dc:language>
  <cp:lastModifiedBy>carrie tucek</cp:lastModifiedBy>
  <dcterms:modified xsi:type="dcterms:W3CDTF">2016-01-20T05:14:33Z</dcterms:modified>
  <cp:revision>13</cp:revision>
  <dc:subject/>
  <dc:title>Slide 1</dc:title>
</cp:coreProperties>
</file>