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4ABE-7AF1-48B2-9A00-242A06B13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384A-770C-4F1C-BC01-357762382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EDE2-C52E-4659-99AD-2CDB783FB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07F-5156-402E-8A8E-639A6EED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FF5-32FC-4B06-8D26-4AB3DA5B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519-1595-471F-A3E6-C4C667B2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0D8-9A66-41B4-A3FF-A6ECA134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A59F-C4E0-4338-9462-E808B9E8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1BE-4AC4-486B-9921-B97F123C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5B50-7411-4798-BBAC-8C19B2DF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B562-AB6B-4474-8552-509B7F0A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0BFF-D2A7-42E5-8393-FA2448C8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AAA-AB24-4BD3-BDD4-9928D1BD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F534-F3B7-417C-A9B2-3EC074E0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1D4-2927-416E-9912-3CFB3C49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5947-E475-4068-89D4-F04F688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D296-DE46-4711-81C9-58282D2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3507-5052-4E51-8B40-7EF718FF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EA26-FE7E-4724-B880-A77834D9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2911-9A13-4CFE-AA20-16C97B38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78A27-C2CC-4634-A597-89D35D7B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1C962-EB8A-482B-B13F-947F85C7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AEE64-AEDE-4132-B4A9-114B1CD8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1D6EE-3ECC-4178-8019-59D459D5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D2002-9878-4DD1-AD57-8F05928B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70C-59FF-4097-8864-5A3D643A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6AFFA-6D95-43B1-890E-1D153D7B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668AC-43BA-434D-9190-775173F6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EB5E7-35B8-4A6A-92E0-89359B5A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A847B-0FBB-4B30-B3AB-9976CA72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540BB-30C0-4F4B-8C1E-DF7B3B3B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2BF24-352B-4904-9968-E92E04A2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49130-8D62-4C25-B366-78653792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F7359-588C-446B-9425-78EBFAEE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74758-3601-47C0-BB08-6F71532F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7A5D1-C83A-4CCB-8A70-9BC21375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092-7AA9-4CBB-98F7-0F5DB7D6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A8F064-92AA-4719-B496-FF937029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C1D73-8C6D-4BAE-9F0B-AB7232FF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6FDD9-CD86-4365-A2C0-C57D4409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01B661-2E11-496C-8381-79FA62A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47584-0FD8-4801-A42F-B1580D90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474EB-3D6B-4870-9EF3-A5813B93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5AA50-9D42-4BF1-A327-43E72D27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1B54F-324F-4F87-A4BB-43DA4CBC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2C15B-5D6B-4E2C-9C50-46F7E4AE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8ACBF-8A9C-45C4-B62A-2AAB81E7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AEA-F2C4-4681-8E06-A12F6CE9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55A17-E8E8-4CC3-8DFC-48F05F50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B5CAD-7F02-4E28-A3D0-1C7E696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0B586-7827-49A9-B396-BCF3753A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3BE9C-E290-4363-84B7-A0B7066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F4663-BB00-4087-99FC-FA69A66E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CCE65-4AE3-4ADE-9914-96B991A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AEE8D-1471-4C5E-8E7E-7C77A84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D4202-82F9-4A14-871D-21FF0E2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E5151-34C4-45CD-975A-F30DF9BF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56245-2598-479A-9D3D-04D55FE6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DC3-EDF2-4332-8327-E56F1E19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A3EFA-EB28-4883-BE18-0DFDF450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68A21-1B66-47CD-966C-9F40B780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475E-E82E-4123-9998-FFE6CBEF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C793D-FFB3-4E4A-9E06-8AA900ED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B41CE-C0D9-44E8-A901-2BD5CFE0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1ED5B-9F28-4C93-AB29-8CE0938F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776BA-CA8E-4C17-BEEB-92E978E4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739B0-7356-4773-9C6A-E91E00C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78E83-BA97-4616-A3F0-1E65147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84537-9197-4490-859F-8769D4C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7C8-CBF1-474A-9AA0-4B81F5D7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FFEF0-FCF3-4012-A3B1-08AA907F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891E6-BD34-404C-B98C-B96261CC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5B98F-AD67-409D-8D58-158AC046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C82BB-4AEA-4D59-8A87-2191A9F4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C7CB9-D843-4559-BDFC-09675095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5DA52-F49A-4D38-AB35-EEE2730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E727A-4F95-40B1-BB71-035703BA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01089-135D-44C2-AA0F-BDE4EBD8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236DA-112E-47F0-AFED-255C9C98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321F3-D1F0-4C06-A16F-1D8BE5F7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5B9-0F40-4CFE-A7B6-5A57A14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CF41D-44ED-4E6D-A904-85A8BC79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FDA54-828F-4BDB-AFF8-500E258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6BBF4-B711-48B2-9437-1D6FBBD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18985-60C4-4822-BD4A-E7C9950E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08FAC-DDCD-4C0B-BE8C-CAF71AAE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3125-FB10-441A-B060-01A425F8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362FC-74DF-4317-A178-62EA89D4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57134-AEFD-40FC-9C64-C946D13B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2C896-41F5-41FB-B241-D6DE61D9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FE9B7-2414-4512-8301-5B4BFE80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0A2-96E9-4F5C-A260-EB0C0D02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54551-2536-4B79-9848-1D256E7B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06AFD-0F32-4A13-B9E7-FD22682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423FD-C5A2-472A-AB06-5A4C515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0C5F9-43EF-4527-9998-9D41FBC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D1DD2-E214-488B-948F-D34B4B92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5C172-75C1-4DE0-9B6D-75CFE408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995DE-1235-4202-B9B4-2E2D414B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7D1B-9015-4B07-9A7B-02B189AE8BE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0637-43BB-4824-88BF-A452E0272C8E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35FB-D569-4D1C-8020-1E2755D48451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AA2F-361A-4CA4-8B8C-D280B6F9566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E05A-E63B-4F51-9402-BB5249A7028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02F8-567D-493C-9F51-C7BEC8CF933E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2E63-541A-4278-B0B4-6B8164063B22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D205-A9A4-42EF-A3B6-CFC35B957E6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4, RESEARCH DESIGN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Causal Analysis and Hypothesis Tes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ypotheses are not required in nomothetic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a hypothesi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variables you think are relat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measurement of variab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ypothesize correlation, strength of relationship, statistical significan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tests for spuriousnes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 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 Cau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al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jority of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Necessary and Sufficient Caus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 must be present for the effect to follow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, if present, guarantees the effect in ques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st satisfying outcomes in research include both necessary and sufficient caus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52280" y="1616040"/>
            <a:ext cx="8763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577880" y="1600200"/>
            <a:ext cx="6042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nits of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 versus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ommon unit of analysis for social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, voters, parents, children, Cathol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ng members, families, married couples, friendship grou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porations, social organizations, colle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calls, dances, online chat rooms, figh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57600" y="814320"/>
            <a:ext cx="52578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Artifact – any product of social beings or their behavi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ee Purposes of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ogic of 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and Sufficient Cau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ime Dim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to Design a Research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search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aulty Reasoning about Units of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cological Fallacy – erroneously drawing conclusions about individuals solely from the observations of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tionism – a strict limitation (reduction) of the kinds of concepts to be considered relevant to the phenomenon under stud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obiology – a paradigm based in the view that social behavior can be explained solely in terms of genetic characteristics and behavi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Time Dimens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y – A study based on observations representing a single point in time, a cross section of a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itudinal Study – A study design involving the collection of data at different points in tim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nd Study – A study in which a given characteristic of some population is monitor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hort Study – A study in which some specific subpopulation, or cohort, is studi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nel Study – A study in which data are collected from the same set of people at several points in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876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mparing Types of Longitudinal Studies, Example: Religious Affili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nd Study – looks at shifts in religious affiliation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ort Study – follows shifts in religious affiliation among those born during the Depres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el Study – follows the shifts in religious affiliation among a specific group of people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ing 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can draw approximate conclusions about longitudinal processes even when cross-sectional data are 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y processes over tim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ogical inferen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sk individuals to recall past behavi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hor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Research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oration, Description, or Explan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rces of da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 of analysi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s of time releva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How to Design a Research Projec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3809880" y="779400"/>
            <a:ext cx="49532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fine the purpose of your project – exploratory, descriptive, or explanatory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fy the meanings of each concept you want to stud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lect a research method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termine how you will measure the result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ree Purposes of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satisfy the researcher’s curiosity and desire for better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the feasibility of undertaking a more extensive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evelop the methods to be employed in any subsequent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whom or what t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ect empi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e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your find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Research Proposal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ements of a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lem or Obj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terature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s for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Collection 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itutional Review Boa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Ethics of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Social researchers tend to choose _____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searchers tend to choose individuals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tific inquiry comes down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tific inquiry comes down to making observation and 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 _____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ressio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rrelation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situations and events through scientific obser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Which of these are among the purposes of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, description, and explanation are all among the purposes of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5. What do social researchers means when they say  there is a causal relationship between education and racial toleranc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a statistical correlation between the two variabl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person’s educational level occurred before their current level of toler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no third variable that can explain away the observed corre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researchers say there is a casual relationship between education and racial tolerance they mean: there is a statistical correlation between the two variables, a person’s educational level occurred before their current level of tolerance, and there is no third variable that can 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nomothetic explanation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A _____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tical iss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ufficient cause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ptive studies answer questions of what, where, when, and ho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natory studies answer questions of w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Logic of Nomothetic Explanatio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al: to find a few factors that can account for many of the variations in a given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Example: Legalization of Marijuana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diograph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6bb76d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mothet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ation from parents, teachers, cler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ious experi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ori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must be correl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rrelation – An empirical relationship between two variables such that changes in one are associated with changes in the other, or particular attributes in one are associated with particular attributes in the ot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use takes place before the eff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are nonspurio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urious Relationship – A coincidental statistical correlation between two variables shown to be caused by some third vari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3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09Z</dcterms:modified>
  <cp:revision>12</cp:revision>
  <dc:subject/>
  <dc:title>Slide 1</dc:title>
</cp:coreProperties>
</file>