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4D9-EBBB-4EEE-AB65-A7A506FFB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C420-D376-44CA-ABED-25F54E979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F818-1901-42FE-9E93-3CBACCD53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5D5-B2A3-4596-9B61-57D08B36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633-2273-493F-B542-A53CDBF6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0E1-9EDB-4124-BF79-0F3E1456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520-20E6-440A-8280-1948738E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EF39-AD1E-45B8-A0A3-BEE3A545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F127-7666-42E9-873A-1AC65BAB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6495-7C3C-4D10-84E1-1A7B0BCF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22A0-932F-4B17-88CB-A260E7B6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5F1D-4D69-4355-B28B-BB6D883F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01F5-BA55-40F1-A161-7AC163BD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EA25-FE85-4345-824D-6A6895B7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5C0-F71D-4C6C-ACA3-E18BEB3E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D58A-3872-43B0-BAFD-F9E02D9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82E6-A1F9-404B-BBE1-B9D9DAC8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38E6-E857-4BC1-9F1D-C22BDC8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3067-742E-42E9-80C0-E3751324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7344-4D39-4CCA-A2BD-47B82A3C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2354F-A209-4657-8E61-A56666B9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C6CAA-8366-4253-97DA-0125703B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3FF9B-838B-4B24-B5AF-4FFBCE10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19B25-A6DC-4695-B32E-912B753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DEEE2-9AEA-4736-8A48-277CCD14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347-CAFB-4B04-B485-4D782935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9F88F-D32B-450A-8706-7F34C8E2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8C5FE-04A9-476C-A897-F02313A0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34F8C-8179-455F-BB21-C6416BD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47262-4A4D-4A0A-9BA5-16B41C7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EA31E-C1E5-4E98-894A-824EAFD2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827F2-6E5B-4508-8179-3AB935D8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75151-AAEF-4779-8154-FAB5EA0E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A56E0-1C1F-4868-B820-09EEAA07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D8591-4BBD-400B-A850-DCA8C265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9903E-EF82-4CE2-B09C-5F137B2F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5FF-4B74-4CEE-BB94-2DB2B61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21216-0C8B-4672-8585-E017179E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5522A-DC35-4224-9D14-C407841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87A0B-0A17-4EC0-BF05-BD1D671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BB6D8-922D-4777-A7E3-1119812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79A66-E872-4E6A-9798-2079E7C9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A11C8-D706-4E4F-BEE5-DF05ECB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8513A-1561-4871-931A-329BD643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32850-55DE-4267-AF76-99E432AD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8439B-0D36-4D67-A6BF-2ACB43C0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2C267-7757-4CBF-BD86-65767DE3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EAD-4A35-40B9-8A45-7B6F443B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0AA01-6C26-434F-8C07-387432F4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2B480-1760-4FD4-93E7-F4427D89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52332-3E41-419C-A522-E8DD56FF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3B695-D096-4C37-8C0B-77A5A821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3DC83-D130-488C-9A5E-3A6146E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DA35B-CE1F-4665-91CA-9A671430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CC14A-BACE-42F7-B0FC-83B1E9B4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30ACA-CD54-4BA7-93B0-D2068C5B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76DE5-1699-4FDB-B218-88899B0C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28EB5-659B-4440-BDE3-7C3C0F6A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47B-EB9F-454A-8C99-BB4F6763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15F02-6FA6-4664-8233-C3ADA074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A2B8-84CA-4B0C-BD2C-ED0A6EB9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C9BA5-FA95-4019-A3EE-56C3C42B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2C169-087E-406C-9145-DE338215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F68C0-CB1B-4CB3-BC6F-575F804B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EAAFD-3CA5-4952-A04D-CD1C4F5F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A026-1C0F-4C1B-B285-344738F7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8944F-8BCE-41B1-A3D3-9843654D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B6CA4-F590-4898-9864-31F45047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73F1A-7EE4-4180-A64B-A40B74A1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BD2-F476-4786-AF0F-FC16BE4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2F967-5878-4D13-8684-3A7A7B2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355DA-1C6D-4C52-A0FD-C7082491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8F874-1881-4335-A248-CF01C559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96B30-8067-49CF-A1F4-E2C0C18D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D2C90-CBFB-4127-9EF8-1495DF25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67AFA-AA52-4330-97C0-EEBD6AF4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6C005-26FD-4E6F-B42E-6AADE6D5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804E2-1746-4D69-A3A2-9840951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968C2-200E-4EBC-B592-CA68C174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3D196C-DD4C-4F56-AEB9-2D524BF5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B20-E132-4753-A8F9-847ABE7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3F2E2-F718-42BC-8726-7FE3070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3E2EE-FB3A-4252-B735-5E0BAF93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E5369-9383-4A63-B7C3-D550503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077E3-92D7-44FC-8713-3C14EE21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38525-C0E3-4FCF-92DF-AD9F943A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B7639-8B17-4C11-93D7-1D62CD9D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872C-DA54-4733-9411-9A535DD6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A50CE-F5A2-4402-B121-4023B3AE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7A9A-4010-4C0E-979A-330AD606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2929-C989-4F0F-B5C0-2C9F0BF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C79-B3B9-46E8-AF6A-FF3A5FF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60F45-DF5B-4944-A91A-B80A57BE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3F445-29B4-462C-B348-AF4BAB27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08943-D032-4482-87F5-15B7CDC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D9F0E-5259-49DC-92C0-7E6CC87F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05D7D-4F61-43DC-B29F-2FE165B6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C75CB-B77D-4E1D-B6B9-CFDDCB05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2E7E1-56A4-4D37-A851-819AF4C3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69E7-76C8-4937-AC7E-8806BEEF815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419-E70A-484B-9AD0-4F3D409B7506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1B0-BAD6-48F6-80B8-304435E015B4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1728-3DB7-4718-B276-C478CAA44E2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A42-C781-4D5C-932A-62C6B682491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B506-BDEF-457A-925D-C215BB504B6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0004-47E4-45B0-88A7-716FCC434486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2CDA-4890-41B2-9D69-C4D001611F2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4, RESEARCH DESIGN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Causal Analysis and Hypothesis Tes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ypotheses are not required in nomothetic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a hypothesi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variables you think are relat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measurement of variab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ypothesize correlation, strength of relationship, statistical significan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tests for spuriousnes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 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 Cau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al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jority of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Necessary and Sufficient Caus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 must be present for the effect to follow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, if present, guarantees the effect in ques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st satisfying outcomes in research include both necessary and sufficient caus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2280" y="1616040"/>
            <a:ext cx="8763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577880" y="1600200"/>
            <a:ext cx="6042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nits of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 versus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ommon unit of analysis for social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, voters, parents, children, Cathol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ng members, families, married couples, friendship grou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porations, social organizations, colle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calls, dances, online chat rooms, figh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57600" y="814320"/>
            <a:ext cx="52578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Artifact – any product of social beings or their behavi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ee Purposes of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ogic of 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and Sufficient Cau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ime Dim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to Design a Research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search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aulty Reasoning about Units of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cological Fallacy – erroneously drawing conclusions about individuals solely from the observations of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ism – a strict limitation (reduction) of the kinds of concepts to be considered relevant to the phenomenon under stud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obiology – a paradigm based in the view that social behavior can be explained solely in terms of genetic characteristics and behavi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Time Dimens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y – A study based on observations representing a single point in time, a cross section of a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itudinal Study – A study design involving the collection of data at different points in tim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nd Study – A study in which a given characteristic of some population is monitor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hort Study – A study in which some specific subpopulation, or cohort, is studi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nel Study – A study in which data are collected from the same set of people at several points in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876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mparing Types of Longitudinal Studies, Example: Religious Affili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nd Study – looks at shifts in religious affiliation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ort Study – follows shifts in religious affiliation among those born during the Depres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 Study – follows the shifts in religious affiliation among a specific group of people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ing 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can draw approximate conclusions about longitudinal processes even when cross-sectional data are 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y processes over tim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ogical inferen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sk individuals to recall past behavi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hor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Research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oration, Description, or Explan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rces of da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 of analysi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s of time releva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How to Design a Research Projec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3809880" y="779400"/>
            <a:ext cx="49532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fine the purpose of your project – exploratory, descriptive, or explanatory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fy the meanings of each concept you want to stud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lect a research method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termine how you will measure the result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ree Purposes of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satisfy the researcher’s curiosity and desire for better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the feasibility of undertaking a more extensive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evelop the methods to be employed in any subsequent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whom or what t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ect empi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e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your find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Research Proposal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ements of a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lem or Ob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terature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s for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Collection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itutional Review Boa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Ethics of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Social researchers tend to choose _____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searchers tend to choose individuals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tific inquiry comes down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tific inquiry comes down to making observation and 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 _____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ressio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rrelation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situations and events through scientific obser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Which of these are among the purposes of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, description, and explanation are all among the purposes of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5. What do social researchers means when they say  there is a causal relationship between education and racial toleranc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a statistical correlation between the two variabl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person’s educational level occurred before their current level of toler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no third variable that can explain away the observed corre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researchers say there is a casual relationship between education and racial tolerance they mean: there is a statistical correlation between the two variables, a person’s educational level occurred before their current level of tolerance, and there is no third variable that can 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nomothetic explanation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A _____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tical iss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ufficient cause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ptive studies answer questions of what, where, when, and ho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natory studies answer questions of w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Logic of Nomothetic Explanatio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al: to find a few factors that can account for many of the variations in a given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Example: Legalization of Marijuana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diograph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6bb76d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mothet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tion from parents, teachers, cler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ious experi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ori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must be correl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relation – An empirical relationship between two variables such that changes in one are associated with changes in the other, or particular attributes in one are associated with particular attributes in the ot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use takes place before the eff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are nonspurio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urious Relationship – A coincidental statistical correlation between two variables shown to be caused by some third vari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3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09Z</dcterms:modified>
  <cp:revision>12</cp:revision>
  <dc:subject/>
  <dc:title>Slide 1</dc:title>
</cp:coreProperties>
</file>