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14034-1165-4479-950B-5E15D82D0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DCBFE-BD51-451D-8603-255CDAD69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A56EA-DF90-4CD9-A695-90E7DD831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FA175-F5BF-4330-BA23-2AEC98F44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70D58-0D9D-4F3D-9DA0-700EDDB24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CF1D3-EBE6-4C4A-BB59-7416A5D63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79F10-AD6D-4740-A977-60044E24B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1B0FE-4EB1-4AA0-ADE0-0BA2FC49A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DF093-6FEA-45DA-B3CE-E85C673ED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A91F9-5737-4B5A-8A99-F8173F6AA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33406-A6F5-42CB-A9C8-D1A583527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F0D8C-5384-44A2-8C3F-23DCA14BB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7DDBF-2CFC-46EA-BF58-66BD60061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E10A4-FF79-4173-969D-1135C4E16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96844-B367-4265-817A-99636619B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143B6-D221-464C-A5AA-8E7905147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11087-A600-458F-B667-95E0808FA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8B258B1-EE39-428B-846F-4ED7BD74F4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121DE50-7D73-4350-AB24-E90649053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2B4096-CCFD-4A01-91AF-403D279E7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FF71B9-8192-4FC5-9A2B-6FD00C182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A919BD-FD65-4CD7-AB72-E3B110E757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863C0-A63F-40CF-819C-D32D4B2E8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A96DC6D-8FF9-4A1E-B53E-22A19A513C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8ED345-A25A-4AB0-A582-73C5F8329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407547-0E4E-4EDA-8290-40AA82112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E98633D-1CC2-4B52-AF3D-871C0F556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51BCD65-DA76-4092-8D06-62FC26C9D0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56D5FE6-5B81-46C5-B8B0-286E61FAE0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F3AA4B2-9527-4066-9543-599ACF08BA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C1D3E80-BA6E-4ECD-8C7D-20EEDD3D8B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ED1EAE9-75DA-43A4-B046-1EA86FAAC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1774817-E263-4F83-A726-BEEA5ACAC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726A8-97AB-4A9F-B0F3-AB1B00422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6D593C0-24F8-4973-AD58-F1C476B549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8463D7E-BF1F-4639-9790-E44688F4B1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2914F1C-6077-4ADB-A09A-0B3AA6F54D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BCC11E-9810-48CB-B867-8EF4F2B37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DF6D9B-97D2-4B81-9419-D08D504DD9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CCFA26-BE94-4824-8901-41CD2FA976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290CF00-BA28-4EA1-8AAF-2927FAD352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93D1331-FD93-4170-8CF6-BC0666F210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B471A0A-1D34-4F16-A4D9-FE5BFF88D9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60F5A68-CC9B-451B-8F52-7D9D493C9B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6C124-750F-4103-9454-022987798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AC5F64-3462-4764-B7BE-2E6FF25A24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84653E-BA97-4608-ACFC-EEB18000C9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A0B752B-2560-4DB8-9989-5FBF032936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BFD345B-C3CE-4644-AD3F-C72A2EF648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2FE297-06CC-4925-AFA6-6274C4404A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7A503C-2DE8-4F55-8EF2-E3CF6765B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5DAA16-B791-4F0E-BB70-918F1075F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5E29C09-9FBE-4A7C-B165-0BA14F0EE6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98BCC8-8E24-4D79-91A3-02AB08A807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5B92F5B-E990-46AE-8CCD-452559549A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2095B-BAA2-4AC0-BFB9-72D48B531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2C87278-79CD-4673-8CF7-8079FAD15F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D73516-AB80-4990-8E42-CA0A31CAC8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41FA4C-E673-4C3E-A42C-C237F8DCCA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260E21-AEEF-4833-9333-67561BD657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50DEF7-13AD-46AD-8594-07EDC50063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2F44C9-93E1-4055-8D41-DE245F062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1280D5-27CE-4731-8184-41A3D8B5D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F160EC-6102-4468-B86F-E5E30FA722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3EABBA-BCB5-48F8-927C-C0F4C3381B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DFEE4-6562-458F-B1CA-C51156737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A780-432A-4206-AFF6-7AE25783B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C310EA-656D-43B8-9654-4AAEB3C9FD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A90B24-1363-4450-9ADC-30835CCDC7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24AAAB-6B4C-40DA-97F4-94D517BAA8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63B9129-59D6-43CD-AB14-4518C7D167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9A66CC1-FC0F-48BD-A513-97D50C1A72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1449DC4-A3F2-4907-B184-1ED5E52DFF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A0403D4-7BAA-493D-BB46-A78502819B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4B13425-D172-4C31-9BF5-D20978582B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96D1EFA-5AE2-4CAC-977C-DC0C9ADB4B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69F03FA-DF76-4028-B3DD-EE11250AFA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D26E9-CF83-468F-BDC2-8774C5A51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456A556-3A0D-4C10-B31C-4549CE0D73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760EE5-7486-4995-950F-2789C4286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B9D859C-6574-4A1B-B523-4AECA043AA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7B0EB31-6D69-45E9-9B1C-C879EF8A5E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4553B19-A145-4E09-B85E-E779BEC6BA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98798C-B6CA-47B2-9676-E292A865A0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902FEB-82D4-41DE-B758-E89B590F5E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D5CE77-2EFB-47A9-A5B9-B3FA2B6B05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99E36F-ED6B-424A-80AB-CF3012F1D7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0AB292-64E4-4BC5-90F9-85849C6421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7CF94-CB45-4969-8D53-6ED783ACB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E89642-6F13-486C-9AD2-E119C88B34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51457D-6121-4491-89AA-0DB9B37A1C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80316A-AED0-4939-9E4E-DC2CB43C02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536740-82CD-43BC-A203-E0EB39510E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49E9C4-7657-4EB9-B31B-AE595F2A94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29BF1C-D35E-446B-97CA-4D3501753C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65C1DC-516F-4096-A228-711D8AFE9D5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A215-CFAF-4BBE-A23E-548ECB6F7CC0}"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C14F-7C4B-433F-B0D3-D8120F4C7DED}"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E6F9-FE49-4265-8FD5-9DEE07FB9D9B}"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5A4A-77D5-40C7-852B-F098C7CE17D1}"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078F-2846-40B5-BE9E-F00EFC9539BF}"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319C-5509-4F30-AC72-5844EF1B817B}"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7EFE-5B81-40A6-A3AA-57CE3FC81748}"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AAD7-8413-4D44-A441-0ACCBE7C4EE0}"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3, THE ETHICS AND POLITICS OF SOCIAL RESEARCH</a:t>
            </a:r>
            <a:endParaRPr b="0" lang="en-US" sz="4000" spc="-1" strike="noStrike">
              <a:solidFill>
                <a:srgbClr val="d4d4d6"/>
              </a:solidFill>
              <a:latin typeface="Verdana"/>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stitutional Review Boards – A panel of faculty who review all research proposals involving human subjects so that they can guarantee that the subjects’ rights and interests will be protecte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ep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fessional Code </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of Ethics</a:t>
            </a:r>
            <a:endParaRPr b="0" lang="en-US" sz="2900" spc="-1" strike="noStrike">
              <a:solidFill>
                <a:srgbClr val="000000"/>
              </a:solidFill>
              <a:latin typeface="Verdana"/>
            </a:endParaRPr>
          </a:p>
        </p:txBody>
      </p:sp>
      <p:pic>
        <p:nvPicPr>
          <p:cNvPr id="372" name="Picture 2" descr=""/>
          <p:cNvPicPr/>
          <p:nvPr/>
        </p:nvPicPr>
        <p:blipFill>
          <a:blip r:embed="rId1"/>
          <a:stretch/>
        </p:blipFill>
        <p:spPr>
          <a:xfrm>
            <a:off x="4648320" y="1523880"/>
            <a:ext cx="428940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wo Ethical Controversies</a:t>
            </a:r>
            <a:endParaRPr b="0" lang="en-US" sz="4400" spc="-1" strike="noStrike">
              <a:solidFill>
                <a:srgbClr val="5a6378"/>
              </a:solidFill>
              <a:latin typeface="Verdana"/>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rouble in the Tearoom – Laud Humphreys</a:t>
            </a:r>
            <a:endParaRPr b="0" lang="en-US" sz="27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d homosexual activities in public restrooms in park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became interested in the lives of participant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volunteered to become “watchqueen”</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collected personal information about the participants (license numbers of car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ch ethical issues are in ques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serving Human Obedience – Stanley Milgram</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cipants imitated a laboratory-based World War II controversy</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cipants were assigned job of “teacher” – to teach a list of works to the “pupil.” If the pupil got the word wrong, the teacher would administer increasing levels of shocks to the pupil.</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ich ethical issues are in ques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Politics of Social Research</a:t>
            </a:r>
            <a:endParaRPr b="0" lang="en-US" sz="4000" spc="-1" strike="noStrike">
              <a:solidFill>
                <a:srgbClr val="5a6378"/>
              </a:solidFill>
              <a:latin typeface="Verdana"/>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ethics of social research deal mostly with the methods employed.</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al issues tend to center on the substance and use of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re are no formal codes of acceptable political conduct, while there are formal codes of conduct for social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jectivity and Ideolog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ience achieves </a:t>
            </a:r>
            <a:r>
              <a:rPr b="0" i="1" lang="en-US" sz="2600" spc="-1" strike="noStrike">
                <a:solidFill>
                  <a:srgbClr val="000000"/>
                </a:solidFill>
                <a:latin typeface="Verdana"/>
              </a:rPr>
              <a:t>objectivity</a:t>
            </a:r>
            <a:r>
              <a:rPr b="0" lang="en-US" sz="2600" spc="-1" strike="noStrike">
                <a:solidFill>
                  <a:srgbClr val="000000"/>
                </a:solidFill>
                <a:latin typeface="Verdana"/>
              </a:rPr>
              <a:t> through intersubjectivit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er (1925): sociology needs to be unencumbered by personal values if it is to make a special contribution to socie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c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xual research</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ensu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s with a Little “p”</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cial research in relation to contested social issues cannot remain antiseptically objecti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olitics in Perspective</a:t>
            </a:r>
            <a:endParaRPr b="0" lang="en-US" sz="27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ce is not untouched by politics.</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ce does proceed in the midst of political controversy and hostility.</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wareness of ideological considerations enriches the study and practice of social research methods.</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as researchers should not let their own values interfere with the quality and honesty of the research, this does not mean that researchers cannot or should not participate in public debat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38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al Issues in Social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o Ethical Controvers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olitics of Social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_____ is a norm in which subjects base their voluntary participation in research projects on a full understanding of the possible risks involv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search particip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Hawthorne effec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formed consen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code of ethic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formed consent is a norm in which subjects base their voluntary participation in research projects on a full understanding of the possible risks involv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Though the norm of voluntary participation is important, it is ofte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justifiably violat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t receiv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mpossible to follow</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ough the norm of voluntary participation is important, it is often justifiably violated, not received, and impossible to follow.</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Ethics are </a:t>
            </a:r>
            <a:r>
              <a:rPr b="0" i="1" lang="en-US" sz="2900" spc="-1" strike="noStrike">
                <a:solidFill>
                  <a:srgbClr val="000000"/>
                </a:solidFill>
                <a:latin typeface="Verdana"/>
              </a:rPr>
              <a:t>not</a:t>
            </a:r>
            <a:r>
              <a:rPr b="0" lang="en-US" sz="2900" spc="-1" strike="noStrike">
                <a:solidFill>
                  <a:srgbClr val="000000"/>
                </a:solidFill>
                <a:latin typeface="Verdana"/>
              </a:rPr>
              <a:t> a consideration in which one of the following fields of research?</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atural scienc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sycholog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dicin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ociolog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e of the above – they all require ethical consider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E.</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enters in all of these fields: natural sciences, psychology, medicine, and sociolog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2"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4. The major justification social scientists have for requesting participation in a study is tha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the responden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all humanity.</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the social scientis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government officials make policy decisions.</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improve the educational system.</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jor justification the social scientists has for requesting participation in a study is that it may help all human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The controversy surrounding Laud Humphreys’ study of homosexuals suggests that he </a:t>
            </a:r>
            <a:r>
              <a:rPr b="0" i="1" lang="en-US" sz="2900" spc="-1" strike="noStrike">
                <a:solidFill>
                  <a:srgbClr val="000000"/>
                </a:solidFill>
                <a:latin typeface="Verdana"/>
              </a:rPr>
              <a:t>most</a:t>
            </a:r>
            <a:r>
              <a:rPr b="0" lang="en-US" sz="2900" spc="-1" strike="noStrike">
                <a:solidFill>
                  <a:srgbClr val="000000"/>
                </a:solidFill>
                <a:latin typeface="Verdana"/>
              </a:rPr>
              <a:t> violated which of the following ethical princip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nonymity and confidentiality</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arm to subjects and data reporting without identification</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cealed identify or researcher and anonymity</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arm to subjects and anonym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controversy surrounding Laud Humphrey’s study of homosexuals suggest that he </a:t>
            </a:r>
            <a:r>
              <a:rPr b="0" i="1" lang="en-US" sz="2900" spc="-1" strike="noStrike">
                <a:solidFill>
                  <a:srgbClr val="000000"/>
                </a:solidFill>
                <a:latin typeface="Verdana"/>
              </a:rPr>
              <a:t>most</a:t>
            </a:r>
            <a:r>
              <a:rPr b="0" lang="en-US" sz="2900" spc="-1" strike="noStrike">
                <a:solidFill>
                  <a:srgbClr val="000000"/>
                </a:solidFill>
                <a:latin typeface="Verdana"/>
              </a:rPr>
              <a:t> violated the ethical principle of harm to subjects and anonym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Ethical Issues in Social Research</a:t>
            </a:r>
            <a:endParaRPr b="0" lang="en-US" sz="4000" spc="-1" strike="noStrike">
              <a:solidFill>
                <a:srgbClr val="5a6378"/>
              </a:solidFill>
              <a:latin typeface="Verdana"/>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al (Webster’s) – Conforming to the standards of conduct of a given profession or grou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0" name=""/>
          <p:cNvSpPr txBox="1"/>
          <p:nvPr/>
        </p:nvSpPr>
        <p:spPr>
          <a:xfrm>
            <a:off x="609120" y="1676520"/>
            <a:ext cx="8153640" cy="4952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 Which of the following is </a:t>
            </a:r>
            <a:r>
              <a:rPr b="0" i="1" lang="en-US" sz="2700" spc="-1" strike="noStrike">
                <a:solidFill>
                  <a:srgbClr val="000000"/>
                </a:solidFill>
                <a:latin typeface="Verdana"/>
              </a:rPr>
              <a:t>not</a:t>
            </a:r>
            <a:r>
              <a:rPr b="0" lang="en-US" sz="2700" spc="-1" strike="noStrike">
                <a:solidFill>
                  <a:srgbClr val="000000"/>
                </a:solidFill>
                <a:latin typeface="Verdana"/>
              </a:rPr>
              <a:t> a difference between ethical and political aspects of social research?</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considerations are more objective than political considerations.</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aspects include a professional code of ethics, whereas political aspects do not.</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s deal more with methods, whereas political issues deal with substance.</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norms have been established, whereas political norms have not been established.</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is </a:t>
            </a:r>
            <a:r>
              <a:rPr b="0" i="1" lang="en-US" sz="2900" spc="-1" strike="noStrike">
                <a:solidFill>
                  <a:srgbClr val="000000"/>
                </a:solidFill>
                <a:latin typeface="Verdana"/>
              </a:rPr>
              <a:t>not</a:t>
            </a:r>
            <a:r>
              <a:rPr b="0" lang="en-US" sz="2900" spc="-1" strike="noStrike">
                <a:solidFill>
                  <a:srgbClr val="000000"/>
                </a:solidFill>
                <a:latin typeface="Verdana"/>
              </a:rPr>
              <a:t> a difference between ethical and political aspects of social research: Ethical considerations are more objective than political consider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oluntary Participa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one should be forced to participat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lance of science and ethic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ssib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o Harm to the Participant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ople being researched should never be injured (physically, mentally, emotionally, socially, psychological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s: Tuskegee Syphilis Study, Stanford Prison Experimen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ssible to eliminate 100% of ris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formed Consent – A norm in which subjects based their voluntary participation in research projects on a full understanding of the possible risk involved.</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urces of har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onymity and Confidential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onymity – Guaranteed in a research project when neither the researchers nor the readers of the findings can identify a given response with a given responden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dentiality – Guaranteed when the research can identify a given person’s responses but promises not to do so public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cep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ception within social research needs to be justified by scientific or administrative concern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briefing – Interviewing subjects to learn about their experience of participation in the proje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alysis and Report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hical obligation to colleagues in the scientific communit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results must be reported (positive and negativ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limitations must be admit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3:36Z</dcterms:modified>
  <cp:revision>8</cp:revision>
  <dc:subject/>
  <dc:title>Slide 1</dc:title>
</cp:coreProperties>
</file>