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32DC3-3320-4112-AC82-4B66D5C30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0F8B8-D2D2-486D-87B7-ABC23B943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ECE72-4A59-4E48-8C7B-6B723768B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D2E4A-8427-4C8B-BBF5-8A852C42F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7DA2E-72C3-4029-8979-FCF5CA5EA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13081-1187-44F1-87A9-0234AB0FE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70FEA-F974-459A-A27A-81689D392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8B561-C517-4E6A-BA8F-832CBFD76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1E1C5-1706-43B6-BB23-3E2A60C17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8F5F9-75B0-42E6-9432-8CE85BF64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64AAC-068A-4BE4-8292-170DF3B9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678B7-6C6D-4609-A9D7-E21BF1101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DD0C4-A9AA-477E-B125-7182F34A6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E17D6-CFA6-454C-B8F8-CF8E8AAFE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4A8B8-A17B-43B8-92E9-A141766DF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EEB4B-F90B-4540-9CCE-D12A0963A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D6283-B818-42D2-88D1-438CBD732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A03458-DBFE-4244-90C3-D0E0F543A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A1936D-2087-448E-BE20-762239AD6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786EF4-4494-43BD-A35F-0424036B2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0624FF-AB3C-4D9C-865C-B70FCEE94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6C2719-6B7B-46CC-8792-B19774B2F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5A95-DA9F-40EF-AA59-88C5CDF42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287D64-686B-45A5-BA55-0B088782E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CAAD05-B2DF-4D4D-BDFA-D0C41ED33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6CF9A7-B9C4-4A30-B631-320740121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B8E651-4E3B-4A16-804C-DE6E9F3E27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8FD1F4-E031-4D6E-ACF2-5686F168B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E3916A-6B0D-409B-B3E0-57962F9DB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7A98CEC-A076-4A10-AA8D-E9589D436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DD31E1-00AD-4F71-AA4B-74F745F253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24DBCF7-4C4F-4AB9-9FB2-FA7034590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1D844B-C4EA-419A-BA37-14F3781DD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5FEAE-4986-4188-93E3-658B73EA9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CAA187-2451-4DFA-BA17-FFEF16CED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4800CA-9E12-4E77-9007-F5799B281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5B339DB-A0DE-4C77-BF3E-C8CFE7EA0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8F5699-9E02-469B-95FA-55B04E83B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15574E-7A89-4989-962C-3636B29F7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72EEEF-155C-4021-9A47-9D45D7CEE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364CF4-A914-4CDC-A5CA-B01F24984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651FFD4-D5FD-43F1-B4E5-AD5A29965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FD2F5F1-B120-4F75-9358-3C3B41DBCA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A8C4499-79D4-4413-BEDF-F9AD8755F9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0D3A-2BB8-4154-AB55-E430B0D35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6BE9B2-CCCD-4823-AB4D-C8F9FFC38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C2290E-29F8-409B-B0C3-C65F59A47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6C3B168-F850-43C9-B146-C888E255C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6E5AC7-7568-4B41-9AE5-9A01C2ED7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D3EE2B-58E3-4020-AFD2-EBA298C24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AA2908-D07A-4D68-BE43-19B7734F2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DE0B8C-DAEC-449D-B4EA-4158F84A7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CCD562-5217-4C58-B014-9D4DB0A28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603A71-77BF-4BE1-89AE-0C60DE532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C4EBC1-15A1-4986-A3C5-E6F74447C1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22CF-F221-4128-A0E6-DB7EFFBC4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8720B05-2C38-473D-96B8-A5E72D9336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BDD54E-AF00-415E-AFDA-27C555A0EA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06A13-8915-401E-8AF0-846B8D3BA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83172-3E7C-48FE-A348-C08B80F3D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B1A214-0B97-4EB8-BE49-AE20D3E9C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097375-24D4-4E04-AD07-E1A35A0B0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B383E-B610-4F48-BD1C-B15AB473CE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E09A9-BA7A-43E1-B6BE-0185D5FCF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56D58-8D07-4467-B411-CB297DDB9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8F87F-51F9-46E5-AD20-B9FA473F7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C42C-A528-4F92-B017-7C8D812C7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CC0773-AF3C-4BB6-A823-928E5970F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791A5B-C9CA-4C1B-9F4B-D86DFDEDA9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7A943-A224-4E8D-BF35-7434EF1F89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7C7F64A-B313-4255-BBC1-F31B2DC118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00318E3-81C7-40EB-82F3-29B00B98F1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5B9747-30EC-4B2D-9DBC-6E4947C8AB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7AD7914-802D-4F74-BC03-D05780BA3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1FE861-5903-46C0-B77C-ED10AB8FA6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E76B9E5-019C-4C10-803C-299CCFC02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578112-E27F-40ED-9804-A8950A8BA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D4E3-0009-4460-881E-D178220F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C1C994-5C89-4008-A02A-031969E5A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7AC762B-D376-4CC9-A523-76B6A8480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943FE9-501E-436D-AF6E-5FA2EA86A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170870F-BD0D-48D2-82DB-3BBA9B29B7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D265B27-BC7A-4817-9103-F64D4F3A68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8F0A51-D9F2-4B5C-8A03-BDAC845157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4F9F31-21BB-4A33-B860-6DCEEC88B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7E8195-A08B-4888-BE53-30B367CEE5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49AD59-0845-47BF-96C2-3DA713671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C5A21-D80D-42AA-BEE5-3F5C905A66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C9FE-498B-4279-AE10-51D130AF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5BD6C9-6F9E-47A0-8045-E7A62414E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1ABA5-EA23-4BE4-BEEA-E77BE6BAB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99B14-9D7B-4B8D-8A93-C0B9D86E2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0D6BC-7073-4B6B-ACA1-E23A9777F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798C55-2F96-4517-A2AD-D2035633A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4CAA49-31B2-4782-96E1-9B41209BF9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E04588-DD1D-4CAB-B2D3-08F3A7CBDC1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6A13-2810-4C9B-B316-E376FFB5EE1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18FA-FBA4-4850-9F98-56461F75E197}"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16D1-6B39-4542-A3C6-E097542F9757}"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6C14-BF5A-447E-ACE0-9C6D2359259B}"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64BA-BCAC-4772-8171-AB3A288259A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C8CD-23DD-462B-9F58-19A41BDAF3BB}"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93C3-678C-4804-9CBB-186D774E1782}"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60AB-001E-4240-AC87-773D9D801F81}"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3, THE ETHICS AND POLITICS OF SOCIAL RESEARCH</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stitutional Review Boards – A panel of faculty who review all research proposals involving human subjects so that they can guarantee that the subjects’ rights and interests will be protecte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p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fessional Code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f Ethics</a:t>
            </a:r>
            <a:endParaRPr b="0" lang="en-US" sz="2900" spc="-1" strike="noStrike">
              <a:solidFill>
                <a:srgbClr val="000000"/>
              </a:solidFill>
              <a:latin typeface="Verdana"/>
            </a:endParaRPr>
          </a:p>
        </p:txBody>
      </p:sp>
      <p:pic>
        <p:nvPicPr>
          <p:cNvPr id="372" name="Picture 2" descr=""/>
          <p:cNvPicPr/>
          <p:nvPr/>
        </p:nvPicPr>
        <p:blipFill>
          <a:blip r:embed="rId1"/>
          <a:stretch/>
        </p:blipFill>
        <p:spPr>
          <a:xfrm>
            <a:off x="4648320" y="1523880"/>
            <a:ext cx="428940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wo Ethical Controversies</a:t>
            </a:r>
            <a:endParaRPr b="0" lang="en-US" sz="4400" spc="-1" strike="noStrike">
              <a:solidFill>
                <a:srgbClr val="5a6378"/>
              </a:solidFill>
              <a:latin typeface="Verdana"/>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rouble in the Tearoom – Laud Humphreys</a:t>
            </a:r>
            <a:endParaRPr b="0" lang="en-US" sz="27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d homosexual activities in public restrooms in park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became interested in the lives of participant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volunteered to become “watchqueen”</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collected personal information about the participants (license numbers of car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ethical issues are in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Human Obedience – Stanley Milgram</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imitated a laboratory-based World War II controversy</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were assigned job of “teacher” – to teach a list of works to the “pupil.” If the pupil got the word wrong, the teacher would administer increasing levels of shocks to the pupil.</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ch ethical issues are in ques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Politics of Social Research</a:t>
            </a:r>
            <a:endParaRPr b="0" lang="en-US" sz="4000" spc="-1" strike="noStrike">
              <a:solidFill>
                <a:srgbClr val="5a6378"/>
              </a:solidFill>
              <a:latin typeface="Verdana"/>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thics of social research deal mostly with the methods employ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issues tend to center on the substance and use of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no formal codes of acceptable political conduct, while there are formal codes of conduct for social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jectivity and Ide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ience achieves </a:t>
            </a:r>
            <a:r>
              <a:rPr b="0" i="1" lang="en-US" sz="2600" spc="-1" strike="noStrike">
                <a:solidFill>
                  <a:srgbClr val="000000"/>
                </a:solidFill>
                <a:latin typeface="Verdana"/>
              </a:rPr>
              <a:t>objectivity</a:t>
            </a:r>
            <a:r>
              <a:rPr b="0" lang="en-US" sz="2600" spc="-1" strike="noStrike">
                <a:solidFill>
                  <a:srgbClr val="000000"/>
                </a:solidFill>
                <a:latin typeface="Verdana"/>
              </a:rPr>
              <a:t> through intersubjectiv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er (1925): sociology needs to be unencumbered by personal values if it is to make a special contribution to socie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xual resear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su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s with a Little “p”</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 research in relation to contested social issues cannot remain antiseptically objecti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olitics in Perspective</a:t>
            </a:r>
            <a:endParaRPr b="0" lang="en-US" sz="27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is not untouched by politic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does proceed in the midst of political controversy and hostility.</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wareness of ideological considerations enriches the study and practice of social research method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as researchers should not let their own values interfere with the quality and honesty of the research, this does not mean that researchers cannot or should not participate in public deba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8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Issues in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Ethical Controvers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litics of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 norm in which subjects base their voluntary participation in research projects on a full understanding of the possible risks invol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search particip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Hawthorne effe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formed consen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code of ethic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formed consent is a norm in which subjects base their voluntary participation in research projects on a full understanding of the possible risks inv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ough the norm of voluntary participation is important, it is ofte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justifiably viola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t recei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mpossible to follow</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 the norm of voluntary participation is important, it is often justifiably violated, not received, and impossible to foll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Ethics are </a:t>
            </a:r>
            <a:r>
              <a:rPr b="0" i="1" lang="en-US" sz="2900" spc="-1" strike="noStrike">
                <a:solidFill>
                  <a:srgbClr val="000000"/>
                </a:solidFill>
                <a:latin typeface="Verdana"/>
              </a:rPr>
              <a:t>not</a:t>
            </a:r>
            <a:r>
              <a:rPr b="0" lang="en-US" sz="2900" spc="-1" strike="noStrike">
                <a:solidFill>
                  <a:srgbClr val="000000"/>
                </a:solidFill>
                <a:latin typeface="Verdana"/>
              </a:rPr>
              <a:t> a consideration in which one of the following fields of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atural scienc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sych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cin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oci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 – they all require eth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E.</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enters in all of these fields: natural sciences, psychology, medicine, and sociolog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4. The major justification social scientists have for requesting participation in a study is tha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responden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all humanity.</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social scientis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government officials make policy decisions.</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improve the educational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justification the social scientists has for requesting participation in a study is that it may help all human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The controversy surrounding Laud Humphreys’ study of homosexuals suggests that he </a:t>
            </a:r>
            <a:r>
              <a:rPr b="0" i="1" lang="en-US" sz="2900" spc="-1" strike="noStrike">
                <a:solidFill>
                  <a:srgbClr val="000000"/>
                </a:solidFill>
                <a:latin typeface="Verdana"/>
              </a:rPr>
              <a:t>most</a:t>
            </a:r>
            <a:r>
              <a:rPr b="0" lang="en-US" sz="2900" spc="-1" strike="noStrike">
                <a:solidFill>
                  <a:srgbClr val="000000"/>
                </a:solidFill>
                <a:latin typeface="Verdana"/>
              </a:rPr>
              <a:t> violated which of the following ethical princip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data reporting without identifica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cealed identify or researcher and anonym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ontroversy surrounding Laud Humphrey’s study of homosexuals suggest that he </a:t>
            </a:r>
            <a:r>
              <a:rPr b="0" i="1" lang="en-US" sz="2900" spc="-1" strike="noStrike">
                <a:solidFill>
                  <a:srgbClr val="000000"/>
                </a:solidFill>
                <a:latin typeface="Verdana"/>
              </a:rPr>
              <a:t>most</a:t>
            </a:r>
            <a:r>
              <a:rPr b="0" lang="en-US" sz="2900" spc="-1" strike="noStrike">
                <a:solidFill>
                  <a:srgbClr val="000000"/>
                </a:solidFill>
                <a:latin typeface="Verdana"/>
              </a:rPr>
              <a:t> violated the ethical principle of 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thical Issues in Social Research</a:t>
            </a:r>
            <a:endParaRPr b="0" lang="en-US" sz="40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Webster’s) – Conforming to the standards of conduct of a given profession or grou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0" name=""/>
          <p:cNvSpPr txBox="1"/>
          <p:nvPr/>
        </p:nvSpPr>
        <p:spPr>
          <a:xfrm>
            <a:off x="609120" y="1676520"/>
            <a:ext cx="815364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 Which of the following is </a:t>
            </a:r>
            <a:r>
              <a:rPr b="0" i="1" lang="en-US" sz="2700" spc="-1" strike="noStrike">
                <a:solidFill>
                  <a:srgbClr val="000000"/>
                </a:solidFill>
                <a:latin typeface="Verdana"/>
              </a:rPr>
              <a:t>not</a:t>
            </a:r>
            <a:r>
              <a:rPr b="0" lang="en-US" sz="2700" spc="-1" strike="noStrike">
                <a:solidFill>
                  <a:srgbClr val="000000"/>
                </a:solidFill>
                <a:latin typeface="Verdana"/>
              </a:rPr>
              <a:t> a difference between ethical and political aspects of social research?</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considerations are more objective than political considerations.</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aspects include a professional code of ethics, whereas political aspects do not.</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s deal more with methods, whereas political issues deal with substanc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norms have been established, whereas political norms have not been established.</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a:t>
            </a:r>
            <a:r>
              <a:rPr b="0" i="1" lang="en-US" sz="2900" spc="-1" strike="noStrike">
                <a:solidFill>
                  <a:srgbClr val="000000"/>
                </a:solidFill>
                <a:latin typeface="Verdana"/>
              </a:rPr>
              <a:t>not</a:t>
            </a:r>
            <a:r>
              <a:rPr b="0" lang="en-US" sz="2900" spc="-1" strike="noStrike">
                <a:solidFill>
                  <a:srgbClr val="000000"/>
                </a:solidFill>
                <a:latin typeface="Verdana"/>
              </a:rPr>
              <a:t> a difference between ethical and political aspects of social research: Ethical considerations are more objective than polit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luntary Participa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ne should be forced to participat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 of science and ethic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Harm to the Participant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being researched should never be injured (physically, mentally, emotionally, socially, psycholog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Tuskegee Syphilis Study, Stanford Prison Experim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 to eliminate 100% of ris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ed Consent – A norm in which subjects based their voluntary participation in research projects on a full understanding of the possible risk involv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rces of ha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onymity – Guaranteed in a research project when neither the researchers nor the readers of the findings can identify a given response with a given respond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dentiality – Guaranteed when the research can identify a given person’s responses but promises not to do so public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cep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eption within social research needs to be justified by scientific or administrative concern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briefing – Interviewing subjects to learn about their experience of participation in the proj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alysis and Repor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ical obligation to colleagues in the scientific commun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results must be reported (positive and nega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limitations must be admit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36Z</dcterms:modified>
  <cp:revision>8</cp:revision>
  <dc:subject/>
  <dc:title>Slide 1</dc:title>
</cp:coreProperties>
</file>