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C3B5-50DC-44ED-993C-4F217AE18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F52B-5F32-4A56-9DC6-BFFDE41A4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F375-2F4C-4A35-8852-477EB829E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5300-817C-4242-B867-4A205FF07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ACC7-3E14-4A4C-A07B-EF54D7BD9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DBA2-53D6-4477-A94C-7BA83F994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E368-D595-463D-9A87-B6729AAD0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C185-16A8-4785-AB5A-C13F4C500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81E-1A02-4543-AA5D-2E5B025E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36E-D725-4CB1-B866-AF7D9B9A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E5D-3AC5-49AF-9513-1EE250E1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54B-66A2-42C1-9062-CED5DB96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47F1-E8EC-4DE5-9E27-8C439B03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AE80-B911-49B8-B4D2-09547421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53AB-7F54-46FC-9CDF-85A83918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CF9C-D749-4F8F-98CE-5671AC9D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C9DB-7E8F-4FAC-8FA9-3068E9D9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DA78-878C-4167-B5D9-30005732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83AE-BD36-4317-A844-8FA45426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FFE-00FB-421C-B7A5-2C79E911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4581-0B41-4006-A930-5AD2C155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0C39-45E7-4F80-ABDB-7DEB87DE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6B00-E3B3-43E2-ABE0-433545B1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3B34-D786-4BEC-8647-C0A21D61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A613-FAB4-41E9-B3BB-56EAF8EB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98C29-1608-4736-9EC2-85C37E60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2D7D8-1F38-444E-9341-A490026E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49C14-65F8-44A7-AA43-9424503C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D9EBC-8381-4E73-B5A7-8A5B06C4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ABFF1-3938-4EF3-A15B-B787C7C9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870-3CD3-4953-B910-C4A5173D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CFAC2-D944-4D22-8CD4-F32E7B2A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7FFEA-2FE1-48F7-A67D-8CC3D296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5C71C-E61F-43A5-B69F-2B1B0ED1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E200D-F247-42B1-B51E-D0DE9352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04E30-AA46-4348-9E78-9A6C84E0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54CE5-08C5-49C9-88C9-9379F19A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692FF-3233-4B43-AF9E-284EF9C9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DA1DD1-870B-4A0A-9276-F2DA1B2B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A536D-828E-4D04-A880-DE30BC9B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BE7C7-3665-45D9-8CE9-312A9DD1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461-E1C5-4DF7-AF93-AF260FEF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E92A21-685D-40A0-B1DF-C04CBD9B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6AEAAC-2380-4C6D-9872-7B6CBEC9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64536F-4D1F-49D2-8DE3-773B3409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A73126-10D7-4AF6-98C1-2D34A25B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D6C931-13D3-48A5-BDE5-B25A8511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D87C51-C251-4655-8724-32E7D0AD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80944-C81E-4490-BB3E-3FAF0C46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109E71-743F-49FB-8C28-91EE2011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3CE98B-A2A0-4183-94FB-6E191B72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2A1D0-A93C-4A69-B8A6-8ADAB6FC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AA4-704B-4D8A-846F-2756A9B6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602DE-E37B-4A92-866F-5D154106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7867E7-1C6B-48D7-9215-5C5F05D4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55CDC5-1211-4C86-AC0C-230E8FCF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EF4637-4783-40A8-BDD1-9C001D3F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A3E63E-81DD-424B-A654-7A222BBB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70011-A347-490A-9983-255F84A7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31408-026C-4B58-978C-AB8C3EE0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D3E8E-F81C-44E8-B5C1-23CF22D6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CB480-5704-4C07-B701-E38441C6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85FFEE-53A2-4C8B-99E8-FC3F5DFA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CEF-B521-4D73-B285-65F6DD44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0E5DCE-5D76-48C8-A341-8A507555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97B44-D21A-4C5F-9743-289967EE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7A6C6-D6B0-4D1B-976F-CC79B460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B7BC5-ECAB-4912-B547-B1E0CB0C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86656-FC4C-41D3-BC1E-D5AF7450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1D03B-20F9-4D41-A62F-6EB5752D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B3C63-8B43-40D8-8BF9-150BBE5D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06287-FA8A-4C6E-B67F-11FDA089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2CD66-9E14-49BB-B5CE-3E7E1AD7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8D73E-B48E-4CFF-8669-CC941412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ABB-D443-48CE-8057-ABF62790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42FCC-B554-498D-9ABF-8B8E4E33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B3330-CC8E-459A-B75D-9383AE4C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BB0D2-CA60-4BEC-A595-F5482AC7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CD5451-9F33-4E65-BBDD-6003DF18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1661AD-8EBC-43E9-B96A-2C2F39C5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58FC35-CDB7-4B8F-8852-EE99CF42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93193-11A9-4426-A73F-5DD720DC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2E5900-C176-4B76-962B-E9CDE0CF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BADF19-007D-448D-BD31-DD8E5F59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25940C-81B1-47D0-B866-6F7343E2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8E9-F057-45F5-9A6F-16E81373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CB5A55-BF72-4744-8096-2990EF45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ED5D1E-43D7-4333-B3C7-63153758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FA3B23-6953-432B-A86C-D6F1B3E0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5EC2C7-627E-4F24-942D-79C01C0E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D09F77-3DF2-4BC5-B1B9-255FA636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7548A-9E76-4F8E-BE41-F05F0E81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721B4-7B6F-4712-BB3D-013A041D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6B43A-24CC-4252-95B8-377798D8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8BD3E-2710-4710-92D3-DB67E297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CF119-62EF-4B83-B2D2-F13FB913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D89-EF4E-4749-9613-741B87BF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5EDB8-82FD-4C75-A273-C961DF30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AB97A-86D4-4D64-9F09-AA90074D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45170-AE6F-4905-96E7-44732AF7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F1245-40DD-4D38-9C40-4F1CE902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F3151-1BEE-412E-BDF4-5FC62D4C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ED7F1-84A0-428B-BE77-5C2039D4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5C09A-7F83-4A3C-8090-3C623E5A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E01C-C685-4A63-B79D-E32CF76323C1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4833-E105-44DA-9072-97E37F9292FA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D6ED-6F8B-46D8-81F8-38C7564648C0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F062-74D8-46E8-B861-994F044DF8D1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9C86-77C8-417F-896E-D1F4CAA11F0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DE33-E1C7-4FA8-A5E4-6E73E9E912AD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72BB-1E7E-463B-A48C-4D86275C9E9D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C012-A432-40AF-A08E-9A58AC6203C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5, READING AND WRITING SOCIAL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Writing Social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 Guideli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proper grammar and spel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 style guide (such a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he Elements of Sty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derstand functions of scientific report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Basic Consid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di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 and Length of Re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im of Re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ization of the Rep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pose and Over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vide a brief statement of the purpose of the study and the main findings (in a journal article, this is the abstract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 of the Litera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it your research into the context of existing scientific knowledg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oiding Plagiaris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lagiarism – Presenting someone else’s words or thoughts as thought they were your own, constituting intellectual thef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y Design and Exec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de the population, the sampling frame, the sampling method, the sample size, the data collection method, the completion rate, and the methods of data processing and analys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sis and Interpre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esentation, manipulation and interpretation of data should be integrated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mmary and Conclu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 significant findings in the context of the larger project and existing scientific research, review shortcomings and make suggesting for future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Guidelines for Reporting Analys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maximum data without being clutt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quantitative data, presenting data such that the reader can recompute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all aspects of quantitative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deta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 supporting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 explicit conclu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out qualif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clear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oing Publ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In most journals, each article beings with a/n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ble of cont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bstra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most journals, each article beings with an abstrac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ding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ing the Internet Wise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riting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Reading and Writing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Most original research is seen as a/n _____ of what has previously been learned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lac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n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st original research is seen as an extension of what has previously been learned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3. Which of the following questions might you ask when evaluating data on websites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ho is the author of the website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s the site advocating for a particular point of view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oes the website give complete references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ou should ask all of the following questions when evaluating data on websit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o is the author of the websit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the site advocating for a particular point of view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es the website give complete referenc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 following should be included in a research repor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pose and overvie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view of the literat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sis and interpre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following should be included in a research report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pose and overvie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view of the literat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sis and interpre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Reading Social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zing a Review of the Litera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termine keywords (a key concept or populati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actice: Identify keywords if you were interested in criminal behavior among female college stud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actice: Identify keywords if you were interested in cohabitation among gay and lesbian coup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duct a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y of Congress, school library, online search eng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nowball 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ournals versus Boo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ding a Journal Artic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Abstract – A summary of a research article (states the purpose of the research, the methods used, and the major findings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kim the article, noting section headings and tables and graph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article in its entire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view the artic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ding a 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search Monograph – a book-length research repor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preface or introduc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book in its entire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ing Research Re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oretical Ori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arch 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p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rvey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ing Existing Statis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ion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Using the Internet Wisely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Useful Websi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arching the We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 Engine – a computer program designed to locate where specified terms appear on websites throughout the World Wide Web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valuating the Quality of Internet Material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/What is the author of the websi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site advocating a particular point of view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es the website give accurate and complete referenc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data up-to-da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data offici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it a University research si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the data seem consistent with data from other sit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iting Internet Materi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ments of a Proper Cit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RL – web address (uniform/universal resources locator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ata and time when site was access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uthor and title, if availa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ublishing information, if availa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ocation in print for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20:16Z</dcterms:modified>
  <cp:revision>7</cp:revision>
  <dc:subject/>
  <dc:title>Slide 1</dc:title>
</cp:coreProperties>
</file>