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CC9-77C2-493E-9C67-17D45E5EE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016-FF03-4937-B6F9-12BCD4099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6DE-341F-481A-945B-EB63DEC2E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11E-ED70-432F-A8F9-BB5641980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F5B-B0FF-4CBA-B979-75C57CD37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8AC9-00CF-477B-B096-791F4F698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8CC9-F582-4FB6-BF78-A645ABF0F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886-0EFE-47F2-B177-5231225C2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67D-716B-42B8-928D-0661728F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B7D-1C20-48F5-B44D-3FF530FA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4F6-B9D3-4874-986E-0F65F9A1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B8A-BCA7-41C5-9249-5B4333B8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773F-D5C4-4D59-A059-093F18F8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A69-0A09-4822-8490-949FB5DB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54E0-959B-42C3-985A-53E093AC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EC4-BC8B-4BD0-994C-6F5F8077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FC7F-8B04-48BF-8EB3-B7FF51C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5756-FEF9-4258-9E5D-242C92D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DF50-6903-428E-9CB8-143AD32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7B8-1A4A-46DB-A0CF-498FBABB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B66F-0858-40A4-8729-B6780734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63C-A390-4C96-B6D5-CAD9921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796A-5E5A-469D-BE40-7BB484A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428A-406B-45EA-9CFE-7D292DEB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476D-69E5-4938-8BAA-4475B262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A380A-59A4-4D50-AD0C-1A059595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3CACA-CCB2-42D1-B5CF-56D7781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CEC1E-BD77-4F4C-8D6F-5D05EDE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AAD6E-C2C2-410D-AB46-C0DE514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7301F-2C01-4B0A-869F-54703869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17F-6F81-43E2-8AFF-0C40009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22203-3A1C-42A2-BA5F-5D9D1643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C38F6-27A6-4080-AB33-C6A5602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9AF5B-6B18-48FC-B9A2-64C5EE5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594F5-285B-4956-8985-01FF236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1CAEC-DD1B-4FA9-BDFA-0AF81F8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44C4A-A9A3-408A-A82D-BC2B88A0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5FE88-E8F6-462E-B506-16045F22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A0B5F-3F37-4E04-A960-4C1DA6BC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27850-7345-474C-8490-1E0607F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6EB92-4FE6-4F2D-BCD0-AD2D318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CB2-98D2-4E2A-BEB1-CC43E59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F1E48-98E8-459C-808B-615E309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B835B-1EE5-436D-A3DF-1CBFA518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CD2B9-1C6F-4E70-B2B5-BD85A2EE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54844-9C02-48BE-BD70-0DC853C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9556B-B26D-4082-9B30-EDD601E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EC2CB-6F6F-4FE9-8513-9F96284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9FC6D-6062-42E1-AE3E-EF02BA1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387E4-F502-4863-B8E8-3D0C622B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A656A-4701-4346-979F-7740E859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0BE7A-2BD0-409B-A28E-93321343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889-4070-474B-9ED0-2688FE0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7B478-257E-4109-A2C7-217EAE5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672C0-5CBD-4731-8BA3-773A540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D7B6A-4588-4043-94A2-3CEA572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456E2-01B5-4D4D-AB57-C68B810A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6ACA5-1E61-4748-BC8D-3ECDA238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9ABA0-A8F4-4335-A999-53EB37F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EF04E-E9A0-4B3D-8B48-0EA45D0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780A5-516C-4DFB-B159-AFCFF58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1A929-7040-4A6A-8A3C-30C02FE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09DAD-ECA9-4074-9D26-2A93FEE4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3BA-1269-47B6-BF56-7D0A18EB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5FF27-549A-47E3-818E-3520E205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2955F-4D6C-4504-BD50-4DCDB267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2B3B-E761-4857-A11A-97C33276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7F5A-45C4-4862-8737-9E997972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1CE2F-34A6-4345-BA31-481BAFA5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070B-5AFC-4548-BB9D-566F6CF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D615-F81C-4208-A2D4-C3BB4A5E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EA17-F1C3-4BEC-9AA0-283F340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15F1-2AC1-4C2A-99A6-D71FD17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8262-A0A0-493A-AB34-235904C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42E-FA2C-49B7-8535-ED482A9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350AD-8752-435A-B3DB-500AF0D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98C0-12BF-48DB-BAB9-3EE40A64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D1DA-E436-470C-84C6-5B9C59CC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6F33A-63BB-4F48-BBBE-FC30EB32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E9120-CA91-41A1-9072-E9D44365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87B0E-45EE-4F09-A23E-64A97C22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DC12E-80FB-44B1-8078-5D0B83F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C1945-BF01-43EA-AC9C-62A5D7AE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FA698-28E8-46CA-AA81-20E8AE8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6C1BC-0594-4DD8-8443-6561EF9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696-9802-4A06-B9F4-0172B592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40E9D7-39C1-4D4B-938A-CD76DD2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4EBFB-EB01-4F96-BD3E-48C1C04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D974F-F570-4154-BC45-2BA7753D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B68FD-7E81-4C64-9096-99ADC334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E65DD-4B9D-4115-8F58-0913EFFF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768A-FA9C-4B71-868C-E3884956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9D152-EB65-45A9-AA57-F700EC1B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AA82-39F3-411B-B48A-1179DF6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3CC5-B789-444B-83F4-02B4D4F4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FE88-6950-4ADE-8E74-1F13833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9AF-8CD4-4D04-82D9-3B666A8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20992-5E87-4B04-B922-CA7B5C9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A261-79E5-4BD0-A201-639534C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FEBD2-9924-40EA-8BC8-17B8BF97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22EB7-62B2-476F-8149-DA8069C4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B023-F0F7-4635-B748-9A6E7CCE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94C28-30CC-4C64-974A-E0FEEF84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003E-D4E0-44AF-B4F1-2B8026E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95B-2D30-4389-AD97-57DA516F38E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1B4C-D946-44A1-BC9D-292871833011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DE5B-6CFA-4A6A-B73A-C488084853B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5A0-C245-4711-A63E-D688B39EEF8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6DF-3784-4C2D-ACCF-6383E8E00A6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5FDD-D082-4F3B-AFBA-2BB2BAD88D5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D68-E120-4ADD-9287-4BABB32C08A2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9244-6F97-4927-9B7D-20F36AB82DA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5, READING AND WRITING SOCI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rit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proper grammar and sp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yle guide (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e Elements of Sty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functions of scientific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Basic Consid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and Length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 of the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a brief statement of the purpose of the study and the main findings (in a journal article, this is the abstrac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t your research into the context of existing scientific knowled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oiding Plagiar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giarism – Presenting someone else’s words or thoughts as thought they were your own, constituting intellectual thef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y Design and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the population, the sampling frame, the sampling method, the sample size, the data collection method, the completion rate, and the methods of data processing and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tation, manipulation and interpretation of data should be integrated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significant findings in the context of the larger project and existing scientific research, review shortcomings and make suggesting for future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Reporting Analy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aximum data without being clut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uantitative data, presenting data such that the reader can recompute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all aspects of quantitativ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suppor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explicit 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out qual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cl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ing Publ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most journals, each article beings with a/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most journals, each article beings with an abstra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the Internet Wis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ading and 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Most original research is seen as a/n _____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original research is seen as an extension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3. Which of the following questions might you ask when evaluating data on websit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should ask all of the following questions when evaluating data on 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should be included in a research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following should be included in a research repor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Read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ing a Review of the Liter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keywords (a key concept or popul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riminal behavior among female college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ohabitation among gay and lesbian cou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uct a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y of Congress, school library, online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owbal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urnals versus 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Journal Arti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bstract – A summary of a research article (states the purpose of the research, the methods used, and the major finding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kim the article, noting section headings and tables and graph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rticle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view the artic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 Monograph – a book-length research repor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preface or introdu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book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ng Research Re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etical Ori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sing the Internet Wisel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Useful 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rching the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 Engine – a computer program designed to locate where specified terms appear on websites throughout the World Wide We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valuating the Quality of Internet Material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/What is the author of the web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ite advocating a particular point of vie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the website give accurate and complete referen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up-to-d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offici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t a University research 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e data seem consistent with data from other si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ting Internet Mater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of a Proper Ci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RL – web address (uniform/universal resources locat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ata and time when site was access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thor and title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blishing information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cation in print fo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20:16Z</dcterms:modified>
  <cp:revision>7</cp:revision>
  <dc:subject/>
  <dc:title>Slide 1</dc:title>
</cp:coreProperties>
</file>