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C637-EF84-44E1-A89D-7C5CB2420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8518-F42C-4595-B36B-84D2F644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8197-6071-44ED-B469-5ED46D057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E05C-59EC-4594-9546-AE0E5F7F3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C1CF-5D74-4CBA-B401-5E9F8FC44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4765-5396-429F-B6DD-A1135AEF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B48F-7277-4DCF-81A2-30B8C379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C431-ED6B-40F2-8318-9898D343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CFA9-97C5-4F9D-AB99-DD3A98E9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F931-A0DC-44FF-B322-5BB83609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F41F-7195-4D55-915C-FE77EDDB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A4BF-258B-4324-9265-DB58C160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03B3-BE06-476F-A92D-7B09E09F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62A3-AEBB-49C6-817C-7CBD4687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0525-B42F-4C78-9503-0E2D6943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2F8D-B01C-43CD-BA03-729F54315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E5B6-B9EE-4478-B3DD-4942E776F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7376FC-0E3E-4496-9432-8BE9EAF8A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4F7325-6389-4EC0-B063-3563DD5F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F928DB-272A-4715-AA3A-C7F09243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BF3F0E-5644-47CE-8995-B03187C9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B3CACC-1F65-4AC1-B5C3-752BFEB0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6D49-671A-4C25-AA4E-29775253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8E6187-5D8E-437A-A7CA-F6AE19DB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CE62FE-7FB3-4423-8754-27B29C89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04A668-4155-46EC-8B3A-E4AC6E4A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5B6A73-F60C-4E42-9642-71670352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55E7D0-26BB-423F-BDC2-C2293394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D3C731-2BEB-4D64-BD96-70ED96F9E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518028-2250-43F1-92EB-67272E5C1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14E31A-2D62-4184-86A0-F8F7D2E64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748FE6-F2CA-4CF9-9114-15B9824E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43AA45-EFEF-4E10-B5F4-01908D28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3612-F5BF-409E-A085-4DD6B103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249BC6-69BB-446C-8BA7-340B764A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720C96-3513-4214-8D79-80BF7BC4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A5CD27-1994-43FB-BA68-CFE2A571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F3CCD6-15EC-4879-B420-2BF5C1CB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7928CA-D0CD-4667-839F-8B68AE71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869F70-FD2A-4C63-B534-A92403B7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075EB0-39F5-492E-AD1F-5024F035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F01BFF-6F6F-47FF-95C2-222338548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4D99C5-47FB-4B8C-A2CB-A9E028C82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B1E46B-6AEF-4E3F-A4E4-85185451B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498E-A32A-404A-97AF-238C2457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F7DF79-E5EA-4764-A429-7FE947EA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A17C17-7313-4004-A615-C84B48EA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291D23-1C93-4581-8B3F-70AFD081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487A19-1EAF-45DD-A3B9-8A800346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F76620-3445-4647-9E68-A91DEBB5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986E4F-6C56-4F1C-90F3-1223FE8A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2DF332-303E-42A5-8255-725094BE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FFF610-CB08-42C3-A5BF-E28CE105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6958AE-44C7-497F-969A-B1ACC695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5065CD-2E0B-4681-AA19-F133B57E9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76F2-D1D5-498A-9D6A-BCF92595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176AB9-C657-40A2-BF69-2F3CA0CA5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1C99C-4064-4FF9-BC43-4711BF02F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0130A-3AAC-4FAF-971A-8F69966F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2FC87-8610-4398-A6E1-36EAC097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73C7A-D3A1-49B9-8844-0074AFC3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36414-83E7-4C8D-961B-EC947928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9006D-79D5-4D2B-B337-13E67FBD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E7C70-925C-45D6-8AB4-F550076D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45178-95C9-4BF8-A177-9258B797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C7C8B-AF0C-4DA6-96DD-101BDD07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DE08-8B80-4C41-952A-FBBDABDB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24DB9-BB91-4676-A818-F3C5060A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8393E-3F6F-4B8E-B91B-CB870FC0D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D3D5E-E517-49B1-B8B7-7F062D75C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81567F-9862-49F6-9556-EF20868CC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37B790-561C-496D-B6AD-E74D6A3F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76228C-DDB0-4338-A602-680BE329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A30AED-B80E-4B4A-9658-63DB01D3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933F8F-3C2D-42AB-8E5B-E79CFA09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389C6B-BB15-4CF9-9C68-783DE74E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80C2A4-9920-4C53-8EB9-EB3CDBD4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6B99-C82F-4B4D-8BC8-286B251D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607B2C-003E-45FC-8BF3-BAC2F5F3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A6425D-EE4D-4938-97DD-80DC7E33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30CBBD-8E90-4F4D-8583-91E070D7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7D781E-9ABC-4402-8C37-EC0A33991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7BC1CD-5EE8-47A6-9C66-20E3CB2CB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52E1E-562C-43AD-9393-2853B361F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67032-E4E6-4ADD-ACEA-220ED546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EBB9D-1B44-4F26-8341-0CFFDEC9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53222-1A05-4754-B32B-87C4027A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244BB-EF7D-434C-BFA3-2EF33B05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A344-9C4C-4E0B-AB2F-17A61588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6FE07-6C52-4DF3-83FD-8CB3EE17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61840-E941-4CCC-8271-16141CD8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A6AED-2272-4EDC-820D-440CB6B4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665E2-39DE-4BD7-A43D-FAD35A82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63717-6E99-4FAE-AEA9-3A850584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AE1B0-CE11-4594-8FD7-5E5514F8C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75ED3-B6A6-453A-A853-D20B9F2D2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76C4-91C1-42ED-82DA-B311B8A2A115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30A9-CD64-410B-BE9D-96A92A5A62DB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6C38-8034-4FF6-B885-3EB90E637D20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F6E0-3653-45ED-B4A8-B9236F324C8F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3EBE-EAAD-4CEC-87E3-B56188B1E374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97CD-EA9F-4D9A-BE53-319646BEF7A3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B536-23ED-4736-9DCF-6068654D975C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0516-DE56-4591-A979-01F076A77B4D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4d4d6"/>
                </a:solidFill>
                <a:latin typeface="Verdana"/>
              </a:rPr>
              <a:t>CHAPTER 12, EVALUATION RESEARCH</a:t>
            </a:r>
            <a:endParaRPr b="0" lang="en-US" sz="40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gistical Problems – Getting subjects to do what they are supposed to 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ion research occurs within the context of real lif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e of Research Resul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y evaluation research results are not always put into practic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mplications may not be presented in a way that is understandable to the non-researcher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sults may contradict deeply held belief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searchers may have a vested interest in the result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Social Indicators Research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indicators – Measurements that reflect the quality or nature of social life. Social indicators are often monitored to determine the nature of social change in a socie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eath Penalty and Deterr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uter Simul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Why has evaluation research grown in popularity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ederal requirements demanding program evalu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availability of research funds to fulfill federal requireme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th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valuation research has grown in popularity because of federal requirements demanding program evaluations, and the availability of research funds to fulfill federal requirement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_____ aim to determine the existence and extent of problem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ngitudinal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eds assessment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st-benefit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nitoring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eds assessment studies aim to determine the existence and extent of problem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_____ provide a steady flow of information about something of interes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ngitudinal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eds assessment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st-benefit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nitoring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nitoring studies provide a steady flow of information about something of interes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pics Appropriate to Evaluation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mulating the Problem: Issues of Measur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ypes of Evaluation Research Desig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Indicators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thics and Evaluation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Besides making measurements relevant to the outcomes of a program, research must measure the _____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imary cau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gram interven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rtiary effec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esides making measurements relevant to the outcomes of a program, research must measure the program interven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 A research design that involves measurements made over some period may be defined a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ime series desig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asi experime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ultiple time series desig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research design that involves measurements made over some period may be defined as time series desig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. _____ is a form of applied research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eriment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erview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eld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valuation is a form of applied research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. _____ determine whether the results of a program can be justified by its expens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ngitudinal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eds assessment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st-benefit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nitoring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st-benefit studies determine whether the results of a program can be justified by its expens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8. A key variable for evaluation researchers is to measure the _____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pendent vari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pendent vari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sponse vari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key variable for evaluation researchers is to measure the response variab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valuation Research – Research undertaken for the purpose of determining the impact of some social intervention, such as a program aimed at solving a social problem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9. _____ are distinguished from “true” experiments primarily by the lack of random assignment of subjects to an experimental and a control group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ime series desig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asi experime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ultiple time series desig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asi experiments are distinguished from “true” experiments primarily by the lack of a random assignment of subjects to an experimental and a control group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10. Professor Yee wants to do an evaluation study of the effects of a patient education program on patient anxiety. He uses one wing in a hospital for the experiment and compares the results with a similar group of patients in a similar wing in another hospital. Which design would be best?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lassical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nonequivalent control group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ime-seri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posttest-only control group design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fessor Yee wants to do an evaluation study of the effects of a patient education program on patient anxiety. He uses one wing in a hospital for the experiment and compares the results with a similar group of patients in a similar wing in another hospital. The nonequivalent control group design would be bes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1. Evaluation researchers encounter more logistical problems than other researchers because evaluation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ccurs in the context of real lif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akes long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s more costl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as more measurement problem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ines more variabl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valuation researchers encounter more logistical problems than other researchers because evaluation research occurs in the context of real lif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Topics Appropriate for Evaluation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Needs assessment studies – Studies that aim to determine the existence and extent of problems, typically among a segment of the population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ost/Benefits Studi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Monitoring Studi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Appropriate topics are those with practical significance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Formulating the Problem: Issues of Measurement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asuring the “Unmeasurable”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asuring Experimental Contex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pecifying Interven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pecifying the Popul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w versus Existing Measur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ionalizing Success/Failu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Types of Evaluation Research Design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erimental Desig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asi-Experimental Designs – Nonrigorous inquiries somewhat resembling controlled experiments but lacking key elements such as pre- and post-testing and/or control group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ime-Series Design – A research design that involves measurement made over some perio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nequivalent Control Groups – A control group that is similar to the experimental group but is not created by the random assignment of subjec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ltiple Time-Series Designs – The use of more than one set of data that were collected over time, so that comparisons can be mad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alitative Evalu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most effective evaluation research combines qualitative and quantitative component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8:51Z</dcterms:modified>
  <cp:revision>8</cp:revision>
  <dc:subject/>
  <dc:title>Slide 1</dc:title>
</cp:coreProperties>
</file>