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281-B6F2-4852-AA08-F9D805D6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F94-1294-4DBA-B603-3DD2AA2B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0DC-91B0-417F-B741-B74E8038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E71-A2AD-4101-BD9C-09352C8B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1A0F-08B9-41BC-B874-2C1DE194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F4EA-232A-4122-8805-8BB0D776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EBB4-899C-4F1F-99C5-B65D28B6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0AA8-D6CE-49AA-B328-F8F97D2A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1BF7-A973-4396-A869-71560E6C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676A-4C8F-4341-8A7C-3247A35C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915E-E1AA-4E47-864B-2C114C1E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DFF-0426-432A-ADF0-B496B71B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A9E9-71B1-45F5-8212-03BE5021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B56A-C342-41EA-A852-858839A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4D84-15D5-4C93-A559-A5E9C0C2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40BB-2D3A-40D1-8C11-64AF28E3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902D-F661-49DB-AA02-39F38D3E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58C22-D3A4-40F8-9EA1-573B5EB8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7E8F4-3219-48A4-8928-E2FA20F3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E8DEA-6D26-44CA-BECA-5FFD4672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3AAB4-F4C8-4960-8DE1-5D81FB68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89E01-67ED-445B-9E98-D69F4194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84F-5800-4AE9-A97C-B0D8DC9C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E8BEC-DEA9-490B-A681-B3C53993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AB83D-AF6A-48E0-9765-5570AAD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66378-1EE5-406F-9E0E-AABAF20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DEECF-5979-4F75-9C56-EE0944CE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68BC4-E251-4E7D-BC63-83F139D2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08A16-8ECC-4B42-8B6D-A8D90ADE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36E8D-37F5-4DD3-932B-F402D0F0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95568-1DB0-4659-922A-4131CD36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4F167-0E68-47E7-9246-C723CFF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CBF4B-746F-49B4-A04B-967F10FA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178-FD6A-40D3-88D2-6763807B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1D3C9-0AD9-4009-B05E-0AA9C803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7208B-2592-4D36-9515-C6AD29ED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29F25-8367-4DA9-93C3-1F46CEBF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CA271-3AA0-49A9-957A-314191B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5BDE7-BAD5-42C8-BBEB-0D1A51A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AFEB2-4B84-4B9E-B621-001A779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2D749-AAB1-405E-BD16-7FD588A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EF668-D859-4A99-83E0-65FB43A6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507D4-BD12-494F-9338-86D54D52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B2BE7-E107-4700-B178-839DAE2B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4BB-5DB0-4989-8607-44F870C5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E901B-C9D1-471A-9A2B-DC4C6E84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8AA4A-0B86-47B5-97F8-6CE2F4D9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D2B89-DEE3-4E50-85FF-3F940FF9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FAA92-91C3-4F62-9110-F919EDF9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DBDB4-B19F-457B-9DE5-683D255B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A4089-09B1-4543-8B8B-E91EF13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E690E-3998-4D95-86ED-C2DE42B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36F33-93F3-4BB1-8E04-14968D0D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7B507-512D-4759-BE81-5742B4A6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FE474-D4E9-41B2-8AD1-7A1F55B5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F04-F41D-4516-82C7-2BE9F94C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89F73-F402-4E47-B4D8-1EB5CEBB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1C44E-86CA-49E2-92F6-143179FD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F131F-2FBF-4799-AC9D-3E10A94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C455A-3F5B-4935-A298-50EFA17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CC705-73E4-4480-BF23-67858BCA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9BBD8-468A-406B-80C6-2B118925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C55B4-BC61-4FCC-B625-035108FC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FB899-338C-4795-AA97-B0C618A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F4648-90CD-4F66-A57C-FC4BFEB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11B8B-66A5-448C-9804-0DA2015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2CA-31F5-449B-BF61-B1F58886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5B08F-127A-492D-AA54-CD812ED3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7E1A7-0C24-4F8C-B081-A0A2B251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C1ECB-6623-447A-A112-328F39F9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BEA91-47B5-418F-9347-26008BD8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1C192-564F-4045-9340-88D2773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92722-7D6D-4296-8159-93FC8114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A6EB0-8F18-46D1-8F2F-04234291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528A4-4643-49F5-9856-C1033A23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E5106-69FD-4D9F-AE93-BAB8572F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6812E-0234-479D-BEEE-A16FAD1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7CA-07FE-4DFB-8245-77C7BE9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2153B-B8EA-4707-9F06-DC702C9D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338EE-57D2-4ED0-B9F8-B3FCF72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B9EF9-CD18-4A16-BE18-AE04126A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F3041-A97D-4226-80F5-7AAF8968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6910E-E97D-4FDC-AB7E-3D46F343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4B437-5EF3-44B2-8A0A-A649FB29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7F6B9-AB9D-416B-962E-2CDD5954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26CFF-29AA-4BFE-8DEF-DA7768FB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91EBA-E2E6-43D3-B2B5-71B3EA51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9A4C1-AB29-4E38-9FF9-DE7804AB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D88-4FC0-4FAD-81F4-FC0355C6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8B91E-C592-47E9-8F06-E887535A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C9ABC-7E44-41C2-9B55-A66ECA01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244A7-6B7D-4B7F-BEF4-71BE2D9B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62E98-3DB2-4446-8B60-BF402BDF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CF776-2ECD-405D-8EC9-1C1F216C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4D5BD-9864-4ACD-9B17-342E8789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37407-B891-4EA2-8867-9B3F0337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BFBF-71CC-4A9B-992D-7AB6935F12D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348B-F80E-4739-A870-1D31148EC67C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616E-9C7B-4634-8466-EE5E675EB6D0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3B08-1F17-4414-A00F-E0F16708008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B6FC-733E-4E90-8C99-81A817A9E7E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B692-286B-4B1F-8127-4C1CB27A25F5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8B38-CFD4-4E9F-8310-466CEE3EB714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9728-67B1-424A-BC2D-F7CA8D777A5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2, EVALUATION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stical Problems – Getting subjects to do what they are supposed to 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ion research occurs within the context of real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of Research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evaluation research results are not always put into practic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ications may not be presented in a way that is understandable to the non-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ults may contradict deeply held belief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ers may have a vested interest in the resul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ocial Indicators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– Measurements that reflect the quality or nature of social life. Social indicators are often monitored to determine the nature of social change in a socie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ath Penalty and Deter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Simu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y has evaluation research grown in popula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ederal requirements demanding program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vailability of research funds to fulfill federal requir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has grown in popularity because of federal requirements demanding program evaluations, and the availability of research funds to fulfill federal requirem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Appropriate to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ulating the Problem: Issue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Evaluation Research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Besides making measurements relevant to the outcomes of a program, research must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interv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 eff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ides making measurements relevant to the outcomes of a program, research must measure the program interven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A research design that involves measurements made over some period may be defined 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research design that involves measurements made over some period may be defined as time series desig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key variable for evaluation researchers is to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key variable for evaluation researchers is to measure the respons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– Research undertaken for the purpose of determining the impact of some social intervention, such as a program aimed at solving a social probl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_____ are distinguished from “true” experiments primarily by the lack of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 are distinguished from “true” experiments primarily by the lack of a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0. Professor Yee wants to do an evaluation study of the effects of a patient education program on patient anxiety. He uses one wing in a hospital for the experiment and compares the results with a similar group of patients in a similar wing in another hospital. Which design would be best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assic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quivalent control group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ime-ser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sttest-only control group desig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or Yee wants to do an evaluation study of the effects of a patient education program on patient anxiety. He uses one wing in a hospital for the experiment and compares the results with a similar group of patients in a similar wing in another hospital. The nonequivalent control group design would be b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. Evaluation researchers encounter more logistical problems than other researchers because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s long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more cost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more measurement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s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ers encounter more logistical problems than other researchers because evaluation research 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Evaluation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eeds assessment studies – Studies that aim to determine the existence and extent of problems, typically among a segment of the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st/Benefits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ppropriate topics are those with practical signific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ormulating the Problem: Issues of Measuremen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the “Unmeasurable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xperimental Con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Interven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the Pop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us Existing Meas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ionalizing Success/Fail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ypes of Evaluation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-Experimental Designs – Nonrigorous inquiries somewhat resembling controlled experiments but lacking key elements such as pre- and post-testing and/or control 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-Series Design – A research design that involves measurement made over some peri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equivalent Control Groups – A control group that is similar to the experimental group but is not created by the random assignment of subje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Time-Series Designs – The use of more than one set of data that were collected over time, so that comparisons can be ma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ost effective evaluation research combines qualitative and quantitative compon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51Z</dcterms:modified>
  <cp:revision>8</cp:revision>
  <dc:subject/>
  <dc:title>Slide 1</dc:title>
</cp:coreProperties>
</file>