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CAF6-36FB-44F7-93D8-7EC951D74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0799-CB1E-4955-A7FF-C8E48B8707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A19D-6A6A-473A-8B17-81F0C8B8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0A71-AE31-4562-A0E0-42B8A81D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CDAE-24FE-4329-885B-CDA4DB92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EA53-2FEB-4A8C-8061-6BC15E2F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DCFD-8AAB-4338-BA49-8D2EEDE9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017F-43D6-42BD-ABF8-2F98DF8A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012F-B804-4546-B379-EEC0772F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50E6-6CCC-465A-8CD2-10597761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78CB-CA12-403B-9B6F-886F17C7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127D-7EA4-417E-85F1-681EC5C5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84C2-0A9E-4B57-9468-38F21982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ECB-3C7C-4BB0-871B-135379C4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A9D2-7CF1-4992-9D31-AE765FB4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3582-08B7-42D2-99D3-33A43429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4A78-9F01-452A-877E-CE84D1A1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4EAD-C005-47E7-90BF-46610FA1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B16C-99B4-4C66-A272-858071F7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5AB91-E547-4C08-AB1E-262A746B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97E01-7D94-49FC-ABD9-C097347C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74FD5-7F2A-4348-AD1B-C9BD1CB7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403C1-7ACC-4C68-A2E3-9DEE96B6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42FF8-9CCF-465C-88A2-96426E15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AFD-25DC-4E4C-8387-083882ED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3B9EA1-6402-421C-917D-E153C91B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3002D-B257-4042-9828-4B475F88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6015C-A499-45B1-8070-23DC1F5B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6E57CC-5418-41B4-9399-39B7E935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84121-90A7-4767-89A1-B726F8CC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052E5-B482-43A5-A247-16F40667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49F2AB-8446-405A-80BE-60CF560C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1908BE-D8EF-4C72-A989-CCFD3AA9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E6941F-1096-489D-AB28-F9776FF3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CA7AAA-B0D8-4696-9DF1-70B4E42F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20CC-4BBA-441B-960E-F3E4BFE2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04741F-76A9-411B-ADAB-12DD5B45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5732F7-6E70-4164-999C-E51D08E6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FA4177-B584-4D99-8BC0-43B554C2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3B31FF-C61D-447D-9FB1-C0D88AAE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B04AC6-65D8-42BB-BA2A-ECCD2FBA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56E0BD-1D40-46A9-B554-A5E75346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319B1D-6266-46CE-AFC7-ED8C8473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8D7CCA-6B2A-4A98-90DF-1018A4FF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D74941-BDEB-4D0E-8291-DF7A7D87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C1A195-D99C-46BA-AC37-D43554BA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F399-59D2-4FF0-9612-2DE62DCA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ECB582-DFB6-49F5-90C0-CB57451E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7C88A0-E5B6-4384-9042-86192F22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4D412F-9384-42EB-9CB4-B297979E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2F4BB-A805-4AE7-84C3-4ABE79BA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AE0E9C-6584-40ED-80DF-114C73BD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8CEE15-03FE-4179-866C-FECFD2F1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2DDB4-BF8E-46E6-8872-13EA0671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E27A04-73B9-4044-BC03-2D766DE4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79585-E6E0-4825-8C9B-6A53E005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5F18D-1835-4648-9387-2D0AE34B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1AA-59C0-4DAC-A07A-0A5A11F6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1E813B-4365-4DFE-9DBC-115B1C21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9E88A-7543-4084-A56F-C742A846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FB6ED-6F92-4BBB-B020-56FB0987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C3536-AD3E-4D8C-8C4C-B380C86D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1F009-B163-4912-9B7E-D70F8FA1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626E7-2531-4281-BCA4-483CFD49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20870-EC85-4F6D-B01A-58C331D8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7F2C4-3B59-41C4-B09B-2BEC8DD4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BE568-7AF9-48AA-907B-A3298F82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7D2BE-A26E-47D6-9D51-D446C5A8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836F-C31E-447A-A69B-58D500B3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4016C-0FB1-49FC-B11E-F11F5152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BE18E-C3FE-4C29-A3A8-7E9D2181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5520D-AC06-4009-8A23-5ADE7007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384219-F747-43CF-828F-F208781E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FD1DFA-BCCA-474A-B6B5-DB2261D0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166040-B2BC-4844-B630-2EA011AC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83893A-9D7B-4DC7-ABE2-026992B4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526B71-7003-4A7C-B33F-039A42EB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26F3CE-5AE9-4139-B331-7E36226E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CAABDA-53DA-49D5-8A44-694B31E4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00F-4685-4FBC-9175-FBC01F0D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06FDD0-724E-4527-B0B6-136871DD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4E4D38-B69E-4963-9C9C-1B66AFB4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76E627-A0A5-415A-92DB-5199650C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C5529B-4529-4511-9262-DE955CEC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332FCB-761A-4514-9615-0AEB0D31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57DFD-D754-4A37-B073-5AEB2094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1C060-7AF0-4198-ABC0-F095E277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23B8A-AB13-4276-AA29-82E0B866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69226-BB50-48D7-8589-01D9440C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F6EBD-5D94-406F-8CBB-F1E400C9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CB4-AF22-4823-884A-1C8065A3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1AB97-6899-4E69-B9DF-46F51883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3BA45-7004-47AF-9ADD-747FF186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057C2-0C96-4F2A-98E6-DFBE5BF5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7B1CB-7B7B-4888-A14A-5CCFDE3A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E1FA5-5311-4B2C-822A-F165223E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C350E-B09C-4C9C-927E-21BE9E09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A0E0D-C892-4D77-9784-E8442A42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B921-AB2E-455F-AEF5-A9353E811883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BD25-9EC3-4100-8D61-ED91CDD4B10F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71B7-FDA7-4D80-9913-EB6D88F19F7E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479F-B5B6-4DB2-A7BA-731A8EE2EBBE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8207-1D04-43C0-8ECE-A2E31CC0EB83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529A-9E2F-4412-8A03-F3B6D23B1824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5283-D16D-47CE-9DAA-31A563686055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1F26-E411-4A5A-BBE9-37350381F971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1, COMPARATIVE AND HISTORICAL RESEARCH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ding in 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ding – The process whereby raw data are transformed into standardized form suitable for machine processing and analys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ifest Content – The concrete terms contained in a communic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tent Content – The underlying meaning of communic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3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28440" y="1600200"/>
            <a:ext cx="4227480" cy="3657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4645080" y="1725480"/>
            <a:ext cx="434664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ualization and the Creation of Code Catego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perational Definiti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evels of Measuremen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unting and Record Kee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d product of coding must be numeric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cord keeping must distinguish between units of analysis and units of observatio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cord from the base from which the counting is don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28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ative Data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egative Case Testing”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ips for Avoiding Dange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 cases at rand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at least three supporting 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k others to review interpre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ort 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llustrations of 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trengths of Content Analysi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nomy of time and mon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ing for the correction of e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its the study of processes occurring over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has little (if any) effect on su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eaknesses of Content Analysi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mited to recorded commun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Analyzing Existing Statistic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analysis of existing statistics is not the same as secondary analysi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xisting statistics may be the main source of data or a supplemental source of data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xample: Durkheim’s Study of Suicid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xample: Kentor’s Consequences of Globalizati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its of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y nature, existing statistics describe group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cological Fall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zing Existing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rative and Historic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ics and Unobtrusive Meas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lems of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gical Reaso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pli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lems of Reli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 of Existing Statist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urces of Existing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tistical Abstract of the United Sta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vernment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ographic Yearboo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N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Comparative and Historical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rative and Historical Research – The examination of societies (or other social units) over time and in comparison with one anoth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s of Comparative and Historic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ber and the Role of Id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apanese Religion and Capitalis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urces of Comparative and Historical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3056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tic Techniqu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Which type of research does not require the researcher to intrude on what s/he is studying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ntitative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litative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rvey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obtrusive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obtrusive research does not require the researcher to intrude on what s/he is studying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Which of the following may be examined in content analysi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gazi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bsi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obtrusive Research – Methods of studying social behavior without affecting i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: Durkheim’s analysis of suic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es of Unobtrusive Re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tent Analysi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alysis of Existing Statistic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mparative and Historical Analysi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s, magazines, and websites may be examined in content analy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Which of the following occurs when you obtain a copy of someone else’s data and undertake your own statistical analysi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ing quasi official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ing official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ary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ary analysis occurs when you obtain a copy of someone else’s data and undertake your own statistical analy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Which of the following are types of unobtrusive research method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sis of existing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rative and historic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analysis, analysis of existing statistics, and comparative and historical research are types of unobtrusive research method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Which of the following are usually qualitativ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eld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rative and historic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eld research and comparative and historical research are usually qualitativ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_____ are the individual units that we make descriptive and explanatory statements abo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its of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tifa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its of analysis are the individual units that we make descriptive and explanatory statements abo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In the content analysis of _____, sampling may occur at any or all of several level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ritten pro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levi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ntern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ontent Analysi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Analysis – The study of recorded human communications (i.e., books, websites, paintings, laws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ropriate Top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o says what, to whom, why, how, and with what effect?”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e content analysis of written prose sampling may occur at any or all of several level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. Existing statistics should always be considered a _____ source of dat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ima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pplemen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rtia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isting statistics should always be considered a supplemental source of dat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9. When we base research on an analysis of data that already exist, we face problems of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eat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id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er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we base research on an analysis of data that already exist, we face problems of valid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violence on TV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elop operational defini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cide what to obser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cide how to code/analyze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pling in 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ts of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30481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unit of analys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are interested in how children’s literature portrays gender ro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are interested in popular film’s use of drugs and alcoho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are interested in sociology textbook’s definition of rac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are interested in the content of Internet Blog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609480" y="1562040"/>
            <a:ext cx="68630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mpling Techniqu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y conventional sampling technique may be used for content analysi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8:28Z</dcterms:modified>
  <cp:revision>11</cp:revision>
  <dc:subject/>
  <dc:title>Slide 1</dc:title>
</cp:coreProperties>
</file>