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7419-B20F-4585-BDE3-74E499A4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EEA-42B6-41B0-ABA8-58702756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220-965A-4A45-B6D8-111851C3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1A3-989A-4642-9739-EC69068A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C43E-E93B-4789-AC64-62A045B7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03EE-2B3F-4CA1-BDC8-A58EEC49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78D2-1A2F-4F98-AFB0-C03AEC7A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A2C3-C667-4A79-8639-45B766F6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D2EB-A8F0-46D1-90BD-4CFD4A29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166A-624D-4CCB-AD2C-428DBDBB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CFA2-A99B-4AC4-84EF-A69ACBA4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407-3D51-4676-8E1B-BE427577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A5C2-6E81-4B72-85DC-1CB82FBA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7028-5C2A-467A-8451-C9BD633A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5910-5C43-40CE-BA08-17E2A1BF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763F-D921-4DD1-94D4-97DD75C8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3585-AA8A-4769-A2FA-0F05CC76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F317E-B232-46D0-8F5C-3A5D17AE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4012F9-A0AA-4100-9B76-D87AB713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C4CDC-C06A-4E3C-9B5E-87B8591D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90B5C-FE6F-4F3F-A82E-CF740F9A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AB881-7694-42C7-BB63-8C6B2AA4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8365-F2EC-46F4-83F8-B4F34F53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95068-FF83-4DA5-B9D2-49C5BA85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EE756-29AB-4E23-A4CD-D0AB746D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65D82-4C76-4C1B-92C1-51707FCA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B6F19-FA80-4775-9BB5-4F50255B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A1B06-A68A-44A5-9D87-EF8F34D4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1F948-C591-478E-A5E5-716AEE17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7D2FE-D477-4C16-AE0D-1F303538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C3F88E-3896-4D17-8077-512B7351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0B6DB3-04FB-4112-BBF8-6F7B1032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F47D61-1BC0-4C85-B3C3-41D19934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229D-BEFB-40F6-BD6F-98A5EC8E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63950-1254-49B9-B979-0831AF0A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4D46D5-6EA6-444E-9DBB-DFE8B277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D1A26E-F9F7-4771-B3C8-41D8E2F1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2C12C8-F333-42C5-901C-76486BD1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0B801-9902-4A0B-8981-116625D1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5AB698-3BB9-4488-A64B-2B43351E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B8DDD-6659-4A7A-BD84-35F6DB0F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6BC37F-A047-4FF5-9A0A-45B60ED5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FE6689-80B7-4309-96B4-6FB8CED1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F11D59-8703-4124-8A4B-47ADB7CE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169E-7176-49E1-B7C6-5BC87E5A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8BB60B-8AE0-4D3E-8389-36694EA3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DA74B5-3484-4A34-BE7D-C6DCDD57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C0830-69C1-4B2A-997E-86F9C45A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ACE0B1-7AD5-4B01-9322-8172FF80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87B167-5351-4A35-9BAF-97933B64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CDCB97-BD69-4D8E-8188-0247737F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FAA9AC-A5EA-46AF-B33E-73F5334C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DF7F23-0A0C-4BF4-9AB5-F00CA91A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E3A15A-8322-4CD4-9DE2-D65F0BD7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77438A-14A1-4F91-8FFC-9C615129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6D3C-358F-4736-B432-C37BD000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AE9B13-0AF4-46F3-BF94-6A40CEDD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6B693-102B-40A3-8507-D3EFF58C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A2509-7A6B-4680-A828-1CD1B31D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18C71-215F-44BB-AF35-47B05154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5D4CC-0DBE-431D-812D-C3CB20EA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154E9-59DB-4944-9AFC-32FBB706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DB005-D9A3-4598-BAE9-8BA05ECC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EDC13-A502-4AC9-B2C0-F60B4FE0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4F3C4-43F8-4F37-80A9-548E381C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A27D3-AB0B-4AB6-B133-A8759B7E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9BE0-697B-4E81-A44B-866F67A0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3F31B-4B58-45FF-A9E9-FCB98C99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D6655-4DF6-45AF-A705-329EC3DD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2A4AE-C184-4085-85BE-8F606B9D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2235F6-791A-451D-87ED-5FC1207E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AFE060-2806-4A87-8ABF-6E2EFAA4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9F22C0-D7D8-47C0-B52C-D831826C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A75A54-7E9C-4BC2-979A-693AB085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E1669A-D890-42BC-A683-E5E45541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DBF1A0-7BF0-4E30-BCB2-C5434F3B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B8EA5D-5EE3-483E-8A5D-B0F028E6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A30-E8A3-4301-9DB4-8F90A506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6E2417-7F44-4758-9724-00BE4614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1426FF-FCC1-4F7D-AF67-7BA7AB32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991367-7833-4F69-BA70-4228BF10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FB1105-4860-4798-8A01-C3257E82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4AE5F3-CB65-469C-8BB2-5AAFE512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9AA26-163C-48F0-9622-C6C2050D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40650-0D82-4A3C-9B25-3AFD46A3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D0EC9-A6F0-474D-AF3E-AC502E33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BB46D-F54E-4080-BAE7-65279A8D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D97CA-D3FA-4EB2-850F-BFEBA6BA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0437-B706-4B79-B928-8A40A559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7CDA8-FEFE-40F0-82CA-F1A2FA51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00DC7-E150-476E-ADCF-3E8D8FBA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E11C9-2527-41CE-8218-B95956B0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B942B-894F-41B0-8A71-C06A898E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6E976-B5AF-4739-A950-87692A1E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B85A2-DD98-4A26-8298-4009B91E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B4DCB-3A63-4763-BE44-57201B97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C427-E787-47B5-90A5-77CCB1EF41B0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4D02-3D9C-4783-A1DA-DC86A2EE2260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2460-DD88-45D0-91B3-4D516681FB17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72D5-43AA-4E66-9666-F098A74BE34F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B84C-EBB8-4E89-B40A-FCB5C5700CE9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BAA0-60C6-4017-A44D-7C3F32E9D0E2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ABD8-04B7-421E-83B0-359A65CF30AF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D51B-E15F-4831-9DCB-F024A1AD7C0A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</a:t>
            </a:r>
            <a:br>
              <a:rPr sz="4000"/>
            </a:b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HUMAN INQUIRY AND SCIENCE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3962520" y="220680"/>
            <a:ext cx="5181480" cy="61038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5"/>
          <p:cNvSpPr/>
          <p:nvPr/>
        </p:nvSpPr>
        <p:spPr>
          <a:xfrm>
            <a:off x="533520" y="17524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cience = Theory + Data Collection +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, Not Philosophy or Bel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theory  has to do with what is, not with what should b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ory – A systematic explanation for the observations that relate to a particular aspect of lif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science can help us know what is and wh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Regular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ception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n’t rule out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ajority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 cas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: cousin’s brother’s sister’s aunt’s uncle’s nephew’s third cousin twice removed best frie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regularities represent probabilistic patter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ggregates, Not 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ollective actions and situations of many individual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cus of social science is to explain why aggregated patterns of behavior are regular even when individuals change over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s and Vari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– Logical groupings of attributes. (ex: sex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ttributes – Characteristics or qualities that describe an object (ex: male or fema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3848040" y="307800"/>
            <a:ext cx="514368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a6378"/>
                </a:solidFill>
                <a:latin typeface="Verdana"/>
              </a:rPr>
              <a:t>Figure 1.6 – Two possible relationships between variables</a:t>
            </a:r>
            <a:endParaRPr b="0" lang="en-US" sz="3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930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ependent Variable – A variable with values that are not problematical in an analysis but are taken as simply giv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t Variable – A variable assumed to depend on or be caused by anoth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Purposes of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pping out a topic that may warrant further study later (explorato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bing the state of social affairs (descriptiv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ing reasons for phenomena, in terms of causal relationships (explanato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Human Inqui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oking for Re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undation of Social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Dialectics of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ome Dialectics of Social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iographic and Nomothetic Explan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iograph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An approach to explanation in which we seek to exhaust the idiosyncratic causes of a particular condition of ev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io” means unique, separate, peculiar or distin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mited to the case at ha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mothet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An approach to explanation in which we seek to identify a few causal factors that generally impact a class of conditions of ev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neral rather than idiosyncrat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conomical” uses fewest explanatory facto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uctive and Deductive The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uction – The logical model in which general principles are developed from specific observa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duction – The logical model in which specific expectations of hypotheses are developed on the basis of general princip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Wallace Wheel of Scienc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8" name="Picture 4" descr="wheelofscience"/>
          <p:cNvPicPr/>
          <p:nvPr/>
        </p:nvPicPr>
        <p:blipFill>
          <a:blip r:embed="rId1"/>
          <a:stretch/>
        </p:blipFill>
        <p:spPr>
          <a:xfrm>
            <a:off x="1143000" y="14479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litative and Quantitativ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ative Data – non-numerical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ntitative Data – numerical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e and Applie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re Research – Gaining “knowledge for knowledge’s sake.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ed Research – Putting research into practi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Research Proposa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roduction (Chapter 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 of the Literature (Chapters 2, 15, Appendix 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y the Problem/Question/Topic (Chapters 5, 6, 1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Design (Chapter 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a Collection (Chapters 4, 8, 9, 10, 1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lection of Subjects (Chapter 7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thical Issues (Chapter 3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Analysis (Chapters 1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bliography (Chapter 17, Appendix 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The two foundations of science ar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adition and observ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servation and log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gic and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 and observ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gic and gener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two foundations of science are observation and log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Science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what should be and </a:t>
            </a:r>
            <a:r>
              <a:rPr b="1" i="1" lang="en-US" sz="29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with what 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n settle debates on valu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exclusively descriptiv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s to do with disproving philosophical belief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s to do with how things are and wh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Looking for Reality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nowledge from Agreement Re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sertions must be both logical and empir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greement realit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ose things we “know” as part and parcel of the culture we share with those around u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pistemology – The science of know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ethodology – A subfield of epistemolog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ience has to do with how things are and wh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When social scientists study variables, they focus 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ttribut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o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aracteristic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ationshi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social scientists study variables, they focus on relationshi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_____ is the science of know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llig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 tak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pistem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thod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pistemology is the science of know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of the following are true of tradition and authorit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both assist human inqui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both hinder human inqui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 are tru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ither of the above are tru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adition and authority both assist and hinder human inqui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_____ explanations seek to exhaust the idiosyncratic causes of a particular condition of eve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iograph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t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nife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iographic explanations seek to exhaust the idiosyncratic causes of a particular condition or eve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dinary Human Inqui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umans want to predict the future. Wh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e recognize that the future is caused in part by the presen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ause and effect patterns  are probabilistic in natur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diction versus Understan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d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hor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rrors in Inquiry and Some Solu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accurate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easurement devices offer accurac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generaliz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e tend to assume that a few similar events are evidence of a larger patter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arge and representative samples are a safeguard against overgeneralizatio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275480" indent="-212400">
              <a:lnSpc>
                <a:spcPct val="90000"/>
              </a:lnSpc>
              <a:spcBef>
                <a:spcPts val="4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plication – Repeating a research study to test and either confirm or question the findings of an earlier stud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ive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void looking for “deviant” case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oes “the exception prove the rule”?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r does this make no sense…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llogical Reaso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ambler’s fallacy”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veryone “knows” that a consistent streak of either good or bad luck foreshadows its opposite!  Duh…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’s Really Real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remodern View – Things are as they se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Modern View – Acknowledgement of human subjectiv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ostmodern View – There is no objective real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Verdana"/>
              </a:rPr>
              <a:t>Figure 1.1 – All of these are the same book, different “points of view”</a:t>
            </a:r>
            <a:endParaRPr b="0" lang="en-US" sz="36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624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Foundations of Social Science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oundations of (or pillars of) social science are logic and observ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ientific understanding mus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) make sense 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) correspond with what we obse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2:44Z</dcterms:modified>
  <cp:revision>31</cp:revision>
  <dc:subject/>
  <dc:title>Slide 1</dc:title>
</cp:coreProperties>
</file>