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B585-73C3-4536-A6D7-047E90BD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29B1-5B8D-40C0-BD25-FE185AD5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0FF4-EE6C-48A6-A39B-04514EB2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A9FC-AA52-4CA4-87C9-F7BF9506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D49F-C502-4C75-8969-2983237C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32AF-F9B1-4044-A2E4-B4EA0ADC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DE45-FD90-4E3A-91EE-9C6C80B3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459D-162A-42AE-93FE-D374BA04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5897-B76F-4F98-9AF6-A171B075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086F-1D45-438A-848E-3FC28A09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8A2C-7765-46CD-9BDC-97716217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5565-137B-4197-ADED-8E188E53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8B3B-0BE0-4E0A-87C4-7CCD0A94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0A6E-346E-4DD8-91F9-7EF2D634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3A86-739A-4E28-B668-D1AF3803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1C4F-4018-4A13-B6E8-CD910C52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57DD-BEB5-4EB8-BDCB-11B8897F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015C4E-29B2-46A5-907D-2A103982D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CFC600-22C6-4795-B8AA-93E17066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409364-07BB-4EFF-9780-58E857D5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EDDABD-E322-4918-95BB-515A8571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937235-2966-4A31-B72D-08E54F02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BD49-29E2-4ED5-82B4-27CE3A07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4E1265-C04D-432F-B102-A60B3CE5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0355A7-97D2-46DC-BDB0-A0D1E12D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2C9E4B-0930-40E3-825A-6E51AFC2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CDA715-2781-4DEB-A2BA-09311882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5B3595-B241-4A2D-9F00-816A4AB0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C01E9E-3601-4332-9F86-B5E6FF8B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49853-8CD0-42A8-8A1A-B1B23E80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9717A8-4A37-4D8B-8FB7-F51DF4B6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013A81-9FCC-4836-BF91-D85B5ED3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6A571B-93B6-4A92-8755-89A21596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1907-8901-4D81-9E0E-C21B1587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6024FC-B35C-4C53-9A69-9168DDDD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E31950-57D1-4551-B726-EDA7E032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57090B-D67B-4AFC-8DCC-A1A3318D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ACE568-BC25-4C64-A19F-77AFA0B2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E4D175-9603-4C88-976F-9034DF86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E83E5F-930A-4ADF-B18C-419F0744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24C412-9562-4ACA-BBC2-52A50BDD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C24DE7-23DA-4AAA-A1C4-0B4CF9E9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922E6A-1C46-4D8B-AA2B-D2262F54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AD8EED-C2F5-4EF8-991B-E3C46F55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C782-745C-4B12-89DE-F5299E91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EB36BB-A2A2-4C4C-92FC-A6F19FF0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638633-3DE1-450C-AA7A-3872DD50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F3D6BA-51BB-4440-9BC4-998B0D60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7640AE-61A7-476A-A547-600E1427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9AED8F-CFA5-4BDE-8BCA-FF5F6AFA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EFCBA2-9A39-4E2E-8B65-EA2327AE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2A08C8-DE3C-40CF-BE0D-D46F8A41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9902A7-E2FC-48BD-A7D5-4FA3132F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65DA09-B03D-4824-A4BB-27354397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7E922B-FA42-4776-AEA9-61C81938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4631-3D99-4F97-B8FB-6653113A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920FE9-85C1-4CD6-B320-C8B948A4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BB67D-2C95-445C-9675-94DE779F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F06D8-D7E9-4393-AFC0-7378B8E4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FCB30-FEC0-4B33-A902-1C9ACBA8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7B46D-ED94-49A3-888D-B1E77594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93CA2-6E84-4609-9C6F-2BF9973D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35CB5-3B3B-4616-A238-6C89813D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677B1-BDE2-47DF-8C40-F16533B0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67C42-4C96-48C1-8704-CE2E845E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2EAFE-8ACF-4030-ACFF-8CE43C01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EBDE-F522-4D64-A1CA-6FB1B079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1C003-0988-46D8-89A2-FBB89690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94C56-6FBE-49CA-9A79-0BE79EB8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971C9-4D85-45DD-BAC0-77693F6D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C13976-7B04-4E22-8957-93D714A6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22C00A-5D1F-43CD-814F-A7984F10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668B06-B7AE-447A-B993-417DE4CD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3AA8FF-F366-413F-8C59-DFF44D07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3564BE-6C3A-48B0-8DC2-456293E2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A9606B-51F2-487D-A0CC-0F4090F0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B11688-467B-482D-8334-EF4AC39E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BAA6-9ED5-4773-B91B-FF0FD900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054E47-261B-4161-B398-66888199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D2E43E-AC5B-4875-8CC1-495A5148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31B2D5-8D50-448E-8151-3ED63EC7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B97AB2-A4EA-4A95-A7F1-A6A1BD3F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D192FC-8AF1-4FED-9756-68426A6F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09862-FC24-46ED-9A98-FFA8B4A9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A5A76-FBED-44B8-B945-3EBCC960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A673B-E53B-4BB2-98BB-83524DB7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98D0A-7A33-49E0-9F41-CA9075C4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010A1-C8D1-4341-BFA7-F54EAE21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B1D1-4316-47AB-978C-0A5E6C83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2E9DA-6D17-4E16-8B16-26683F1D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68692-7255-47C6-9F38-A1048A2A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85F75-ED14-41F6-83AF-C617700D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3C6FC-3DEE-428E-91A2-64880687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F22DC-491D-42D7-9612-85EAA7E7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EF350-16F5-4831-867D-183E85BC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F4AB5-85CE-4A7E-8732-3A2B053B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1132-67FA-4240-A9BC-77762FCD22E6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4085-B00E-4F89-92D4-0C3D32E5A6D5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71EF-F947-481E-8B7B-B0732259CD98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405F-A7AB-43E9-8762-568F94E5E7CA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B2DB-411C-40BE-B8CB-75FAD2B62FA5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33BE-F7A9-4C3D-85E1-37FC03ABC9A4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9EA1-EC7A-44DD-88C6-8D57799BBE8F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6D38-03A5-47CB-A426-0356D2C5429C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1</a:t>
            </a:r>
            <a:br>
              <a:rPr sz="4000"/>
            </a:b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HUMAN INQUIRY AND SCIENCE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.4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3962520" y="220680"/>
            <a:ext cx="5181480" cy="610380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5"/>
          <p:cNvSpPr/>
          <p:nvPr/>
        </p:nvSpPr>
        <p:spPr>
          <a:xfrm>
            <a:off x="533520" y="17524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cience = Theory + Data Collection + 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y, Not Philosophy or Bel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cial theory  has to do with what is, not with what should b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ory – A systematic explanation for the observations that relate to a particular aspect of lif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cial science can help us know what is and wh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Regular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ception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n’t rule out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majority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f cas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: cousin’s brother’s sister’s aunt’s uncle’s nephew’s third cousin twice removed best frie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cial regularities represent probabilistic patter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ggregates, Not Individu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ollective actions and situations of many individual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cus of social science is to explain why aggregated patterns of behavior are regular even when individuals change over ti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s and Variab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bles – Logical groupings of attributes. (ex: sex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ttributes – Characteristics or qualities that describe an object (ex: male or fema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.5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3848040" y="307800"/>
            <a:ext cx="514368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a6378"/>
                </a:solidFill>
                <a:latin typeface="Verdana"/>
              </a:rPr>
              <a:t>Figure 1.6 – Two possible relationships between variables</a:t>
            </a:r>
            <a:endParaRPr b="0" lang="en-US" sz="3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930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ependent Variable – A variable with values that are not problematical in an analysis but are taken as simply giv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endent Variable – A variable assumed to depend on or be caused by anoth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Purposes of Soci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pping out a topic that may warrant further study later (explorato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cribing the state of social affairs (descriptiv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viding reasons for phenomena, in terms of causal relationships (explanato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Ethics of Human Inqui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oking for Re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oundation of Social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 Dialectics of Soci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ome Dialectics of Social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iographic and Nomothetic Explan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iographi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An approach to explanation in which we seek to exhaust the idiosyncratic causes of a particular condition of ev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io” means unique, separate, peculiar or distin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mited to the case at ha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omotheti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An approach to explanation in which we seek to identify a few causal factors that generally impact a class of conditions of ev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neral rather than idiosyncrat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conomical” uses fewest explanatory facto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uctive and Deductive Theo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uction – The logical model in which general principles are developed from specific observa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duction – The logical model in which specific expectations of hypotheses are developed on the basis of general princip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Wallace Wheel of Scienc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8" name="Picture 4" descr="wheelofscience"/>
          <p:cNvPicPr/>
          <p:nvPr/>
        </p:nvPicPr>
        <p:blipFill>
          <a:blip r:embed="rId1"/>
          <a:stretch/>
        </p:blipFill>
        <p:spPr>
          <a:xfrm>
            <a:off x="1143000" y="14479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litative and Quantitative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ative Data – non-numerical 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ntitative Data – numerical 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ure and Applied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re Research – Gaining “knowledge for knowledge’s sake.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ed Research – Putting research into practi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 Research Proposa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roduction (Chapter 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ew of the Literature (Chapters 2, 15, Appendix 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y the Problem/Question/Topic (Chapters 5, 6, 1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arch Design (Chapter 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ata Collection (Chapters 4, 8, 9, 10, 11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lection of Subjects (Chapter 7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thical Issues (Chapter 3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Analysis (Chapters 1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bliography (Chapter 17, Appendix 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The two foundations of science ar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adition and observ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bservation and logi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gic and theo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y and observ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gic and generaliz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two foundations of science are observation and logi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Science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what should be and </a:t>
            </a:r>
            <a:r>
              <a:rPr b="1" i="1" lang="en-US" sz="29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with what 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n settle debates on valu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s exclusively descriptiv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s to do with disproving philosophical belief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s to do with how things are and wh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Looking for Reality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Knowledge from Agreement Re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sertions must be both logical and empir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greement realit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ose things we “know” as part and parcel of the culture we share with those around u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pistemology – The science of know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ethodology – A subfield of epistemology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ience has to do with how things are and wh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When social scientists study variables, they focus 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ttribut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op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haracteristic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ationshi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social scientists study variables, they focus on relationshi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_____ is the science of know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llig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 tak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pistem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thod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ationshi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pistemology is the science of know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Which of the following are true of tradition and authority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y both assist human inqui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y both hinder human inqui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of the above are tru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ither of the above are tru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adition and authority both assist and hinder human inqui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_____ explanations seek to exhaust the idiosyncratic causes of a particular condition of even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iograph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t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nife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mothet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iographic explanations seek to exhaust the idiosyncratic causes of a particular condition or even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dinary Human Inqui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umans want to predict the future. Wh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e recognize that the future is caused in part by the present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ause and effect patterns  are probabilistic in natur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diction versus Understand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di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hor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rrors in Inquiry and Some Solu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accurate Observ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easurement devices offer accuracy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generaliz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e tend to assume that a few similar events are evidence of a larger patter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arge and representative samples are a safeguard against overgeneralizatio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275480" indent="-212400">
              <a:lnSpc>
                <a:spcPct val="90000"/>
              </a:lnSpc>
              <a:spcBef>
                <a:spcPts val="4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plication – Repeating a research study to test and either confirm or question the findings of an earlier study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ive Observ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void looking for “deviant” case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oes “the exception prove the rule”?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r does this make no sense…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llogical Reason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Gambler’s fallacy”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veryone “knows” that a consistent streak of either good or bad luck foreshadows its opposite!  Duh…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’s Really Real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remodern View – Things are as they se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Modern View – Acknowledgement of human subjectivit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ostmodern View – There is no objective realit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Verdana"/>
              </a:rPr>
              <a:t>Figure 1.1 – All of these are the same book, different “points of view”</a:t>
            </a:r>
            <a:endParaRPr b="0" lang="en-US" sz="36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624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he Foundations of Social Science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foundations of (or pillars of) social science are logic and observ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ientific understanding mus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) make sense 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) correspond with what we obse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2:44Z</dcterms:modified>
  <cp:revision>31</cp:revision>
  <dc:subject/>
  <dc:title>Slide 1</dc:title>
</cp:coreProperties>
</file>